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9144000" cy="29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01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6440" indent="-18504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6440" indent="-185040">
              <a:spcBef>
                <a:spcPts val="2001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6440" indent="-185040">
              <a:spcBef>
                <a:spcPts val="2001"/>
              </a:spcBef>
              <a:buClr>
                <a:srgbClr val="000000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irculatory Syste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LOO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lood vessel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ear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ymph vessel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 rapid transport of nutrients, waste products, respiratory gases and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wered by the pumping action of the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rythrocytes – Red Blood Cells (RBC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ygen-transporting cel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7.5 µm in diameter (diameter of capillary 8 – 10µ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numerous of the formed 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emales: 4.3 – 5.2 million cells/cubic millimet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les: 5.2 – 5.8 million cells/cubic millimet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in the red bone marrow in long bones, cranial bones, ribs, sternum, and verteb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erage lifespan 100 – 120 d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BC Structure And Functio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no organelles or nuclei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moglobin – oxygen carrying prote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62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ach RBC has about 280 million hemoglobin molecu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oncave shape – 30% more surface are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1798" t="1215" r="1798" b="4764"/>
          <a:stretch/>
        </p:blipFill>
        <p:spPr>
          <a:xfrm>
            <a:off x="6024600" y="1828800"/>
            <a:ext cx="2741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eukocytes – White Blood Cells (WBCs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 the body from infectious micro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,800 – 11,000/cubic millime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ction outside the bloodstream in loose connective tissu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pedesis – circulating leukocytes leave the capill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BCs have a nucleus and are larger than RB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produced in bone marro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fespan of 12 hours to several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ukocytes – White Blood Cells (WBCs)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 of leukocy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Granulocyt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granulocyt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l WBC 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Nev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Le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onkey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a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anana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5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rcRect l="1601" t="2407" r="1581" b="5951"/>
          <a:stretch/>
        </p:blipFill>
        <p:spPr>
          <a:xfrm>
            <a:off x="4648320" y="3095640"/>
            <a:ext cx="4495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nulocy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trophils – most numerous W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hagocytize and destroy bacter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cleus – has two to six lob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anules pick up acidic and basic stai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4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1805" t="2429" r="66061" b="59968"/>
          <a:stretch/>
        </p:blipFill>
        <p:spPr>
          <a:xfrm>
            <a:off x="5219640" y="4038480"/>
            <a:ext cx="3924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osinophils – compose 1 – 4% of all WB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y roles in ending allergic reactions, parasitic infec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4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33944" t="2429" r="33927" b="59468"/>
          <a:stretch/>
        </p:blipFill>
        <p:spPr>
          <a:xfrm>
            <a:off x="4419720" y="3657600"/>
            <a:ext cx="441936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52280" y="380880"/>
            <a:ext cx="8763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nulocy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ranulocy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ophils – about 0.5% of all leukocy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cleus – usually two lob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ranules secrete histamin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unction in inflammation mediation, similar in function to mast cel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0" b="11381"/>
          <a:stretch/>
        </p:blipFill>
        <p:spPr>
          <a:xfrm>
            <a:off x="5486400" y="4267080"/>
            <a:ext cx="34066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granulocy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ymphocytes – compose 20 – 45% of WB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he most important cells of the immune system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Nucleus – stains dark purpl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Effective in fighting infectious organism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Act against a specific foreign molecule (antigen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main classes of lymphocy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T cells – attack foreign cells directl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</a:rPr>
              <a:t>B cells – multiply to become plasma cells that secrete antibodi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4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0" t="0" r="0" b="12846"/>
          <a:stretch/>
        </p:blipFill>
        <p:spPr>
          <a:xfrm>
            <a:off x="5715000" y="4584600"/>
            <a:ext cx="34290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granulocyt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cytes – compose 4–8% of WB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largest leukocyt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ucleus – kidney shap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nsform into macrophag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gocytic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4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0" t="0" r="0" b="8557"/>
          <a:stretch/>
        </p:blipFill>
        <p:spPr>
          <a:xfrm>
            <a:off x="5486400" y="4414680"/>
            <a:ext cx="365760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 Blood Cells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480" y="1143000"/>
          <a:ext cx="8229600" cy="5303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 Of White Blood Ce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 By Volume Of WB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utroph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0 – 7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cleus has many interconnected lobes; blue granu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hagocytize and destory bacteria; most numerous W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osinoph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– 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ucleus has bilobed nuclei; red or yellow granules containing digestive enzy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lay a role in ending allergic re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asoph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&lt; 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ilobed nuclei hidden by large purple granules full of chemical mediators of inflam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unction in inflammation medication; similar in function to mast cel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ymphocytes (B Cells and T Cell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 – 25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nse, purple staining, round nucleus; little cytopla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he most important cells of the immune system; effective in fighting infectious organisms; act against a specific foreign molecule (antig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noc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 – 8 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rgest leukocyte; kidney shaped nucle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form into macrophages; phagocytic cell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unctions Of Blo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portation - the blood transports dissolved gases, nutrients, hormones and metabolic wa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on - the blood restricts fluid losses through damaged vessels. Platelets in the blood and clotting proteins minimize blood loss when a blood vessel is damag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162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lood regulates the pH and electrolyte composition of the interstitial fluid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162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lood regulates body temperatur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ion Of Blo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cellular and liquid 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ecialized connectiv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Blood cells – formed elemen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lasma – fluid portion and fibrinogen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ales: 5 – 6 lit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562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emales: 4 – 5 liter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H of blood is about 7.35-7.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med Elemen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rythrocytes, leukocytes, and platele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ining of blood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cidic dye – eosin – stains pin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asic dye – methylene blue – stains blue and purp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lood Plasma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aw-colored, sticky fluid portion of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500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ximately 90%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1500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375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ons – Na+ and Cl-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375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trients – sugars, amino acids, lipids, cholesterol, vitamins and trace ele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375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ree main proteins - Albumin (60%),   globulin (35%), fibrinogen (4%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375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issolved Gasses – including O2 and CO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1375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aste Products – other protein wastes such as urea and bilirubi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ion of Blo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atocrit – measure of % R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les: 47% ± 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fffff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emales: 42% ± 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0" t="2630" r="0" b="8551"/>
          <a:stretch/>
        </p:blipFill>
        <p:spPr>
          <a:xfrm>
            <a:off x="457200" y="3048120"/>
            <a:ext cx="85359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ion of Whole Blo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0" r="0" b="5576"/>
          <a:stretch/>
        </p:blipFill>
        <p:spPr>
          <a:xfrm>
            <a:off x="609480" y="838080"/>
            <a:ext cx="800100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.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position of Whole Blo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rcRect l="0" t="0" r="0" b="3125"/>
          <a:stretch/>
        </p:blipFill>
        <p:spPr>
          <a:xfrm>
            <a:off x="457200" y="838080"/>
            <a:ext cx="8077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right’s Stain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7.2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1403" t="1215" r="1378" b="4764"/>
          <a:stretch/>
        </p:blipFill>
        <p:spPr>
          <a:xfrm>
            <a:off x="1447920" y="1414440"/>
            <a:ext cx="64767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9T19:45:27Z</dcterms:created>
  <dc:creator>karlm</dc:creator>
  <dc:description/>
  <dc:language>en-US</dc:language>
  <cp:lastModifiedBy>habdrabou</cp:lastModifiedBy>
  <cp:lastPrinted>2007-02-10T00:12:16Z</cp:lastPrinted>
  <dcterms:modified xsi:type="dcterms:W3CDTF">2016-12-05T07:00:53Z</dcterms:modified>
  <cp:revision>179</cp:revision>
  <dc:subject/>
  <dc:title>PowerPoint Presentation</dc:title>
</cp:coreProperties>
</file>