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43A9-E33F-4E1A-92F3-7BFA7A591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8785-ADA3-4B76-B02B-D44EB9A07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0AF3-59B6-43FC-BC24-6CA039F01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F734-A19F-4E20-97A5-8B61DF651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708D3-6F2A-4070-BF5C-1512B182C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B6DB6-1B87-4FAC-84D1-DD2EB5C19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A92F3-2E86-4BC8-9096-90A27D489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6D18E-638A-4AFB-9F76-A7C1BB8BC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CB6C6-3E61-494D-87A2-BF38C3D37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9EC2C-50D6-4642-AAA7-FCB7343E0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1816C-2639-47B2-829E-DEFEEC40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F948-51E1-4E27-ABC6-517D63E13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6586E-DB58-4D1C-AFE3-58E571DA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BBB89-5808-4CFC-848E-0372F5C2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195FB-6986-4DF3-AE77-785779B2C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D80AD-B837-4035-AD24-7B6337B78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BB049-E82B-4959-A52F-4ECB86D46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5617D-583E-42FB-851E-B80BFAC00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1649D-BA36-4EB5-AB69-5A406E373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DC928-80D0-43BF-959A-4623F4659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8FECD-D2B2-4971-A95F-356C24FBA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5B915-94F4-465A-AD49-10F2667D7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BBE9-B9B2-4066-864D-D98B2DBBC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D070A-839F-4B1C-B612-22287A3E4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E84B1-5BBF-4ED5-A5BE-1835C38E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F6AF2-2F3B-4F32-AACD-E77DB255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22449-80DE-4CFC-885E-CC0824AA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EEFC8-33B9-4665-B706-70EA1BC6B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91FDC-8EA9-49AA-8FDA-A7140C358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03804-30CC-4DB9-BC47-9F8B432DF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863D8-5140-4749-AE07-92AAA1148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27799-96D3-4289-9862-33AC26BCB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A5534-7558-4BDE-A9DB-4E2B7F224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1EC3-58BF-47E7-ACE5-88491F594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E1E5C-42A8-4523-B3DA-575D63906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0A510-9A48-4888-AF3F-FFE4DC5B3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A1564-51C7-42D4-A9E4-F6088209D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3AE3C-5510-4D6B-B69E-F44788826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DDE1F-9B97-4FFE-810D-C0883B92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61D0E-B860-401B-962D-8A7ABAA0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2E2FA-DE46-43E5-A45E-FB98BD3A3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98256-848E-4130-AAE6-3BEA12E28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0A3FD-5BDE-4338-92C5-D022784C2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333C-3ACA-486F-B848-EE498CB57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DCD2-9D7D-44DE-A439-B65020694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B21E-1E32-420F-9BCC-F4F34C6E8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10F4-79B4-49EF-8323-C814DC8B8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3016-3755-4B5D-9E44-3A294188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B7F86-6F29-40DF-BCFA-1B2F401CFB58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1F22E-2EFF-40F1-8269-6D28CD1D4D28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11DDF-B405-45FF-A1DD-4116AF4ACE41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0676C-6B70-475B-92C2-3FC23E4BC4B0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82240" y="366480"/>
            <a:ext cx="6675480" cy="5619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Lecture 13: Animal Classification</a:t>
            </a: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800" spc="-1" strike="noStrike">
                <a:solidFill>
                  <a:srgbClr val="ff0000"/>
                </a:solidFill>
                <a:latin typeface="Calibri"/>
                <a:cs typeface="Traditional Arabic"/>
              </a:rPr>
              <a:t>تصنيف الحيوان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79280" y="1889280"/>
            <a:ext cx="87854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onstantia"/>
              </a:rPr>
              <a:t>Systematic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includes taxonomy, which is the naming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سمية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and classification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صنيف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of species and groups of speci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0000"/>
                </a:solidFill>
                <a:uFillTx/>
                <a:latin typeface="Constantia"/>
              </a:rPr>
              <a:t>Taxonomy: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is that branch of biology dealing with the identification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تعريف</a:t>
            </a:r>
            <a:r>
              <a:rPr b="1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and naming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تسمية</a:t>
            </a:r>
            <a:r>
              <a:rPr b="1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of organism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cc"/>
                </a:solidFill>
                <a:uFillTx/>
                <a:latin typeface="Constantia"/>
              </a:rPr>
              <a:t>Aristotle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أرسطو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ncient Greek philosopher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) began the science of taxonomy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cc"/>
                </a:solidFill>
                <a:uFillTx/>
                <a:latin typeface="Constantia"/>
              </a:rPr>
              <a:t>Carolus Linneus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كارلوس لينياس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1700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s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wedish botanist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) classified all then-known organisms into two large kingdoms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a) Kingdom Plantae </a:t>
            </a:r>
            <a:r>
              <a:rPr b="1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ملكة النباتية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          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b) Kingdom Animalia</a:t>
            </a:r>
            <a:r>
              <a:rPr b="1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ملكة الحيوانية</a:t>
            </a:r>
            <a:r>
              <a:rPr b="1" lang="ar-SA" sz="16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cc"/>
                </a:solidFill>
                <a:uFillTx/>
                <a:latin typeface="Constantia"/>
              </a:rPr>
              <a:t>Robert Whittaker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in 1969 proposed five kingdoms: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Plantae, Animalia, Fungi, Protista, and Monera</a:t>
            </a:r>
            <a:r>
              <a:rPr b="1" lang="en-US" sz="1800" spc="-1" strike="noStrike">
                <a:solidFill>
                  <a:srgbClr val="0000cc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Recent studies suggest that three domains be employed: Archaea, Bacteria, and Eukarya</a:t>
            </a: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1500120" y="1195560"/>
            <a:ext cx="590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Systematic/Taxonomy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علم التصنيف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13880" y="115560"/>
            <a:ext cx="27939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B)- bacteri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358640"/>
            <a:ext cx="8229600" cy="58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acteria is considered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s the most known prokarot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major bacterial taxa (species) are now accorded kingdom status by most prokaryotic systematist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علماء التصنيف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Different types of diseases are caused by bacteria includ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ng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cholera, many sexually transmissible disease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مراض الجنسية المعدية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, and certain types of food poisoning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سمم الغذائي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However, more bacteria are beneficial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مفيدة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acteria in our intestine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أمعائنا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produce important vitamin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acteria recycle 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and other chemical elements between organic matter and the soil and atmospher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acteria often live in close association among themselves and with eukaryotes in symbiotic relationship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علاقة تبادل منفعة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Line 5"/>
          <p:cNvSpPr/>
          <p:nvPr/>
        </p:nvSpPr>
        <p:spPr>
          <a:xfrm>
            <a:off x="534960" y="914400"/>
            <a:ext cx="79246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3" descr=""/>
          <p:cNvPicPr/>
          <p:nvPr/>
        </p:nvPicPr>
        <p:blipFill>
          <a:blip r:embed="rId1"/>
          <a:srcRect l="2812" t="5014" r="68512" b="49184"/>
          <a:stretch/>
        </p:blipFill>
        <p:spPr>
          <a:xfrm>
            <a:off x="179280" y="0"/>
            <a:ext cx="2448000" cy="46702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"/>
          <p:cNvPicPr/>
          <p:nvPr/>
        </p:nvPicPr>
        <p:blipFill>
          <a:blip r:embed="rId2"/>
          <a:srcRect l="54263" t="5014" r="22954" b="51206"/>
          <a:stretch/>
        </p:blipFill>
        <p:spPr>
          <a:xfrm>
            <a:off x="6659640" y="189000"/>
            <a:ext cx="1944720" cy="4464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"/>
          <p:cNvPicPr/>
          <p:nvPr/>
        </p:nvPicPr>
        <p:blipFill>
          <a:blip r:embed="rId3"/>
          <a:srcRect l="0" t="51074" r="0" b="26337"/>
          <a:stretch/>
        </p:blipFill>
        <p:spPr>
          <a:xfrm>
            <a:off x="611280" y="4554360"/>
            <a:ext cx="7315200" cy="23036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6" descr=""/>
          <p:cNvPicPr/>
          <p:nvPr/>
        </p:nvPicPr>
        <p:blipFill>
          <a:blip r:embed="rId4"/>
          <a:srcRect l="0" t="74387" r="68715" b="4435"/>
          <a:stretch/>
        </p:blipFill>
        <p:spPr>
          <a:xfrm>
            <a:off x="2556000" y="476280"/>
            <a:ext cx="3671640" cy="346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01800" y="366840"/>
            <a:ext cx="7415280" cy="490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ff"/>
                </a:solidFill>
                <a:latin typeface="Calibri"/>
              </a:rPr>
              <a:t>Harmful prokaryotes (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athogenes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مُمْرضات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</a:t>
            </a:r>
            <a:r>
              <a:rPr b="1" lang="en-US" sz="2900" spc="-1" strike="noStrike">
                <a:solidFill>
                  <a:srgbClr val="0000ff"/>
                </a:solidFill>
                <a:latin typeface="Calibri"/>
              </a:rPr>
              <a:t>)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6840" y="1196640"/>
            <a:ext cx="84358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Some pathogens produce disease by invading the tissues of the host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More commonly, pathogens cause illness by producing poisons, called exotoxins</a:t>
            </a:r>
            <a:r>
              <a:rPr b="1" lang="en-GB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سموم الخارجية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and endotoxins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سموم الداخلية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Pathogenic prokaryotes cause about half of all human disease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nstantia"/>
              </a:rPr>
              <a:t>The actinomycete that causes tuberculosis is an example of this source of symptom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Line 4"/>
          <p:cNvSpPr/>
          <p:nvPr/>
        </p:nvSpPr>
        <p:spPr>
          <a:xfrm>
            <a:off x="324000" y="9079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48840" y="294840"/>
            <a:ext cx="663588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Beneficial prokaryotes (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نافعة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6836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Humans have learned to exploit the diverse metabolic capabilities of prokaryotes, for scientific research and for practical purpos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rokaryotes are used to solve environmental problem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Humans also use bacteria as metabolic “factories” for commercial products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نتجات التجارية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application of organisms to remove pollutants from air, water, and soil is bioremediation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مُنَقٍّيات أحيائية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Line 4"/>
          <p:cNvSpPr/>
          <p:nvPr/>
        </p:nvSpPr>
        <p:spPr>
          <a:xfrm>
            <a:off x="324000" y="9079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"/>
          <p:cNvPicPr/>
          <p:nvPr/>
        </p:nvPicPr>
        <p:blipFill>
          <a:blip r:embed="rId1"/>
          <a:srcRect l="0" t="0" r="57724" b="6935"/>
          <a:stretch/>
        </p:blipFill>
        <p:spPr>
          <a:xfrm>
            <a:off x="6754680" y="836640"/>
            <a:ext cx="2281320" cy="583236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379240" y="571320"/>
            <a:ext cx="362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Animal Taxonomy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78920" y="1412640"/>
            <a:ext cx="6769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Linneu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classified species 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نوع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s the smallest unit, and that each species nested within 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يندرج تحت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 higher categor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ff"/>
                </a:solidFill>
                <a:latin typeface="Constantia"/>
              </a:rPr>
              <a:t>Specie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is a Latin word meaning “kind” or “appearance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شكل الظاهري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”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Differentiation between species based on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en-GB" sz="1800" spc="-1" strike="noStrike">
                <a:solidFill>
                  <a:srgbClr val="ff0000"/>
                </a:solidFill>
                <a:latin typeface="Constantia"/>
              </a:rPr>
              <a:t>a)- Morphological differences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اختلافات شكلية</a:t>
            </a:r>
            <a:r>
              <a:rPr b="1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nstantia"/>
              </a:rPr>
              <a:t>      </a:t>
            </a:r>
            <a:r>
              <a:rPr b="1" lang="en-GB" sz="1800" spc="-1" strike="noStrike">
                <a:solidFill>
                  <a:srgbClr val="ff0000"/>
                </a:solidFill>
                <a:latin typeface="Constantia"/>
              </a:rPr>
              <a:t>b)- The potential to interbreed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القدرة على التزاوج</a:t>
            </a:r>
            <a:r>
              <a:rPr b="1" lang="ar-SA" sz="18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Constantia"/>
              </a:rPr>
              <a:t>with each</a:t>
            </a:r>
            <a:br>
              <a:rPr sz="1800"/>
            </a:br>
            <a:r>
              <a:rPr b="1" lang="ar-SA" sz="1800" spc="-1" strike="noStrike">
                <a:solidFill>
                  <a:srgbClr val="ff0000"/>
                </a:solidFill>
                <a:latin typeface="Constantia"/>
                <a:ea typeface="Majalla UI"/>
              </a:rPr>
              <a:t>     </a:t>
            </a:r>
            <a:r>
              <a:rPr b="1" lang="en-GB" sz="1800" spc="-1" strike="noStrike">
                <a:solidFill>
                  <a:srgbClr val="ff0000"/>
                </a:solidFill>
                <a:latin typeface="Constantia"/>
              </a:rPr>
              <a:t> other in nature</a:t>
            </a:r>
            <a:r>
              <a:rPr b="1" lang="ar-SA" sz="18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Constantia"/>
              </a:rPr>
              <a:t>to produce fertile offspring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جيل خصيب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57120" y="817200"/>
            <a:ext cx="6880320" cy="754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Traditional Classification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تصنيف التقليدي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74760" y="177300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15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raditional Classification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صنيف التقليدي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: depends on both common ancestry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نًّسب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nd the amount of differences among grou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traditional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dating to Linneaus view, is that </a:t>
            </a:r>
            <a:r>
              <a:rPr b="1" lang="en-US" sz="2400" spc="-1" strike="noStrike">
                <a:solidFill>
                  <a:srgbClr val="0000cc"/>
                </a:solidFill>
                <a:latin typeface="Constantia"/>
              </a:rPr>
              <a:t>birds have feather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ريش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reptiles have scale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حراشيف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and </a:t>
            </a:r>
            <a:r>
              <a:rPr b="1" lang="en-US" sz="2400" spc="-1" strike="noStrike">
                <a:solidFill>
                  <a:srgbClr val="ff3399"/>
                </a:solidFill>
                <a:latin typeface="Constantia"/>
              </a:rPr>
              <a:t>mammals have hair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شعر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Linneus placed each of these groups in a separate class within the Phylum Chordata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شعبة الحبليات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8400" y="658440"/>
            <a:ext cx="653076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alibri"/>
              </a:rPr>
              <a:t>Binomial nomenclature </a:t>
            </a:r>
            <a:r>
              <a:rPr b="1" lang="ar-SA" sz="3200" spc="-1" strike="noStrike">
                <a:solidFill>
                  <a:srgbClr val="04617b"/>
                </a:solidFill>
                <a:latin typeface="Calibri"/>
                <a:cs typeface="Traditional Arabic"/>
              </a:rPr>
              <a:t>التسمية الثنائية</a:t>
            </a:r>
            <a:br>
              <a:rPr sz="3200"/>
            </a:br>
            <a:r>
              <a:rPr b="1" lang="ar-SA" sz="2400" spc="-1" strike="noStrike">
                <a:solidFill>
                  <a:srgbClr val="04617b"/>
                </a:solidFill>
                <a:latin typeface="Calibri"/>
                <a:ea typeface="Traditional Arabic"/>
              </a:rPr>
              <a:t>(</a:t>
            </a:r>
            <a:r>
              <a:rPr b="1" lang="ar-SA" sz="2400" spc="-1" strike="noStrike">
                <a:solidFill>
                  <a:srgbClr val="990099"/>
                </a:solidFill>
                <a:latin typeface="Calibri"/>
                <a:cs typeface="Traditional Arabic"/>
              </a:rPr>
              <a:t>الاسم الثنائي للحيوان</a:t>
            </a:r>
            <a:r>
              <a:rPr b="1" lang="ar-SA" sz="2400" spc="-1" strike="noStrike">
                <a:solidFill>
                  <a:srgbClr val="04617b"/>
                </a:solidFill>
                <a:latin typeface="Calibri"/>
                <a:ea typeface="Traditional Arabic"/>
              </a:rPr>
              <a:t>)</a:t>
            </a:r>
            <a:r>
              <a:rPr b="1" lang="ar-SA" sz="2400" spc="-1" strike="noStrike">
                <a:solidFill>
                  <a:srgbClr val="04617b"/>
                </a:solidFill>
                <a:latin typeface="Calibri"/>
                <a:ea typeface="Traditional Arabic"/>
              </a:rPr>
              <a:t>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50560" y="1793520"/>
            <a:ext cx="8569080" cy="51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Constantia"/>
              </a:rPr>
              <a:t>Linneu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developed the concept of </a:t>
            </a:r>
            <a:r>
              <a:rPr b="1" lang="en-GB" sz="2400" spc="-1" strike="noStrike">
                <a:solidFill>
                  <a:srgbClr val="ff0000"/>
                </a:solidFill>
                <a:latin typeface="Constantia"/>
              </a:rPr>
              <a:t>binomial nomenclature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, whereby scientists could communicate clearl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spcBef>
                <a:spcPts val="1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Under the binomial system, each species is assigned a two-part latinized name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سم لاتيني من قسمين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(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a binomial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spcBef>
                <a:spcPts val="499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The first par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the </a:t>
            </a:r>
            <a:r>
              <a:rPr b="1" lang="en-US" sz="2000" spc="-1" strike="noStrike">
                <a:solidFill>
                  <a:srgbClr val="0000cc"/>
                </a:solidFill>
                <a:latin typeface="Constantia"/>
              </a:rPr>
              <a:t>genu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جنس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is the group to which a species belong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spcBef>
                <a:spcPts val="499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The second par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refers to the </a:t>
            </a:r>
            <a:r>
              <a:rPr b="1" lang="en-US" sz="2000" spc="-1" strike="noStrike">
                <a:solidFill>
                  <a:srgbClr val="990099"/>
                </a:solidFill>
                <a:latin typeface="Constantia"/>
              </a:rPr>
              <a:t>specie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نوع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ithin the genu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spcBef>
                <a:spcPts val="499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first letter of the genus i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capitalized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and both names ar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italicized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latinized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spcBef>
                <a:spcPts val="499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or example, Linnaeus assigned to humans the scientific name </a:t>
            </a:r>
            <a:r>
              <a:rPr b="1" i="1" lang="en-US" sz="2000" spc="-1" strike="noStrike">
                <a:solidFill>
                  <a:srgbClr val="0000cc"/>
                </a:solidFill>
                <a:latin typeface="Constantia"/>
              </a:rPr>
              <a:t>Homo</a:t>
            </a:r>
            <a:r>
              <a:rPr b="0" i="1" lang="en-US" sz="2000" spc="-1" strike="noStrike">
                <a:solidFill>
                  <a:srgbClr val="0000cc"/>
                </a:solidFill>
                <a:latin typeface="Constantia"/>
              </a:rPr>
              <a:t> </a:t>
            </a:r>
            <a:r>
              <a:rPr b="1" i="1" lang="en-US" sz="2000" spc="-1" strike="noStrike">
                <a:solidFill>
                  <a:srgbClr val="990099"/>
                </a:solidFill>
                <a:latin typeface="Constantia"/>
              </a:rPr>
              <a:t>sapien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which means “wise man”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85480" y="857160"/>
            <a:ext cx="652788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Systematic position of human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وضع التقسيمي للإنسان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745920" y="2046240"/>
            <a:ext cx="778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nstantia"/>
              </a:rPr>
              <a:t>Kingdom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:    Animalia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ملكة الحيوانية</a:t>
            </a:r>
            <a:r>
              <a:rPr b="1" lang="ar-SA" sz="2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Phylum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:       Chordata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شعبة الحبليات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Class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:          Mammalia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طائفة الثدييات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Order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:          Primates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رتبة الرئيسيات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Family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:        Hominidae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عائلة البشر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Genus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1" i="1" lang="en-US" sz="28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Homo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جنس البشري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onstantia"/>
              </a:rPr>
              <a:t>Species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:</a:t>
            </a:r>
            <a:r>
              <a:rPr b="1" i="1" lang="en-US" sz="2800" spc="-1" strike="noStrike">
                <a:solidFill>
                  <a:srgbClr val="000000"/>
                </a:solidFill>
                <a:latin typeface="Constantia"/>
              </a:rPr>
              <a:t>      sapiens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إنسان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cientific name: </a:t>
            </a:r>
            <a:r>
              <a:rPr b="1" i="1" lang="en-US" sz="2400" spc="-1" strike="noStrike">
                <a:solidFill>
                  <a:srgbClr val="0000cc"/>
                </a:solidFill>
                <a:latin typeface="Constantia"/>
              </a:rPr>
              <a:t>Homo</a:t>
            </a:r>
            <a:r>
              <a:rPr b="0" i="1" lang="en-US" sz="2400" spc="-1" strike="noStrike">
                <a:solidFill>
                  <a:srgbClr val="0000cc"/>
                </a:solidFill>
                <a:latin typeface="Constantia"/>
              </a:rPr>
              <a:t> </a:t>
            </a:r>
            <a:r>
              <a:rPr b="1" i="1" lang="en-US" sz="2400" spc="-1" strike="noStrike">
                <a:solidFill>
                  <a:srgbClr val="990099"/>
                </a:solidFill>
                <a:latin typeface="Constantia"/>
              </a:rPr>
              <a:t>sapiens</a:t>
            </a:r>
            <a:r>
              <a:rPr b="1" i="1" lang="en-US" sz="2000" spc="-1" strike="noStrike">
                <a:solidFill>
                  <a:srgbClr val="990099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(The Wise Man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إنسان العاقل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17"/>
          <p:cNvGrpSpPr/>
          <p:nvPr/>
        </p:nvGrpSpPr>
        <p:grpSpPr>
          <a:xfrm>
            <a:off x="3932280" y="907920"/>
            <a:ext cx="5176800" cy="4686480"/>
            <a:chOff x="3932280" y="907920"/>
            <a:chExt cx="5176800" cy="4686480"/>
          </a:xfrm>
        </p:grpSpPr>
        <p:pic>
          <p:nvPicPr>
            <p:cNvPr id="208" name="Picture 5" descr="kingdoms"/>
            <p:cNvPicPr/>
            <p:nvPr/>
          </p:nvPicPr>
          <p:blipFill>
            <a:blip r:embed="rId1"/>
            <a:stretch/>
          </p:blipFill>
          <p:spPr>
            <a:xfrm>
              <a:off x="3932280" y="1771560"/>
              <a:ext cx="5176800" cy="382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Text Box 8"/>
            <p:cNvSpPr/>
            <p:nvPr/>
          </p:nvSpPr>
          <p:spPr>
            <a:xfrm>
              <a:off x="7021440" y="90792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Eukaryo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0"/>
            <p:cNvSpPr/>
            <p:nvPr/>
          </p:nvSpPr>
          <p:spPr>
            <a:xfrm flipH="1">
              <a:off x="5149800" y="1339920"/>
              <a:ext cx="2735280" cy="792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11"/>
            <p:cNvSpPr/>
            <p:nvPr/>
          </p:nvSpPr>
          <p:spPr>
            <a:xfrm flipH="1">
              <a:off x="6732360" y="1339920"/>
              <a:ext cx="1152360" cy="647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12"/>
            <p:cNvSpPr/>
            <p:nvPr/>
          </p:nvSpPr>
          <p:spPr>
            <a:xfrm flipH="1">
              <a:off x="6732360" y="1339920"/>
              <a:ext cx="1152360" cy="2160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13"/>
            <p:cNvSpPr/>
            <p:nvPr/>
          </p:nvSpPr>
          <p:spPr>
            <a:xfrm flipH="1">
              <a:off x="7813800" y="1339920"/>
              <a:ext cx="71280" cy="936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14"/>
            <p:cNvSpPr/>
            <p:nvPr/>
          </p:nvSpPr>
          <p:spPr>
            <a:xfrm>
              <a:off x="4213440" y="4795920"/>
              <a:ext cx="574560" cy="36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15"/>
            <p:cNvSpPr/>
            <p:nvPr/>
          </p:nvSpPr>
          <p:spPr>
            <a:xfrm>
              <a:off x="7958160" y="4868640"/>
              <a:ext cx="574560" cy="36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16"/>
            <p:cNvSpPr/>
            <p:nvPr/>
          </p:nvSpPr>
          <p:spPr>
            <a:xfrm>
              <a:off x="6589800" y="979560"/>
              <a:ext cx="574560" cy="36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619280" y="115560"/>
            <a:ext cx="534024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ree Kingdoms of lif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Text Box 6"/>
          <p:cNvSpPr/>
          <p:nvPr/>
        </p:nvSpPr>
        <p:spPr>
          <a:xfrm>
            <a:off x="250920" y="1628640"/>
            <a:ext cx="4321080" cy="43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 are three Kingdoms of life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)-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acter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Eubacteria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)-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rchae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)- Eukaryot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gi, Protesta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Plantae &amp; Animal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ruses are not considered living organism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7"/>
          <p:cNvSpPr/>
          <p:nvPr/>
        </p:nvSpPr>
        <p:spPr>
          <a:xfrm>
            <a:off x="324000" y="836640"/>
            <a:ext cx="845964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35280" y="338040"/>
            <a:ext cx="54007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1- Prokaryotes</a:t>
            </a: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 (</a:t>
            </a:r>
            <a:r>
              <a:rPr b="0" lang="en-US" sz="2000" spc="-1" strike="noStrike">
                <a:solidFill>
                  <a:srgbClr val="04617b"/>
                </a:solidFill>
                <a:latin typeface="Calibri"/>
              </a:rPr>
              <a:t>bacteria &amp; archaea</a:t>
            </a: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79280" y="1196640"/>
            <a:ext cx="4392720" cy="39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Current taxonomy recognizes two prokaryotic domains 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Kingdoms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: domain </a:t>
            </a:r>
            <a:r>
              <a:rPr b="1" lang="en-GB" sz="2000" spc="-1" strike="noStrike">
                <a:solidFill>
                  <a:srgbClr val="ff0000"/>
                </a:solidFill>
                <a:latin typeface="Constantia"/>
              </a:rPr>
              <a:t>Bacteria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and domain </a:t>
            </a:r>
            <a:r>
              <a:rPr b="1" lang="en-GB" sz="2000" spc="-1" strike="noStrike">
                <a:solidFill>
                  <a:srgbClr val="ff0000"/>
                </a:solidFill>
                <a:latin typeface="Constantia"/>
              </a:rPr>
              <a:t>Archaea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Bacteria and archaea exist so early in life and are very  differen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At the same time, they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both are structurally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organized at the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prokaryotic level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Line 5"/>
          <p:cNvSpPr/>
          <p:nvPr/>
        </p:nvSpPr>
        <p:spPr>
          <a:xfrm>
            <a:off x="324000" y="9079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9"/>
          <p:cNvGrpSpPr/>
          <p:nvPr/>
        </p:nvGrpSpPr>
        <p:grpSpPr>
          <a:xfrm>
            <a:off x="4741920" y="1125360"/>
            <a:ext cx="4367160" cy="5516640"/>
            <a:chOff x="4741920" y="1125360"/>
            <a:chExt cx="4367160" cy="5516640"/>
          </a:xfrm>
        </p:grpSpPr>
        <p:pic>
          <p:nvPicPr>
            <p:cNvPr id="224" name="Picture 6" descr=""/>
            <p:cNvPicPr/>
            <p:nvPr/>
          </p:nvPicPr>
          <p:blipFill>
            <a:blip r:embed="rId1"/>
            <a:srcRect l="0" t="0" r="0" b="56485"/>
            <a:stretch/>
          </p:blipFill>
          <p:spPr>
            <a:xfrm>
              <a:off x="4741920" y="3762360"/>
              <a:ext cx="4367160" cy="28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8" descr=""/>
            <p:cNvPicPr/>
            <p:nvPr/>
          </p:nvPicPr>
          <p:blipFill>
            <a:blip r:embed="rId2"/>
            <a:srcRect l="0" t="0" r="0" b="3991"/>
            <a:stretch/>
          </p:blipFill>
          <p:spPr>
            <a:xfrm>
              <a:off x="4813200" y="1125360"/>
              <a:ext cx="4249800" cy="26593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47640" y="115560"/>
            <a:ext cx="662472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1- Prokaryotes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cteria &amp; archaea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79280" y="980640"/>
            <a:ext cx="4680000" cy="131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Prokarytes exist in habitat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بيئات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at ar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oo cold, too hot, too salty, too acidic, or too alkaline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for any eukaryot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Line 5"/>
          <p:cNvSpPr/>
          <p:nvPr/>
        </p:nvSpPr>
        <p:spPr>
          <a:xfrm>
            <a:off x="433440" y="907920"/>
            <a:ext cx="845964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6" descr=""/>
          <p:cNvPicPr/>
          <p:nvPr/>
        </p:nvPicPr>
        <p:blipFill>
          <a:blip r:embed="rId1"/>
          <a:stretch/>
        </p:blipFill>
        <p:spPr>
          <a:xfrm>
            <a:off x="4788000" y="981000"/>
            <a:ext cx="4182840" cy="285444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7"/>
          <p:cNvSpPr/>
          <p:nvPr/>
        </p:nvSpPr>
        <p:spPr>
          <a:xfrm>
            <a:off x="133200" y="2565360"/>
            <a:ext cx="8893440" cy="39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karyotes often interact with                                                         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ther species of prokaryotes or                                                          eukaryotes with complementary                                               metabolisms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للتكامل الأيضي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se relationships called (symbiosis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تبادل المنفعة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in three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ff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Commensalism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معايشة</a:t>
            </a:r>
            <a:r>
              <a:rPr b="0" lang="ar-SA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: one partner receives benefits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المنفعة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hile the other is not harmed or helped by the relationshi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ff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Parasitism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تطفل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: one partner, the parasite, benefits at the expense of the h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ff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Mutualism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تبادل المنفعة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both partners benefit from each 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Calibri"/>
              </a:rPr>
              <a:t>A)- Archae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250560" y="1268280"/>
            <a:ext cx="4824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rchaea ar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extremophile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حب للظروف القاسي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”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of extreme environments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can be classified into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a)-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Constantia"/>
              </a:rPr>
              <a:t>Extreme halophile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حب للملوحة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live in such saline places as the Great Salt Lake and the Dead Se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Some species require an extremely salty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شديدة الملوحة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environment to grow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b)-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Constantia"/>
              </a:rPr>
              <a:t>Extreme thermophile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حب للحرارة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live in hot environment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The optimum temperatures for most thermophiles are 60 - 80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°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C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3" name="Picture 4" descr=""/>
          <p:cNvPicPr/>
          <p:nvPr/>
        </p:nvPicPr>
        <p:blipFill>
          <a:blip r:embed="rId1"/>
          <a:stretch/>
        </p:blipFill>
        <p:spPr>
          <a:xfrm>
            <a:off x="5243400" y="1341360"/>
            <a:ext cx="3900600" cy="4680000"/>
          </a:xfrm>
          <a:prstGeom prst="rect">
            <a:avLst/>
          </a:prstGeom>
          <a:ln w="0">
            <a:noFill/>
          </a:ln>
        </p:spPr>
      </p:pic>
      <p:sp>
        <p:nvSpPr>
          <p:cNvPr id="234" name="Line 6"/>
          <p:cNvSpPr/>
          <p:nvPr/>
        </p:nvSpPr>
        <p:spPr>
          <a:xfrm>
            <a:off x="324000" y="98100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2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16:48:27Z</dcterms:created>
  <dc:creator>Dr. A A</dc:creator>
  <dc:description/>
  <dc:language>en-US</dc:language>
  <cp:lastModifiedBy>د أشرف مشالي</cp:lastModifiedBy>
  <dcterms:modified xsi:type="dcterms:W3CDTF">2013-09-01T08:40:35Z</dcterms:modified>
  <cp:revision>37</cp:revision>
  <dc:subject/>
  <dc:title>Principals of General Zoology (Zoo-103)</dc:title>
</cp:coreProperties>
</file>