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F4A-694B-4587-9D03-8092D351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DED-EAED-424C-B908-72508FE5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560-EEC2-45BE-ABDD-A57FDBE8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DDA-1449-41F6-876D-1944C32D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18F6-92D0-4587-8CD4-EFE3348A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7CE5-DD46-4D15-9EB3-DD1C5462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2E1A-C3C4-49A3-8FF0-626C73C1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0EDE-D47D-4BDF-AF1D-6E81C54B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5DAA-9E9D-4A42-9EFE-1CD8C7F8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D7AD-E884-4655-8B80-8EEAB512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CC00-7CCC-4794-9F3D-6B92AB42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038-9AE5-4904-880F-7069926D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3FED-1FDA-4236-A939-563DAFC5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93F7-F3D7-4F83-9DC6-95F30F09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EC83-269E-4486-ACD4-A2A239E8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2F78-BFD5-4511-BE16-41953AAC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73A4-93A1-4DDB-A0DB-76CFA80A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A6DF7-EA52-413C-93FC-3EBDFA6E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9C971-025A-4FC6-8E4A-F47C19E4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9CA9B-3D5A-447A-A4C1-9A930672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7A540-037E-4670-87DD-FC31FF13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1F138-F06D-4CE6-B35B-9F102609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83C-06E6-41C4-81DE-C755AADC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2F720-B266-46CC-87EC-56FCDC4D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642AD-E625-4775-AEC5-63348D2F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68FD4-C137-4666-A4A2-446CD3EF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B95BE-8231-4B7C-9272-A6EC4E7B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0616-4EC2-4C40-B68E-A47C9BA2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FDA0-6923-49E0-AD4A-9A56EF99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E7B7-2DB1-4BD2-8BFC-F547BBC7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80C44-3AC8-43E4-A098-579A8252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9531B-7EA9-4262-AF1E-84029913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C3528-2E64-4239-91FC-F73CC481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CFB-4425-4ECB-B5A5-4890C62A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4AA1D-B39E-4560-B368-9E765DD8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82951-9232-44B3-8D54-BCC7C1EB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26D59-7FD3-4549-92D9-538216D1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D05D3-4FAF-4004-BFF3-5D138F25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3A8AF-3339-45ED-BA52-273D58FD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62D43-5AE6-415A-A4FA-DF77D88A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4FF4D-FB03-4D33-B411-2BCF816C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66369-6479-490C-9E13-F96D55A8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5978E-B4AB-4012-B423-F048BFCD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217-B0E7-4BFB-8E28-63312F29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924-D26E-47FF-B64E-0C26C281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963-2D6C-4685-A537-0E7CC7CD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29B-E2E8-4795-AC54-09201133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45C-29B5-41DB-B694-97546D73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5CEA-0A1D-46AD-A9FC-550DC515F44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1635-4E20-4734-8DED-53F3B7228FE7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B869-6784-44B0-8937-507CF826B5A8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524B-5FA0-4A09-82A8-F67238ADB78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2240" y="366480"/>
            <a:ext cx="6675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3: Animal Classification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صنيف الحيوان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9280" y="1889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Systematic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ncludes taxonomy, which is the naming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nd classification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ف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f species and groups of spec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Taxonomy: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is that branch of biology dealing with the identification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عريف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and nam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تسم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of organism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cc"/>
                </a:solidFill>
                <a:uFillTx/>
                <a:latin typeface="Constantia"/>
              </a:rPr>
              <a:t>Aristotle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رسطو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cient Greek philosopher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began the science of taxonom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Carolus Linneu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رلوس لينياس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700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wedish botanist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classified all then-known organisms into two large kingdom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a) Kingdom Plantae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نباتي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b) Kingdom Animalia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Constantia"/>
              </a:rPr>
              <a:t>Robert Whittak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in 1969 proposed five kingdoms: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lantae, Animalia, Fungi, Protista, and Monera</a:t>
            </a:r>
            <a:r>
              <a:rPr b="1" lang="en-US" sz="1800" spc="-1" strike="noStrike">
                <a:solidFill>
                  <a:srgbClr val="0000cc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ecent studies suggest that three domains be employed: Archaea, Bacteria, and Eukarya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00120" y="119556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ystematic/Taxonomy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م التصني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3880" y="115560"/>
            <a:ext cx="27939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)- bacter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8640"/>
            <a:ext cx="8229600" cy="58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s consider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s the most known prokar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major bacterial taxa (species) are now accorded kingdom status by most prokaryotic systemati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ماء التصن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ifferent types of diseases are caused by bacteria inclu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g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cholera, many sexually transmissible diseas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جنسية المعد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, and certain types of food poison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سمم الغذائي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owever, more bacteria are beneficial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فيد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in our intestin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عائن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duce important vitami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recycle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other chemical elements between organic matter and the soil and atmosphe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acteria often live in close association among themselves and with eukaryotes in symbiotic relationship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لاقة تبادل منفع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53496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"/>
          <p:cNvPicPr/>
          <p:nvPr/>
        </p:nvPicPr>
        <p:blipFill>
          <a:blip r:embed="rId1"/>
          <a:srcRect l="2812" t="5014" r="68512" b="49184"/>
          <a:stretch/>
        </p:blipFill>
        <p:spPr>
          <a:xfrm>
            <a:off x="179280" y="0"/>
            <a:ext cx="2448000" cy="467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rcRect l="54263" t="5014" r="22954" b="51206"/>
          <a:stretch/>
        </p:blipFill>
        <p:spPr>
          <a:xfrm>
            <a:off x="665964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rcRect l="0" t="51074" r="0" b="26337"/>
          <a:stretch/>
        </p:blipFill>
        <p:spPr>
          <a:xfrm>
            <a:off x="611280" y="4554360"/>
            <a:ext cx="7315200" cy="2303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4"/>
          <a:srcRect l="0" t="74387" r="68715" b="4435"/>
          <a:stretch/>
        </p:blipFill>
        <p:spPr>
          <a:xfrm>
            <a:off x="2556000" y="476280"/>
            <a:ext cx="36716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1800" y="366840"/>
            <a:ext cx="741528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Harmful prokaryotes 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hogenes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ُمْرضات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9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9664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thogens produce disease by invading the tissues of the ho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re commonly, pathogens cause illness by producing poisons, called exotoxins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خارج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d endotoxin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 الداخلي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thogenic prokaryotes cause about half of all human diseas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The actinomycete that causes tuberculosis is an example of this source of symp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48840" y="294840"/>
            <a:ext cx="66358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eneficial prokaryotes (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افعة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have learned to exploit the diverse metabolic capabilities of prokaryotes, for scientific research and for practical purpo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okaryotes are used to solve environmental proble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umans also use bacteria as metabolic “factories” for commercial produc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تجات التجار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application of organisms to remove pollutants from air, water, and soil is bioremediation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ُنَقٍّيات أحيائي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rcRect l="0" t="0" r="57724" b="6935"/>
          <a:stretch/>
        </p:blipFill>
        <p:spPr>
          <a:xfrm>
            <a:off x="6754680" y="836640"/>
            <a:ext cx="2281320" cy="5832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79240" y="571320"/>
            <a:ext cx="362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imal Taxonom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8920" y="141264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classified spec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 the smallest unit, and that each species nested within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ندرج تح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 higher categ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onstantia"/>
              </a:rPr>
              <a:t>Specie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is a Latin word meaning “kind” or “appearanc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كل الظاهري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fferentiation between species based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a)- Morphological differences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ختلافات شكلي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b)- The potential to interbreed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درة على التزاوج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with each</a:t>
            </a:r>
            <a:br>
              <a:rPr sz="1800"/>
            </a:b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 other in nature</a:t>
            </a:r>
            <a:r>
              <a:rPr b="1" lang="ar-SA" sz="1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to produce fertile offspring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جيل خصيب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7120" y="817200"/>
            <a:ext cx="68803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raditional Classification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صنيف التقليدي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4760" y="1773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aditional Classifica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صنيف التقليد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: depends on both common ancestry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ًّسب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the amount of differences among grou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traditional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dating to Linneaus view, is that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birds have feath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ريش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reptiles have sca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حراشيف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400" spc="-1" strike="noStrike">
                <a:solidFill>
                  <a:srgbClr val="ff3399"/>
                </a:solidFill>
                <a:latin typeface="Constantia"/>
              </a:rPr>
              <a:t>mammals have hair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عر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inneus placed each of these groups in a separate class within the Phylum Chordat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658440"/>
            <a:ext cx="653076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alibri"/>
              </a:rPr>
              <a:t>Binomial nomenclature </a:t>
            </a:r>
            <a:r>
              <a:rPr b="1" lang="ar-SA" sz="3200" spc="-1" strike="noStrike">
                <a:solidFill>
                  <a:srgbClr val="04617b"/>
                </a:solidFill>
                <a:latin typeface="Calibri"/>
                <a:cs typeface="Traditional Arabic"/>
              </a:rPr>
              <a:t>التسمية الثنائية</a:t>
            </a:r>
            <a:br>
              <a:rPr sz="3200"/>
            </a:b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(</a:t>
            </a:r>
            <a:r>
              <a:rPr b="1" lang="ar-SA" sz="2400" spc="-1" strike="noStrike">
                <a:solidFill>
                  <a:srgbClr val="990099"/>
                </a:solidFill>
                <a:latin typeface="Calibri"/>
                <a:cs typeface="Traditional Arabic"/>
              </a:rPr>
              <a:t>الاسم الثنائي للحيوان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)</a:t>
            </a:r>
            <a:r>
              <a:rPr b="1" lang="ar-SA" sz="24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793520"/>
            <a:ext cx="8569080" cy="51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nstantia"/>
              </a:rPr>
              <a:t>Linneus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developed the concept of </a:t>
            </a:r>
            <a:r>
              <a:rPr b="1" lang="en-GB" sz="2400" spc="-1" strike="noStrike">
                <a:solidFill>
                  <a:srgbClr val="ff0000"/>
                </a:solidFill>
                <a:latin typeface="Constantia"/>
              </a:rPr>
              <a:t>binomial nomenclature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, whereby scientists could communicate clear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Under the binomial system, each species is assigned a two-part latinized nam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سم لاتيني من قسمي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 binomia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first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the </a:t>
            </a:r>
            <a:r>
              <a:rPr b="1" lang="en-US" sz="2000" spc="-1" strike="noStrike">
                <a:solidFill>
                  <a:srgbClr val="0000cc"/>
                </a:solidFill>
                <a:latin typeface="Constantia"/>
              </a:rPr>
              <a:t>genu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is the group to which a species belon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second par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refers to the </a:t>
            </a:r>
            <a:r>
              <a:rPr b="1" lang="en-US" sz="2000" spc="-1" strike="noStrike">
                <a:solidFill>
                  <a:srgbClr val="990099"/>
                </a:solidFill>
                <a:latin typeface="Constantia"/>
              </a:rPr>
              <a:t>speci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وع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thin the genu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irst letter of the genu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capital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both names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italiciz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tiniz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example, Linnaeus assigned to humans the scientific name </a:t>
            </a:r>
            <a:r>
              <a:rPr b="1" i="1" lang="en-US" sz="20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0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means “wise man”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65278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ystematic position of human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وضع التقسيمي للإنسان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5920" y="204624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Kingdo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Ani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ملكة الحيوانية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hylum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Chordat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حبل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as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Mammalia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طائفة الثدي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Ord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  Primate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رتبة الرئيسيات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       Hominidae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عائلة البشر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Genu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Homo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نس البشري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nstantia"/>
              </a:rPr>
              <a:t>Speci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     sapiens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cientific name: </a:t>
            </a:r>
            <a:r>
              <a:rPr b="1" i="1" lang="en-US" sz="2400" spc="-1" strike="noStrike">
                <a:solidFill>
                  <a:srgbClr val="0000cc"/>
                </a:solidFill>
                <a:latin typeface="Constantia"/>
              </a:rPr>
              <a:t>Homo</a:t>
            </a:r>
            <a:r>
              <a:rPr b="0" i="1" lang="en-US" sz="24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1" i="1" lang="en-US" sz="2400" spc="-1" strike="noStrike">
                <a:solidFill>
                  <a:srgbClr val="990099"/>
                </a:solidFill>
                <a:latin typeface="Constantia"/>
              </a:rPr>
              <a:t>sapiens</a:t>
            </a:r>
            <a:r>
              <a:rPr b="1" i="1" lang="en-US" sz="2000" spc="-1" strike="noStrike">
                <a:solidFill>
                  <a:srgbClr val="99009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(The Wise Ma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نسان العاقل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7"/>
          <p:cNvGrpSpPr/>
          <p:nvPr/>
        </p:nvGrpSpPr>
        <p:grpSpPr>
          <a:xfrm>
            <a:off x="3932280" y="907920"/>
            <a:ext cx="5176800" cy="4686480"/>
            <a:chOff x="3932280" y="907920"/>
            <a:chExt cx="5176800" cy="4686480"/>
          </a:xfrm>
        </p:grpSpPr>
        <p:pic>
          <p:nvPicPr>
            <p:cNvPr id="208" name="Picture 5" descr="kingdoms"/>
            <p:cNvPicPr/>
            <p:nvPr/>
          </p:nvPicPr>
          <p:blipFill>
            <a:blip r:embed="rId1"/>
            <a:stretch/>
          </p:blipFill>
          <p:spPr>
            <a:xfrm>
              <a:off x="3932280" y="1771560"/>
              <a:ext cx="51768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8"/>
            <p:cNvSpPr/>
            <p:nvPr/>
          </p:nvSpPr>
          <p:spPr>
            <a:xfrm>
              <a:off x="7021440" y="907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"/>
            <p:cNvSpPr/>
            <p:nvPr/>
          </p:nvSpPr>
          <p:spPr>
            <a:xfrm flipH="1">
              <a:off x="5149800" y="1339920"/>
              <a:ext cx="2735280" cy="79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6732360" y="1339920"/>
              <a:ext cx="1152360" cy="64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 flipH="1">
              <a:off x="6732360" y="1339920"/>
              <a:ext cx="1152360" cy="21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 flipH="1">
              <a:off x="7813800" y="1339920"/>
              <a:ext cx="71280" cy="93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4"/>
            <p:cNvSpPr/>
            <p:nvPr/>
          </p:nvSpPr>
          <p:spPr>
            <a:xfrm>
              <a:off x="4213440" y="479592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958160" y="486864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6"/>
            <p:cNvSpPr/>
            <p:nvPr/>
          </p:nvSpPr>
          <p:spPr>
            <a:xfrm>
              <a:off x="6589800" y="979560"/>
              <a:ext cx="5745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ee Kingdoms of lif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50920" y="1628640"/>
            <a:ext cx="432108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hree Kingdoms of lif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- Eukaryo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i, Protesta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Plantae &amp; 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not considered living organis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324000" y="83664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338040"/>
            <a:ext cx="540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- Prokaryotes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bacteria &amp; archaea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1196640"/>
            <a:ext cx="43927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urrent taxonomy recognizes two prokaryotic domains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Kingdoms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Bacteri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domain </a:t>
            </a:r>
            <a:r>
              <a:rPr b="1" lang="en-GB" sz="2000" spc="-1" strike="noStrike">
                <a:solidFill>
                  <a:srgbClr val="ff0000"/>
                </a:solidFill>
                <a:latin typeface="Constantia"/>
              </a:rPr>
              <a:t>Archaea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acteria and archaea exist so early in life and are very  differ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t the same time, the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oth are structurall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ganized at th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karyotic leve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324000" y="9079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4741920" y="1125360"/>
            <a:ext cx="4367160" cy="5516640"/>
            <a:chOff x="4741920" y="1125360"/>
            <a:chExt cx="4367160" cy="5516640"/>
          </a:xfrm>
        </p:grpSpPr>
        <p:pic>
          <p:nvPicPr>
            <p:cNvPr id="224" name="Picture 6" descr=""/>
            <p:cNvPicPr/>
            <p:nvPr/>
          </p:nvPicPr>
          <p:blipFill>
            <a:blip r:embed="rId1"/>
            <a:srcRect l="0" t="0" r="0" b="56485"/>
            <a:stretch/>
          </p:blipFill>
          <p:spPr>
            <a:xfrm>
              <a:off x="4741920" y="3762360"/>
              <a:ext cx="436716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" descr=""/>
            <p:cNvPicPr/>
            <p:nvPr/>
          </p:nvPicPr>
          <p:blipFill>
            <a:blip r:embed="rId2"/>
            <a:srcRect l="0" t="0" r="0" b="3991"/>
            <a:stretch/>
          </p:blipFill>
          <p:spPr>
            <a:xfrm>
              <a:off x="4813200" y="1125360"/>
              <a:ext cx="4249800" cy="265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662472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1- Prokaryotes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a &amp; archaea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980640"/>
            <a:ext cx="46800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okarytes exist in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يئات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oo cold, too hot, too salty, too acidic, or too alkali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or any eukaryo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433440" y="9079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4182840" cy="2854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133200" y="2565360"/>
            <a:ext cx="889344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karyotes often interact with                 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species of prokaryotes or                                                          eukaryotes with complementary                                               metabolism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لتكامل الأيض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se relationships called (symbiosi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 three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ommens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عايشة</a:t>
            </a:r>
            <a:r>
              <a:rPr b="0" lang="ar-S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 receives benefits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منفعة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le the other is not harmed or helped by the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arasit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طفل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one partner, the parasite, benefits at the expense of the h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utualism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ادل المنفع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oth partners benefit from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A)- Archae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268280"/>
            <a:ext cx="482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rchaea a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extremophil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ظروف القا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xtreme environmen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be classified int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hal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ملوح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live in such saline places as the Great Salt Lake and the Dead Se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require an extremely salty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شديدة الملوح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nvironment to grow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b)-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nstantia"/>
              </a:rPr>
              <a:t>Extreme thermophi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حب للحرار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live in hot environmen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The optimum temperatures for most thermophiles are 60 - 80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°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234" name="Line 6"/>
          <p:cNvSpPr/>
          <p:nvPr/>
        </p:nvSpPr>
        <p:spPr>
          <a:xfrm>
            <a:off x="324000" y="98100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6:48:27Z</dcterms:created>
  <dc:creator>Dr. A A</dc:creator>
  <dc:description/>
  <dc:language>en-US</dc:language>
  <cp:lastModifiedBy>User</cp:lastModifiedBy>
  <dcterms:modified xsi:type="dcterms:W3CDTF">2015-03-11T03:35:31Z</dcterms:modified>
  <cp:revision>37</cp:revision>
  <dc:subject/>
  <dc:title>Principals of General Zoology (Zoo-103)</dc:title>
</cp:coreProperties>
</file>