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BA7-06D4-438C-9245-D343B6DE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B63-0F5D-4855-AD77-9E7FC505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462-9C73-4849-A03F-CFE2D632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FD4-53A6-4BDA-8F4C-6BB02790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F0A7-3456-45A1-961C-9D30157C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7FB-A48F-419B-84F0-159A4779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05E3-8F3C-4FA3-A046-70F6681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BD58-0274-4EDE-B5C9-0C874A9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49B-786B-47CA-B924-DC1A7C53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12E-D16E-4A4C-A79C-BD8C17C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1820-D321-47AA-AE49-0C8B0AE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72C-C603-4FAA-A421-66BDF20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1B9-E856-42C8-B72A-11507B7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68E2-C969-471C-8D91-203FAD9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DB3-A1DC-48B3-9E75-F941B40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583-9BEE-4B99-962C-27459E46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EAC0-1E91-4D56-9A9A-9E98096D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CA84-FACA-4C32-B937-1A642CE5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8209-2627-4072-8080-2691DCA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3597-4772-4F57-8EE9-B1B578D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8E81-44B8-4B97-88DD-FF630A7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1CF3-6FAA-49A2-8D6D-5929D6F1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575-744B-4A56-BF2B-F03A3014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CFF6-94A4-4A43-8E41-9A3D3E4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BA5E-875A-482B-8C86-4637E335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0332-5DED-4F89-8C2B-6E8E77F5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B289-94D4-4436-9ECD-0AB09BD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70BF-C5E3-4C3A-9D1A-DB0A86B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7BB7-302E-4E03-9540-745BCE61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55E8-37BC-41D2-B73E-6A171CC7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736D-E834-493D-AAFF-67CCA61D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A18F-BF4F-4C58-91AE-F8ABFE2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0774-4F71-43A0-8B41-BFCCF97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12D-7FEF-4A87-A19D-EA25CF5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3805-0A2A-4819-8BD4-2CF8B54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5C1B-3D3E-452F-9EE3-2616C874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406B-8442-40A4-AA8B-0BC5DA3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007D-EAF4-4721-9A3F-D524673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26CA-7532-4453-9F10-319A04F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F944-D494-45FC-9180-6B29CD0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CDF2-B021-4CAA-A801-98829AA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99AC-2912-49D0-B343-5CBD9BDA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22E5-1F83-418F-AFBD-4166BA94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415-1866-4FB4-8D07-71AFF992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D96-C50E-40EA-A92E-74CCAFE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161-5FA5-4F3F-B66D-A4601B8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872-534B-47E1-9ED7-0D03E52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315-A75B-4453-9753-F3717E4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BD4-7399-44F6-AEE9-16185F3605B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017-473A-456A-9E6D-C948230148C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0E0-D338-4C38-9ED9-487F97D5D55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C46-7E46-449C-ACBC-B9CFA31F270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User</cp:lastModifiedBy>
  <dcterms:modified xsi:type="dcterms:W3CDTF">2015-03-11T03:35:31Z</dcterms:modified>
  <cp:revision>37</cp:revision>
  <dc:subject/>
  <dc:title>Principals of General Zoology (Zoo-103)</dc:title>
</cp:coreProperties>
</file>