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496-1D67-4817-99DD-6799B4C5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8EC-A611-46AD-86D1-8DE30F2B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506-7D4F-4D99-8BE3-A14EB102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155-0F40-4149-A96D-7689B7AC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C4DF-0365-45E3-B361-CD34854C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9BA8-D0A7-4B9E-AB70-8101115D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B948-50E7-4D6C-9560-81BB36A9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2F03-16F3-4FB2-A80E-144C00E2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87B7-CC21-4685-8D9F-BB62DD6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DED1-3CF9-4166-B9DC-2CBAC6DA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00FB-278E-49B3-B10B-954D955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241-378E-439C-B5E8-F7241B73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D53D-853A-410F-B0A8-D410531B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C91E-C1D4-4FFD-ACF2-45BE6FA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7AE8-51C3-42F9-B44E-1822A5E5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E78F-A529-49B9-9D3E-5154C0BD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8190-FE01-4AEC-9506-1175F571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5964-AC20-42DC-9B8A-EA2E3FF5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2CB7-87A6-4A1C-AFC4-5771B0CC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5BDC-EDEB-473E-B504-E4C94ED4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C6CA-6D47-49A6-B64B-8590C9BA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583E-06E6-4361-97CA-A6FECEA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36D-E979-45A7-AEAA-C02491F5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2A60-D5BF-4400-B47A-9DD07884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0AF2-F8E6-4BDD-8B47-DB01EA4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8821-F89C-4CD2-9449-2066C1F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D0C7-E104-4509-BBB1-6BB3872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871D-CEC6-4EBF-A288-2BD3DBF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B1A87-4ED3-4A3E-8640-D3AEA28E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1B89-BA5A-4D76-A5B9-0DB65B92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868C6-18A1-4879-A210-799AAA8B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0573-841B-42DD-A608-0111DDE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2658-0AB0-43BB-89CA-56F6D7D3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413-92A0-49E8-A4CE-D93DFB2C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E6EA-6C4C-4220-984D-DC88C532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8915-6195-4CD3-B888-DC3D6BBD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C0F7C-FF2E-4653-86DE-6A48DF2D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A1843-8211-413D-9249-F54E8F7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86B5-44A5-4AE5-BB27-8E35305D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E52F-6011-4A79-95AE-A6053AD1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1397-F694-4368-9CC7-334EFDCE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5BB4-BE9F-43B3-8952-3B7E18D1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98C71-AFA3-48D9-A6ED-0E7230C6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7C2-7019-4ACC-9865-AC5CD36E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761-6604-4D51-AEB5-5DB81374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85F-57CD-4664-A2A4-0BCD133F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7C4-3DF0-439B-A6CB-0167C93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0C4-FF9B-4E73-9C11-AEBF6362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B89E-231B-4F81-9F6D-FC9F73A0694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4F2E-C0D2-477C-9153-B16606BCC67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2FBA-E523-4C44-A7BF-D9865CCE003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311E-476A-4251-8F19-48B3E0D08EB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204840" y="380880"/>
            <a:ext cx="8688240" cy="11912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: The Classification of Living Organisms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تصنيف الكائنات ال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700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9280" y="224928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Taxonomy: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is that branch of biology, concerned with the grouping and nam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تسمي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modern taxonomic system was developed by the Swedish botanist Carolus Linnae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ارلوس لينيوس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70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788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lassified all known organisms into two large kingdom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a) Kingdom Plantae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b) Kingdom Animalia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حيوان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nnaeus developed a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level classification system based on similarities between organism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Kingdom      Phylum      Class      Order      Family      Genus     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مملك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ea typeface="Majalla UI"/>
              </a:rPr>
              <a:t> شعب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طائف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رتب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عائلة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جنس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نوع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66680" y="17524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Taxonomy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لم التصني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1403280" y="6163920"/>
            <a:ext cx="6288480" cy="720"/>
            <a:chOff x="1403280" y="6163920"/>
            <a:chExt cx="6288480" cy="720"/>
          </a:xfrm>
        </p:grpSpPr>
        <p:cxnSp>
          <p:nvCxnSpPr>
            <p:cNvPr id="200" name="Straight Arrow Connector 4"/>
            <p:cNvCxnSpPr/>
            <p:nvPr/>
          </p:nvCxnSpPr>
          <p:spPr>
            <a:xfrm>
              <a:off x="14032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1" name="Straight Arrow Connector 13"/>
            <p:cNvCxnSpPr/>
            <p:nvPr/>
          </p:nvCxnSpPr>
          <p:spPr>
            <a:xfrm>
              <a:off x="2765160" y="6163920"/>
              <a:ext cx="36720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2" name="Straight Arrow Connector 14"/>
            <p:cNvCxnSpPr/>
            <p:nvPr/>
          </p:nvCxnSpPr>
          <p:spPr>
            <a:xfrm>
              <a:off x="380340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3" name="Straight Arrow Connector 15"/>
            <p:cNvCxnSpPr/>
            <p:nvPr/>
          </p:nvCxnSpPr>
          <p:spPr>
            <a:xfrm>
              <a:off x="49258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4" name="Straight Arrow Connector 16"/>
            <p:cNvCxnSpPr/>
            <p:nvPr/>
          </p:nvCxnSpPr>
          <p:spPr>
            <a:xfrm>
              <a:off x="61498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5" name="Straight Arrow Connector 17"/>
            <p:cNvCxnSpPr/>
            <p:nvPr/>
          </p:nvCxnSpPr>
          <p:spPr>
            <a:xfrm>
              <a:off x="732636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06" name="Group 11"/>
          <p:cNvGrpSpPr/>
          <p:nvPr/>
        </p:nvGrpSpPr>
        <p:grpSpPr>
          <a:xfrm>
            <a:off x="1403280" y="6524280"/>
            <a:ext cx="6288480" cy="720"/>
            <a:chOff x="1403280" y="6524280"/>
            <a:chExt cx="6288480" cy="720"/>
          </a:xfrm>
        </p:grpSpPr>
        <p:cxnSp>
          <p:nvCxnSpPr>
            <p:cNvPr id="207" name="Straight Arrow Connector 27"/>
            <p:cNvCxnSpPr/>
            <p:nvPr/>
          </p:nvCxnSpPr>
          <p:spPr>
            <a:xfrm>
              <a:off x="14032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8" name="Straight Arrow Connector 28"/>
            <p:cNvCxnSpPr/>
            <p:nvPr/>
          </p:nvCxnSpPr>
          <p:spPr>
            <a:xfrm>
              <a:off x="2765160" y="6524280"/>
              <a:ext cx="36720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9" name="Straight Arrow Connector 29"/>
            <p:cNvCxnSpPr/>
            <p:nvPr/>
          </p:nvCxnSpPr>
          <p:spPr>
            <a:xfrm>
              <a:off x="380340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0" name="Straight Arrow Connector 30"/>
            <p:cNvCxnSpPr/>
            <p:nvPr/>
          </p:nvCxnSpPr>
          <p:spPr>
            <a:xfrm>
              <a:off x="49258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1" name="Straight Arrow Connector 31"/>
            <p:cNvCxnSpPr/>
            <p:nvPr/>
          </p:nvCxnSpPr>
          <p:spPr>
            <a:xfrm>
              <a:off x="61498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2" name="Straight Arrow Connector 32"/>
            <p:cNvCxnSpPr/>
            <p:nvPr/>
          </p:nvCxnSpPr>
          <p:spPr>
            <a:xfrm>
              <a:off x="732636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9280" y="376200"/>
            <a:ext cx="878544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nnaeus classified species  as the smallest uni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ecies is a Latin word meaning “kind” or “appearance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ces between species based o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rphological differenc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ختلافات شكلي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otential to interbreed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درة على التزاوج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ith each other in nature to produce fertile offspr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نسل خصي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obert Whittaker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روبرت وايتكر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69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propose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kingdoms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-4680" y="3645000"/>
            <a:ext cx="9113760" cy="2288160"/>
            <a:chOff x="-4680" y="3645000"/>
            <a:chExt cx="9113760" cy="2288160"/>
          </a:xfrm>
        </p:grpSpPr>
        <p:grpSp>
          <p:nvGrpSpPr>
            <p:cNvPr id="215" name="Group 4"/>
            <p:cNvGrpSpPr/>
            <p:nvPr/>
          </p:nvGrpSpPr>
          <p:grpSpPr>
            <a:xfrm>
              <a:off x="-4680" y="3660840"/>
              <a:ext cx="7731720" cy="1640160"/>
              <a:chOff x="-4680" y="3660840"/>
              <a:chExt cx="7731720" cy="1640160"/>
            </a:xfrm>
          </p:grpSpPr>
          <p:sp>
            <p:nvSpPr>
              <p:cNvPr id="216" name="Text Box 4"/>
              <p:cNvSpPr/>
              <p:nvPr/>
            </p:nvSpPr>
            <p:spPr>
              <a:xfrm>
                <a:off x="-4680" y="4292280"/>
                <a:ext cx="28954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Kingdom: Animalia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مملكة الحيوا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10"/>
              <p:cNvGrpSpPr/>
              <p:nvPr/>
            </p:nvGrpSpPr>
            <p:grpSpPr>
              <a:xfrm>
                <a:off x="1415160" y="3660840"/>
                <a:ext cx="6311880" cy="1466640"/>
                <a:chOff x="1415160" y="3660840"/>
                <a:chExt cx="6311880" cy="1466640"/>
              </a:xfrm>
            </p:grpSpPr>
            <p:sp>
              <p:nvSpPr>
                <p:cNvPr id="218" name="Line 12"/>
                <p:cNvSpPr/>
                <p:nvPr/>
              </p:nvSpPr>
              <p:spPr>
                <a:xfrm>
                  <a:off x="1415160" y="3660840"/>
                  <a:ext cx="6311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2886480" y="3660840"/>
                  <a:ext cx="0" cy="146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Line 14"/>
            <p:cNvSpPr/>
            <p:nvPr/>
          </p:nvSpPr>
          <p:spPr>
            <a:xfrm>
              <a:off x="7712640" y="3645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1426680" y="3645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6128280" y="365652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1492200" y="5229360"/>
              <a:ext cx="281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2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Plantae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نب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"/>
            <p:cNvSpPr/>
            <p:nvPr/>
          </p:nvSpPr>
          <p:spPr>
            <a:xfrm>
              <a:off x="4687920" y="5229360"/>
              <a:ext cx="287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4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Protista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طلائعي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"/>
            <p:cNvSpPr/>
            <p:nvPr/>
          </p:nvSpPr>
          <p:spPr>
            <a:xfrm>
              <a:off x="6343920" y="4314960"/>
              <a:ext cx="276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5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Monera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بدائي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14"/>
          <p:cNvSpPr/>
          <p:nvPr/>
        </p:nvSpPr>
        <p:spPr>
          <a:xfrm>
            <a:off x="4427640" y="36450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179880" y="4292640"/>
            <a:ext cx="252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3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Kingdom: Fungi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فطر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50560" y="1268280"/>
            <a:ext cx="8569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ed 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rolus Linna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omial nomenclature consists of two na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name  is the organism’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gen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econd name is the organism’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pec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hat rules are used to write scientific nam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letter of the genus is always capitaliz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letter of the species is always lowerc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tific names of organisms are always italicized  or underlin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Homo </a:t>
            </a:r>
            <a:r>
              <a:rPr b="0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means “wise ma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سان العا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Binomial nomenclature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سمية الثن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54280" y="1268280"/>
            <a:ext cx="5697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  Mammali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 Prima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Hominida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Homo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i="1" lang="en-US" sz="28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36680" y="333360"/>
            <a:ext cx="82389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ystematic position of human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الوضع التقسيمي للإنس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First: Kingdom of Moner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بدائ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1268280"/>
            <a:ext cx="8785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the organisms of this kingdom are prokaryote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.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بدائية النوا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means all cells do not have nuclear membra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are unicellular organism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ائنات وحيدة الخل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kingdom is divided into two groups,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a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b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nera exist in habitat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وطن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too cold, too hot, too salty, too acidic, or too alkali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6"/>
          <p:cNvSpPr/>
          <p:nvPr/>
        </p:nvSpPr>
        <p:spPr>
          <a:xfrm>
            <a:off x="393840" y="13413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33200" y="333360"/>
            <a:ext cx="8893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Classification of Kingdom Monera Based on Mode of Nutrition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طريقة التغذ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"/>
          <p:cNvGrpSpPr/>
          <p:nvPr/>
        </p:nvGrpSpPr>
        <p:grpSpPr>
          <a:xfrm>
            <a:off x="250920" y="2651040"/>
            <a:ext cx="8569080" cy="3310560"/>
            <a:chOff x="250920" y="2651040"/>
            <a:chExt cx="8569080" cy="3310560"/>
          </a:xfrm>
        </p:grpSpPr>
        <p:grpSp>
          <p:nvGrpSpPr>
            <p:cNvPr id="240" name="Group 3"/>
            <p:cNvGrpSpPr/>
            <p:nvPr/>
          </p:nvGrpSpPr>
          <p:grpSpPr>
            <a:xfrm>
              <a:off x="250920" y="2651040"/>
              <a:ext cx="6911280" cy="703800"/>
              <a:chOff x="250920" y="2651040"/>
              <a:chExt cx="6911280" cy="703800"/>
            </a:xfrm>
          </p:grpSpPr>
          <p:sp>
            <p:nvSpPr>
              <p:cNvPr id="241" name="Text Box 4"/>
              <p:cNvSpPr/>
              <p:nvPr/>
            </p:nvSpPr>
            <p:spPr>
              <a:xfrm>
                <a:off x="250920" y="2651040"/>
                <a:ext cx="3106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utotroph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ذاتي التغذ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4"/>
              <p:cNvSpPr/>
              <p:nvPr/>
            </p:nvSpPr>
            <p:spPr>
              <a:xfrm>
                <a:off x="3357360" y="2651040"/>
                <a:ext cx="38048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Heterotrophs 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غير ذاتي التغذ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4"/>
            <p:cNvGrpSpPr/>
            <p:nvPr/>
          </p:nvGrpSpPr>
          <p:grpSpPr>
            <a:xfrm>
              <a:off x="1978920" y="3011040"/>
              <a:ext cx="5484600" cy="1656720"/>
              <a:chOff x="1978920" y="3011040"/>
              <a:chExt cx="5484600" cy="1656720"/>
            </a:xfrm>
          </p:grpSpPr>
          <p:sp>
            <p:nvSpPr>
              <p:cNvPr id="244" name="Line 14"/>
              <p:cNvSpPr/>
              <p:nvPr/>
            </p:nvSpPr>
            <p:spPr>
              <a:xfrm>
                <a:off x="4758480" y="3011040"/>
                <a:ext cx="0" cy="64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25"/>
              <p:cNvGrpSpPr/>
              <p:nvPr/>
            </p:nvGrpSpPr>
            <p:grpSpPr>
              <a:xfrm>
                <a:off x="1978920" y="3267720"/>
                <a:ext cx="4596480" cy="1400040"/>
                <a:chOff x="1978920" y="3267720"/>
                <a:chExt cx="4596480" cy="1400040"/>
              </a:xfrm>
            </p:grpSpPr>
            <p:grpSp>
              <p:nvGrpSpPr>
                <p:cNvPr id="246" name="Group 3"/>
                <p:cNvGrpSpPr/>
                <p:nvPr/>
              </p:nvGrpSpPr>
              <p:grpSpPr>
                <a:xfrm>
                  <a:off x="1978920" y="3267720"/>
                  <a:ext cx="4596480" cy="1399680"/>
                  <a:chOff x="1978920" y="3267720"/>
                  <a:chExt cx="4596480" cy="1399680"/>
                </a:xfrm>
              </p:grpSpPr>
              <p:grpSp>
                <p:nvGrpSpPr>
                  <p:cNvPr id="247" name="Group 10"/>
                  <p:cNvGrpSpPr/>
                  <p:nvPr/>
                </p:nvGrpSpPr>
                <p:grpSpPr>
                  <a:xfrm>
                    <a:off x="2902320" y="3267720"/>
                    <a:ext cx="3672000" cy="365040"/>
                    <a:chOff x="2902320" y="3267720"/>
                    <a:chExt cx="3672000" cy="365040"/>
                  </a:xfrm>
                </p:grpSpPr>
                <p:sp>
                  <p:nvSpPr>
                    <p:cNvPr id="248" name="Line 12"/>
                    <p:cNvSpPr/>
                    <p:nvPr/>
                  </p:nvSpPr>
                  <p:spPr>
                    <a:xfrm>
                      <a:off x="2902320" y="3278880"/>
                      <a:ext cx="36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3"/>
                    <p:cNvSpPr/>
                    <p:nvPr/>
                  </p:nvSpPr>
                  <p:spPr>
                    <a:xfrm>
                      <a:off x="2902320" y="3267720"/>
                      <a:ext cx="0" cy="36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13"/>
                  <p:cNvSpPr/>
                  <p:nvPr/>
                </p:nvSpPr>
                <p:spPr>
                  <a:xfrm>
                    <a:off x="6575400" y="3274200"/>
                    <a:ext cx="0" cy="36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4"/>
                  <p:cNvSpPr/>
                  <p:nvPr/>
                </p:nvSpPr>
                <p:spPr>
                  <a:xfrm>
                    <a:off x="1978920" y="3658680"/>
                    <a:ext cx="1860480" cy="100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alibri"/>
                      </a:rPr>
                      <a:t>a)</a:t>
                    </a: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Saprophyte </a:t>
                    </a:r>
                    <a:r>
                      <a:rPr b="0" lang="ar-SA" sz="2000" spc="-1" strike="noStrike">
                        <a:solidFill>
                          <a:srgbClr val="ff0000"/>
                        </a:solidFill>
                        <a:latin typeface="Constantia"/>
                        <a:cs typeface="Majalla UI"/>
                      </a:rPr>
                      <a:t>ترم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Text Box 4"/>
                <p:cNvSpPr/>
                <p:nvPr/>
              </p:nvSpPr>
              <p:spPr>
                <a:xfrm>
                  <a:off x="3863520" y="3659040"/>
                  <a:ext cx="18140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b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Parasitism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تطفل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Text Box 4"/>
              <p:cNvSpPr/>
              <p:nvPr/>
            </p:nvSpPr>
            <p:spPr>
              <a:xfrm>
                <a:off x="5712840" y="3659040"/>
                <a:ext cx="1750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c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ymbiosi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تكاف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"/>
            <p:cNvGrpSpPr/>
            <p:nvPr/>
          </p:nvGrpSpPr>
          <p:grpSpPr>
            <a:xfrm>
              <a:off x="4836960" y="4307040"/>
              <a:ext cx="3983040" cy="1654560"/>
              <a:chOff x="4836960" y="4307040"/>
              <a:chExt cx="3983040" cy="1654560"/>
            </a:xfrm>
          </p:grpSpPr>
          <p:grpSp>
            <p:nvGrpSpPr>
              <p:cNvPr id="255" name="Group 35"/>
              <p:cNvGrpSpPr/>
              <p:nvPr/>
            </p:nvGrpSpPr>
            <p:grpSpPr>
              <a:xfrm>
                <a:off x="4836960" y="4593240"/>
                <a:ext cx="3983040" cy="1368360"/>
                <a:chOff x="4836960" y="4593240"/>
                <a:chExt cx="3983040" cy="1368360"/>
              </a:xfrm>
            </p:grpSpPr>
            <p:grpSp>
              <p:nvGrpSpPr>
                <p:cNvPr id="256" name="Group 3"/>
                <p:cNvGrpSpPr/>
                <p:nvPr/>
              </p:nvGrpSpPr>
              <p:grpSpPr>
                <a:xfrm>
                  <a:off x="4836960" y="4593240"/>
                  <a:ext cx="2760120" cy="1063440"/>
                  <a:chOff x="4836960" y="4593240"/>
                  <a:chExt cx="2760120" cy="1063440"/>
                </a:xfrm>
              </p:grpSpPr>
              <p:grpSp>
                <p:nvGrpSpPr>
                  <p:cNvPr id="257" name="Group 10"/>
                  <p:cNvGrpSpPr/>
                  <p:nvPr/>
                </p:nvGrpSpPr>
                <p:grpSpPr>
                  <a:xfrm>
                    <a:off x="5713920" y="4593240"/>
                    <a:ext cx="1882800" cy="365040"/>
                    <a:chOff x="5713920" y="4593240"/>
                    <a:chExt cx="1882800" cy="365040"/>
                  </a:xfrm>
                </p:grpSpPr>
                <p:sp>
                  <p:nvSpPr>
                    <p:cNvPr id="258" name="Line 12"/>
                    <p:cNvSpPr/>
                    <p:nvPr/>
                  </p:nvSpPr>
                  <p:spPr>
                    <a:xfrm>
                      <a:off x="5713920" y="4604400"/>
                      <a:ext cx="1882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3"/>
                    <p:cNvSpPr/>
                    <p:nvPr/>
                  </p:nvSpPr>
                  <p:spPr>
                    <a:xfrm>
                      <a:off x="5725080" y="4593240"/>
                      <a:ext cx="0" cy="36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0" name="Line 13"/>
                  <p:cNvSpPr/>
                  <p:nvPr/>
                </p:nvSpPr>
                <p:spPr>
                  <a:xfrm>
                    <a:off x="7597080" y="4599720"/>
                    <a:ext cx="0" cy="36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Text Box 4"/>
                  <p:cNvSpPr/>
                  <p:nvPr/>
                </p:nvSpPr>
                <p:spPr>
                  <a:xfrm>
                    <a:off x="4836960" y="4952880"/>
                    <a:ext cx="180036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alibri"/>
                      </a:rPr>
                      <a:t>i)</a:t>
                    </a: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Mutualism </a:t>
                    </a:r>
                    <a:r>
                      <a:rPr b="0" lang="ar-SA" sz="2000" spc="-1" strike="noStrike">
                        <a:solidFill>
                          <a:srgbClr val="ff0000"/>
                        </a:solidFill>
                        <a:latin typeface="Constantia"/>
                        <a:cs typeface="Majalla UI"/>
                      </a:rPr>
                      <a:t>تقايض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Text Box 4"/>
                <p:cNvSpPr/>
                <p:nvPr/>
              </p:nvSpPr>
              <p:spPr>
                <a:xfrm>
                  <a:off x="6421320" y="4952880"/>
                  <a:ext cx="23986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ii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Commensalism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تعاي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Straight Connector 6"/>
              <p:cNvSpPr/>
              <p:nvPr/>
            </p:nvSpPr>
            <p:spPr>
              <a:xfrm flipV="1">
                <a:off x="6678360" y="43070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33200" y="369720"/>
            <a:ext cx="88934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utotrophic bacte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bacteria which prepare their ow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terotroph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which are dependent on other organisms for their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arasit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obtain their food from the tissues of living organisms (host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ائ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nd cause harm to th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aprophyt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obtain their food from dead organic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utualism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lationship between individuals of different species in which both individuals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mmensalism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relationship between individuals of different species in which one organism benefits without affecting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8000" y="1052640"/>
            <a:ext cx="5256000" cy="65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can be classified by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shap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o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ill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عصو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Cocc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رو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Spirillum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حلزون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Different types of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diseases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re caused by bacteria include: cholera, many sexually disease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راض الجنسية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سمم الغذائي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owever, more bacteria are beneficial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فيد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120000"/>
              </a:lnSpc>
              <a:buClr>
                <a:srgbClr val="339933"/>
              </a:buClr>
              <a:buSzPct val="85000"/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معائنا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120000"/>
              </a:lnSpc>
              <a:buClr>
                <a:srgbClr val="339933"/>
              </a:buClr>
              <a:buSzPct val="85000"/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A)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www.tv411.org/sites/default/files/questions/Science1_A3_Q11-13.png"/>
          <p:cNvPicPr/>
          <p:nvPr/>
        </p:nvPicPr>
        <p:blipFill>
          <a:blip r:embed="rId1"/>
          <a:stretch/>
        </p:blipFill>
        <p:spPr>
          <a:xfrm>
            <a:off x="5364000" y="2817720"/>
            <a:ext cx="3672000" cy="2340000"/>
          </a:xfrm>
          <a:prstGeom prst="rect">
            <a:avLst/>
          </a:prstGeom>
          <a:ln w="19080">
            <a:solidFill>
              <a:srgbClr val="00b05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8000" y="1125360"/>
            <a:ext cx="496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chaea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a)-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Halophiles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حب للملوح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ve in saline waters (high salt concentrations) as the Great Salt Lake and the Dead Se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me species require an extremely salty environment to grow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b)-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Thermophil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live in hot environments (hot spring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he optimum temperatures for most thermophiles ar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60 - 80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B)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ucmp.berkeley.edu/archaea/NRPobsidianpool.jpg"/>
          <p:cNvPicPr/>
          <p:nvPr/>
        </p:nvPicPr>
        <p:blipFill>
          <a:blip r:embed="rId1"/>
          <a:stretch/>
        </p:blipFill>
        <p:spPr>
          <a:xfrm>
            <a:off x="5172120" y="1020600"/>
            <a:ext cx="3863880" cy="2567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ttps://student.societyforscience.org/sites/student.societyforscience.org/files/main/articles/PICT0012-Grand-Prismatic-Spring-at-Midway-Geyser-Basin-1.jpg"/>
          <p:cNvPicPr/>
          <p:nvPr/>
        </p:nvPicPr>
        <p:blipFill>
          <a:blip r:embed="rId2"/>
          <a:stretch/>
        </p:blipFill>
        <p:spPr>
          <a:xfrm>
            <a:off x="5172120" y="3716280"/>
            <a:ext cx="38844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Dell</cp:lastModifiedBy>
  <dcterms:modified xsi:type="dcterms:W3CDTF">2015-10-16T13:13:46Z</dcterms:modified>
  <cp:revision>191</cp:revision>
  <dc:subject/>
  <dc:title>Principals of General Zoology (Zoo-103)</dc:title>
</cp:coreProperties>
</file>