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D01-AF2D-44C4-AB77-9BAFF4F3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D5A-7634-481E-8609-BFD91629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2F9-83F3-499C-B1A6-ADDB0CED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336-C79A-482B-87F7-B62981BA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D92C-72BA-4AA1-9811-22AB7540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B6A7-755C-48C9-8967-AEAFE5B7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70B4-1697-49C4-A774-68965099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C6BF-754B-4C3A-A388-7ABF2327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E809-FC38-4BDB-BFE1-9C4A5E15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E813-1594-427E-86EC-400546A8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10E0-9119-4ED7-913C-6E2E6573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F05-F609-4DE5-BC01-24EBFFCC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1C4B-2986-438F-9EB1-E3634A52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AA1A-4F10-45A6-B6C6-D6E0BB89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AF34-A16B-4620-90C5-76F8CC1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19D3-2A84-4A6F-8DDF-3F919423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2760-8D42-430C-B35B-2C73C010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99B10-3A19-4054-B24F-18D95FB8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3BC3-568C-4B9D-BE08-187BBD01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343A-C91C-492A-92F5-CEB0F2C0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4EC4-BC45-49DF-B400-CEBEA9AC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82D4-C4F1-450D-B5BB-ABFE187D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5A3-859E-4893-8B39-78AFE7B9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4EC18-D09F-4459-A44C-B790198E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F482-B17F-4F40-A664-2D138BA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EE454-0B81-4A8E-A3F3-832978A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DED2-1C93-4EA7-9CD6-A6D50ECA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7281-4127-4D6D-9172-FD747E16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8DDD-17A8-4082-ABD2-750FB917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45900-4224-4571-8F2B-8E3850C0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08308-4627-426F-A3AB-1C3061F8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165FE-A34A-4829-8D8C-380EF97E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16C4-6027-44B8-B9CD-61C4AADC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C71-A39C-4364-93CC-20035D32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5687-E8AD-4EBC-98E0-76C176C8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E29E2-B37C-4E26-A0DA-5ACF2209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B177-2C48-47A2-B143-CBBD3540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589C-046B-46C9-8007-5B45CBFC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B4C7-C72D-4190-A606-AE2C89D8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6F1E-BEDD-4D62-8FBF-6C4B0DA6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AD8B-4ABD-4534-816F-0EB1B4C9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2882E-9D41-44CA-B07F-0BE87645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48F8-33C6-44C8-A89C-6B04AA51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6D2-964D-47DF-9892-DB25B79B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4D3-7832-4ABA-9571-EC55F6D5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FEA-3188-4F88-8D67-C5CC0354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6AC-7DE6-4335-A844-5B16E189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A36-7FDD-43C0-B74E-175E7358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E67C-EB67-4AD6-9851-94C30ED84A0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F052-6667-42AB-B9BE-0CC183D9F12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E196-90DF-4CC5-8418-E280DE73E32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E9AD-D5DC-4D0E-8D14-DDC7B3643FA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204840" y="380880"/>
            <a:ext cx="8688240" cy="11912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3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: The Classification of Living Organisms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تصنيف الكائنات ال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700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9280" y="2249280"/>
            <a:ext cx="878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Taxonomy: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is that branch of biology, concerned with the grouping and nam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تسمي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modern taxonomic system was developed by the Swedish botanist Carolus Linnae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ارلوس لينيوس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70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788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lassified all known organisms into two large kingdom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a) Kingdom Plantae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b) Kingdom Animalia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حيوان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nnaeus developed a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level classification system based on similarities between organism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Kingdom      Phylum      Class      Order      Family      Genus     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مملك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ea typeface="Majalla UI"/>
              </a:rPr>
              <a:t> شعب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طائف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رتب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عائلة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جنس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نوع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66680" y="17524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Taxonomy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لم التصني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1403280" y="6163920"/>
            <a:ext cx="6288480" cy="720"/>
            <a:chOff x="1403280" y="6163920"/>
            <a:chExt cx="6288480" cy="720"/>
          </a:xfrm>
        </p:grpSpPr>
        <p:cxnSp>
          <p:nvCxnSpPr>
            <p:cNvPr id="200" name="Straight Arrow Connector 4"/>
            <p:cNvCxnSpPr/>
            <p:nvPr/>
          </p:nvCxnSpPr>
          <p:spPr>
            <a:xfrm>
              <a:off x="14032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1" name="Straight Arrow Connector 13"/>
            <p:cNvCxnSpPr/>
            <p:nvPr/>
          </p:nvCxnSpPr>
          <p:spPr>
            <a:xfrm>
              <a:off x="2765160" y="6163920"/>
              <a:ext cx="36720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2" name="Straight Arrow Connector 14"/>
            <p:cNvCxnSpPr/>
            <p:nvPr/>
          </p:nvCxnSpPr>
          <p:spPr>
            <a:xfrm>
              <a:off x="380340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3" name="Straight Arrow Connector 15"/>
            <p:cNvCxnSpPr/>
            <p:nvPr/>
          </p:nvCxnSpPr>
          <p:spPr>
            <a:xfrm>
              <a:off x="49258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4" name="Straight Arrow Connector 16"/>
            <p:cNvCxnSpPr/>
            <p:nvPr/>
          </p:nvCxnSpPr>
          <p:spPr>
            <a:xfrm>
              <a:off x="61498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5" name="Straight Arrow Connector 17"/>
            <p:cNvCxnSpPr/>
            <p:nvPr/>
          </p:nvCxnSpPr>
          <p:spPr>
            <a:xfrm>
              <a:off x="732636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06" name="Group 11"/>
          <p:cNvGrpSpPr/>
          <p:nvPr/>
        </p:nvGrpSpPr>
        <p:grpSpPr>
          <a:xfrm>
            <a:off x="1403280" y="6524280"/>
            <a:ext cx="6288480" cy="720"/>
            <a:chOff x="1403280" y="6524280"/>
            <a:chExt cx="6288480" cy="720"/>
          </a:xfrm>
        </p:grpSpPr>
        <p:cxnSp>
          <p:nvCxnSpPr>
            <p:cNvPr id="207" name="Straight Arrow Connector 27"/>
            <p:cNvCxnSpPr/>
            <p:nvPr/>
          </p:nvCxnSpPr>
          <p:spPr>
            <a:xfrm>
              <a:off x="14032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8" name="Straight Arrow Connector 28"/>
            <p:cNvCxnSpPr/>
            <p:nvPr/>
          </p:nvCxnSpPr>
          <p:spPr>
            <a:xfrm>
              <a:off x="2765160" y="6524280"/>
              <a:ext cx="36720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9" name="Straight Arrow Connector 29"/>
            <p:cNvCxnSpPr/>
            <p:nvPr/>
          </p:nvCxnSpPr>
          <p:spPr>
            <a:xfrm>
              <a:off x="380340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0" name="Straight Arrow Connector 30"/>
            <p:cNvCxnSpPr/>
            <p:nvPr/>
          </p:nvCxnSpPr>
          <p:spPr>
            <a:xfrm>
              <a:off x="49258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1" name="Straight Arrow Connector 31"/>
            <p:cNvCxnSpPr/>
            <p:nvPr/>
          </p:nvCxnSpPr>
          <p:spPr>
            <a:xfrm>
              <a:off x="61498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2" name="Straight Arrow Connector 32"/>
            <p:cNvCxnSpPr/>
            <p:nvPr/>
          </p:nvCxnSpPr>
          <p:spPr>
            <a:xfrm>
              <a:off x="732636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9280" y="376200"/>
            <a:ext cx="878544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nnaeus classified species  as the smallest uni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ecies is a Latin word meaning “kind” or “appearance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ces between species based o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rphological differenc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ختلافات شكلي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otential to interbreed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درة على التزاوج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ith each other in nature to produce fertile offspr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نسل خصي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obert Whittaker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روبرت وايتكر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69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proposed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fiv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kingdoms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-4680" y="3645000"/>
            <a:ext cx="9113760" cy="2288160"/>
            <a:chOff x="-4680" y="3645000"/>
            <a:chExt cx="9113760" cy="2288160"/>
          </a:xfrm>
        </p:grpSpPr>
        <p:grpSp>
          <p:nvGrpSpPr>
            <p:cNvPr id="215" name="Group 4"/>
            <p:cNvGrpSpPr/>
            <p:nvPr/>
          </p:nvGrpSpPr>
          <p:grpSpPr>
            <a:xfrm>
              <a:off x="-4680" y="3660840"/>
              <a:ext cx="7731720" cy="1640160"/>
              <a:chOff x="-4680" y="3660840"/>
              <a:chExt cx="7731720" cy="1640160"/>
            </a:xfrm>
          </p:grpSpPr>
          <p:sp>
            <p:nvSpPr>
              <p:cNvPr id="216" name="Text Box 4"/>
              <p:cNvSpPr/>
              <p:nvPr/>
            </p:nvSpPr>
            <p:spPr>
              <a:xfrm>
                <a:off x="-4680" y="4292280"/>
                <a:ext cx="28954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Kingdom: Animalia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مملكة الحيوا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10"/>
              <p:cNvGrpSpPr/>
              <p:nvPr/>
            </p:nvGrpSpPr>
            <p:grpSpPr>
              <a:xfrm>
                <a:off x="1415160" y="3660840"/>
                <a:ext cx="6311880" cy="1466640"/>
                <a:chOff x="1415160" y="3660840"/>
                <a:chExt cx="6311880" cy="1466640"/>
              </a:xfrm>
            </p:grpSpPr>
            <p:sp>
              <p:nvSpPr>
                <p:cNvPr id="218" name="Line 12"/>
                <p:cNvSpPr/>
                <p:nvPr/>
              </p:nvSpPr>
              <p:spPr>
                <a:xfrm>
                  <a:off x="1415160" y="3660840"/>
                  <a:ext cx="6311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2886480" y="3660840"/>
                  <a:ext cx="0" cy="1466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Line 14"/>
            <p:cNvSpPr/>
            <p:nvPr/>
          </p:nvSpPr>
          <p:spPr>
            <a:xfrm>
              <a:off x="7712640" y="3645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1426680" y="3645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6128280" y="365652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"/>
            <p:cNvSpPr/>
            <p:nvPr/>
          </p:nvSpPr>
          <p:spPr>
            <a:xfrm>
              <a:off x="1492200" y="5229360"/>
              <a:ext cx="281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2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Plantae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نب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"/>
            <p:cNvSpPr/>
            <p:nvPr/>
          </p:nvSpPr>
          <p:spPr>
            <a:xfrm>
              <a:off x="4687920" y="5229360"/>
              <a:ext cx="287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4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Protista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طلائعي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"/>
            <p:cNvSpPr/>
            <p:nvPr/>
          </p:nvSpPr>
          <p:spPr>
            <a:xfrm>
              <a:off x="6343920" y="4314960"/>
              <a:ext cx="276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5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Monera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بدائي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14"/>
          <p:cNvSpPr/>
          <p:nvPr/>
        </p:nvSpPr>
        <p:spPr>
          <a:xfrm>
            <a:off x="4427640" y="364500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179880" y="4292640"/>
            <a:ext cx="252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3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Kingdom: Fungi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فطر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50560" y="1268280"/>
            <a:ext cx="8569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ed 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rolus Linna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omial nomenclature consists of two na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name  is the organism’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gen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econd name is the organism’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pec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hat rules are used to write scientific nam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letter of the genus is always capitaliz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letter of the species is always lowerc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tific names of organisms are always italicized  or underlin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Homo </a:t>
            </a:r>
            <a:r>
              <a:rPr b="0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means “wise ma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سان العا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Binomial nomenclature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سمية الثن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54280" y="1268280"/>
            <a:ext cx="5697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  Mammali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 Prima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Hominida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Constantia"/>
              </a:rPr>
              <a:t>Homo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i="1" lang="en-US" sz="28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36680" y="333360"/>
            <a:ext cx="82389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ystematic position of human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الوضع التقسيمي للإنس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First: Kingdom of Moner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بدائ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9280" y="1268280"/>
            <a:ext cx="87854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the organisms of this kingdom are prokaryote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.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بدائية النوا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means all cells do not have nuclear membra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y are unicellular organism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ائنات وحيدة الخل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kingdom is divided into two groups,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a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b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nera exist in habitat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وطن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too cold, too hot, too salty, too acidic, or too alkali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6"/>
          <p:cNvSpPr/>
          <p:nvPr/>
        </p:nvSpPr>
        <p:spPr>
          <a:xfrm>
            <a:off x="393840" y="13413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33200" y="333360"/>
            <a:ext cx="8893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Classification of Kingdom Monera Based on Mode of Nutrition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طريقة التغذ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"/>
          <p:cNvGrpSpPr/>
          <p:nvPr/>
        </p:nvGrpSpPr>
        <p:grpSpPr>
          <a:xfrm>
            <a:off x="250920" y="2651040"/>
            <a:ext cx="8569080" cy="3310560"/>
            <a:chOff x="250920" y="2651040"/>
            <a:chExt cx="8569080" cy="3310560"/>
          </a:xfrm>
        </p:grpSpPr>
        <p:grpSp>
          <p:nvGrpSpPr>
            <p:cNvPr id="240" name="Group 3"/>
            <p:cNvGrpSpPr/>
            <p:nvPr/>
          </p:nvGrpSpPr>
          <p:grpSpPr>
            <a:xfrm>
              <a:off x="250920" y="2651040"/>
              <a:ext cx="6911280" cy="703800"/>
              <a:chOff x="250920" y="2651040"/>
              <a:chExt cx="6911280" cy="703800"/>
            </a:xfrm>
          </p:grpSpPr>
          <p:sp>
            <p:nvSpPr>
              <p:cNvPr id="241" name="Text Box 4"/>
              <p:cNvSpPr/>
              <p:nvPr/>
            </p:nvSpPr>
            <p:spPr>
              <a:xfrm>
                <a:off x="250920" y="2651040"/>
                <a:ext cx="3106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utotroph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ذاتي التغذ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4"/>
              <p:cNvSpPr/>
              <p:nvPr/>
            </p:nvSpPr>
            <p:spPr>
              <a:xfrm>
                <a:off x="3357360" y="2651040"/>
                <a:ext cx="38048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Heterotrophs 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غير ذاتي التغذ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4"/>
            <p:cNvGrpSpPr/>
            <p:nvPr/>
          </p:nvGrpSpPr>
          <p:grpSpPr>
            <a:xfrm>
              <a:off x="1978920" y="3011040"/>
              <a:ext cx="5484600" cy="1656720"/>
              <a:chOff x="1978920" y="3011040"/>
              <a:chExt cx="5484600" cy="1656720"/>
            </a:xfrm>
          </p:grpSpPr>
          <p:sp>
            <p:nvSpPr>
              <p:cNvPr id="244" name="Line 14"/>
              <p:cNvSpPr/>
              <p:nvPr/>
            </p:nvSpPr>
            <p:spPr>
              <a:xfrm>
                <a:off x="4758480" y="3011040"/>
                <a:ext cx="0" cy="64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25"/>
              <p:cNvGrpSpPr/>
              <p:nvPr/>
            </p:nvGrpSpPr>
            <p:grpSpPr>
              <a:xfrm>
                <a:off x="1978920" y="3267720"/>
                <a:ext cx="4596480" cy="1400040"/>
                <a:chOff x="1978920" y="3267720"/>
                <a:chExt cx="4596480" cy="1400040"/>
              </a:xfrm>
            </p:grpSpPr>
            <p:grpSp>
              <p:nvGrpSpPr>
                <p:cNvPr id="246" name="Group 3"/>
                <p:cNvGrpSpPr/>
                <p:nvPr/>
              </p:nvGrpSpPr>
              <p:grpSpPr>
                <a:xfrm>
                  <a:off x="1978920" y="3267720"/>
                  <a:ext cx="4596480" cy="1399680"/>
                  <a:chOff x="1978920" y="3267720"/>
                  <a:chExt cx="4596480" cy="1399680"/>
                </a:xfrm>
              </p:grpSpPr>
              <p:grpSp>
                <p:nvGrpSpPr>
                  <p:cNvPr id="247" name="Group 10"/>
                  <p:cNvGrpSpPr/>
                  <p:nvPr/>
                </p:nvGrpSpPr>
                <p:grpSpPr>
                  <a:xfrm>
                    <a:off x="2902320" y="3267720"/>
                    <a:ext cx="3672000" cy="365040"/>
                    <a:chOff x="2902320" y="3267720"/>
                    <a:chExt cx="3672000" cy="365040"/>
                  </a:xfrm>
                </p:grpSpPr>
                <p:sp>
                  <p:nvSpPr>
                    <p:cNvPr id="248" name="Line 12"/>
                    <p:cNvSpPr/>
                    <p:nvPr/>
                  </p:nvSpPr>
                  <p:spPr>
                    <a:xfrm>
                      <a:off x="2902320" y="3278880"/>
                      <a:ext cx="36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3"/>
                    <p:cNvSpPr/>
                    <p:nvPr/>
                  </p:nvSpPr>
                  <p:spPr>
                    <a:xfrm>
                      <a:off x="2902320" y="3267720"/>
                      <a:ext cx="0" cy="36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13"/>
                  <p:cNvSpPr/>
                  <p:nvPr/>
                </p:nvSpPr>
                <p:spPr>
                  <a:xfrm>
                    <a:off x="6575400" y="3274200"/>
                    <a:ext cx="0" cy="365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4"/>
                  <p:cNvSpPr/>
                  <p:nvPr/>
                </p:nvSpPr>
                <p:spPr>
                  <a:xfrm>
                    <a:off x="1978920" y="3658680"/>
                    <a:ext cx="1860480" cy="100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alibri"/>
                      </a:rPr>
                      <a:t>a)</a:t>
                    </a: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 </a:t>
                    </a: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Saprophyte </a:t>
                    </a:r>
                    <a:r>
                      <a:rPr b="0" lang="ar-SA" sz="2000" spc="-1" strike="noStrike">
                        <a:solidFill>
                          <a:srgbClr val="ff0000"/>
                        </a:solidFill>
                        <a:latin typeface="Constantia"/>
                        <a:cs typeface="Majalla UI"/>
                      </a:rPr>
                      <a:t>ترمم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Text Box 4"/>
                <p:cNvSpPr/>
                <p:nvPr/>
              </p:nvSpPr>
              <p:spPr>
                <a:xfrm>
                  <a:off x="3863520" y="3659040"/>
                  <a:ext cx="18140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b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Parasitism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تطفل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Text Box 4"/>
              <p:cNvSpPr/>
              <p:nvPr/>
            </p:nvSpPr>
            <p:spPr>
              <a:xfrm>
                <a:off x="5712840" y="3659040"/>
                <a:ext cx="1750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c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ymbiosi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تكاف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1"/>
            <p:cNvGrpSpPr/>
            <p:nvPr/>
          </p:nvGrpSpPr>
          <p:grpSpPr>
            <a:xfrm>
              <a:off x="4836960" y="4307040"/>
              <a:ext cx="3983040" cy="1654560"/>
              <a:chOff x="4836960" y="4307040"/>
              <a:chExt cx="3983040" cy="1654560"/>
            </a:xfrm>
          </p:grpSpPr>
          <p:grpSp>
            <p:nvGrpSpPr>
              <p:cNvPr id="255" name="Group 35"/>
              <p:cNvGrpSpPr/>
              <p:nvPr/>
            </p:nvGrpSpPr>
            <p:grpSpPr>
              <a:xfrm>
                <a:off x="4836960" y="4593240"/>
                <a:ext cx="3983040" cy="1368360"/>
                <a:chOff x="4836960" y="4593240"/>
                <a:chExt cx="3983040" cy="1368360"/>
              </a:xfrm>
            </p:grpSpPr>
            <p:grpSp>
              <p:nvGrpSpPr>
                <p:cNvPr id="256" name="Group 3"/>
                <p:cNvGrpSpPr/>
                <p:nvPr/>
              </p:nvGrpSpPr>
              <p:grpSpPr>
                <a:xfrm>
                  <a:off x="4836960" y="4593240"/>
                  <a:ext cx="2760120" cy="1063440"/>
                  <a:chOff x="4836960" y="4593240"/>
                  <a:chExt cx="2760120" cy="1063440"/>
                </a:xfrm>
              </p:grpSpPr>
              <p:grpSp>
                <p:nvGrpSpPr>
                  <p:cNvPr id="257" name="Group 10"/>
                  <p:cNvGrpSpPr/>
                  <p:nvPr/>
                </p:nvGrpSpPr>
                <p:grpSpPr>
                  <a:xfrm>
                    <a:off x="5713920" y="4593240"/>
                    <a:ext cx="1882800" cy="365040"/>
                    <a:chOff x="5713920" y="4593240"/>
                    <a:chExt cx="1882800" cy="365040"/>
                  </a:xfrm>
                </p:grpSpPr>
                <p:sp>
                  <p:nvSpPr>
                    <p:cNvPr id="258" name="Line 12"/>
                    <p:cNvSpPr/>
                    <p:nvPr/>
                  </p:nvSpPr>
                  <p:spPr>
                    <a:xfrm>
                      <a:off x="5713920" y="4604400"/>
                      <a:ext cx="18828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3"/>
                    <p:cNvSpPr/>
                    <p:nvPr/>
                  </p:nvSpPr>
                  <p:spPr>
                    <a:xfrm>
                      <a:off x="5725080" y="4593240"/>
                      <a:ext cx="0" cy="36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0" name="Line 13"/>
                  <p:cNvSpPr/>
                  <p:nvPr/>
                </p:nvSpPr>
                <p:spPr>
                  <a:xfrm>
                    <a:off x="7597080" y="4599720"/>
                    <a:ext cx="0" cy="365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Text Box 4"/>
                  <p:cNvSpPr/>
                  <p:nvPr/>
                </p:nvSpPr>
                <p:spPr>
                  <a:xfrm>
                    <a:off x="4836960" y="4952880"/>
                    <a:ext cx="180036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alibri"/>
                      </a:rPr>
                      <a:t>i)</a:t>
                    </a: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 </a:t>
                    </a: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Mutualism </a:t>
                    </a:r>
                    <a:r>
                      <a:rPr b="0" lang="ar-SA" sz="2000" spc="-1" strike="noStrike">
                        <a:solidFill>
                          <a:srgbClr val="ff0000"/>
                        </a:solidFill>
                        <a:latin typeface="Constantia"/>
                        <a:cs typeface="Majalla UI"/>
                      </a:rPr>
                      <a:t>تقايض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Text Box 4"/>
                <p:cNvSpPr/>
                <p:nvPr/>
              </p:nvSpPr>
              <p:spPr>
                <a:xfrm>
                  <a:off x="6421320" y="4952880"/>
                  <a:ext cx="239868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ii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Commensalism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تعاي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Straight Connector 6"/>
              <p:cNvSpPr/>
              <p:nvPr/>
            </p:nvSpPr>
            <p:spPr>
              <a:xfrm flipV="1">
                <a:off x="6678360" y="43070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33200" y="369720"/>
            <a:ext cx="88934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utotrophic bacte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bacteria which prepare their ow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terotroph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which are dependent on other organisms for their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arasit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obtain their food from the tissues of living organisms (host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ائ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nd cause harm to the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aprophyt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obtain their food from dead organic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utualism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lationship between individuals of different species in which both individuals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ommensalism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relationship between individuals of different species in which one organism benefits without affecting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8000" y="1052640"/>
            <a:ext cx="5256000" cy="65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can be classified by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shape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o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ill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عصوي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Cocc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رو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Spirillum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حلزوني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Different types of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diseases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re caused by bacteria include: cholera, many sexually disease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راض الجنسية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سمم الغذائي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owever, more bacteria are beneficial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فيد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120000"/>
              </a:lnSpc>
              <a:buClr>
                <a:srgbClr val="339933"/>
              </a:buClr>
              <a:buSzPct val="85000"/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أمعائنا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120000"/>
              </a:lnSpc>
              <a:buClr>
                <a:srgbClr val="339933"/>
              </a:buClr>
              <a:buSzPct val="85000"/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A)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http://www.tv411.org/sites/default/files/questions/Science1_A3_Q11-13.png"/>
          <p:cNvPicPr/>
          <p:nvPr/>
        </p:nvPicPr>
        <p:blipFill>
          <a:blip r:embed="rId1"/>
          <a:stretch/>
        </p:blipFill>
        <p:spPr>
          <a:xfrm>
            <a:off x="5364000" y="2817720"/>
            <a:ext cx="3672000" cy="2340000"/>
          </a:xfrm>
          <a:prstGeom prst="rect">
            <a:avLst/>
          </a:prstGeom>
          <a:ln w="19080">
            <a:solidFill>
              <a:srgbClr val="00b05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8000" y="1125360"/>
            <a:ext cx="496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rchaea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a)-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onstantia"/>
              </a:rPr>
              <a:t>Halophiles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حب للملوح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ve in saline waters (high salt concentrations) as the Great Salt Lake and the Dead Se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me species require an extremely salty environment to grow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b)-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onstantia"/>
              </a:rPr>
              <a:t>Thermophil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live in hot environments (hot spring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The optimum temperatures for most thermophiles ar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60 - 80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B) Archa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www.ucmp.berkeley.edu/archaea/NRPobsidianpool.jpg"/>
          <p:cNvPicPr/>
          <p:nvPr/>
        </p:nvPicPr>
        <p:blipFill>
          <a:blip r:embed="rId1"/>
          <a:stretch/>
        </p:blipFill>
        <p:spPr>
          <a:xfrm>
            <a:off x="5172120" y="1020600"/>
            <a:ext cx="3863880" cy="2567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https://student.societyforscience.org/sites/student.societyforscience.org/files/main/articles/PICT0012-Grand-Prismatic-Spring-at-Midway-Geyser-Basin-1.jpg"/>
          <p:cNvPicPr/>
          <p:nvPr/>
        </p:nvPicPr>
        <p:blipFill>
          <a:blip r:embed="rId2"/>
          <a:stretch/>
        </p:blipFill>
        <p:spPr>
          <a:xfrm>
            <a:off x="5172120" y="3716280"/>
            <a:ext cx="38844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Dell</cp:lastModifiedBy>
  <dcterms:modified xsi:type="dcterms:W3CDTF">2015-10-16T13:13:46Z</dcterms:modified>
  <cp:revision>191</cp:revision>
  <dc:subject/>
  <dc:title>Principals of General Zoology (Zoo-103)</dc:title>
</cp:coreProperties>
</file>