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BF9-B884-46B8-A1AE-5E080481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5C2-826C-4C79-95C0-DE1B4BF2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15A-9E33-4B85-9981-BA27DDDA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2E1-DB9D-45FE-8F45-A7F9C1CC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AE76-4F58-4A0D-9E29-A67BC229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850E-B7DD-4EC5-8C3A-BF0B37EC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8141-04F2-4B13-B62C-B09D2929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ACC0-A13F-4588-8FCF-77357F70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622C-288F-4F2C-8CDB-ED25FF96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9AE4-02C5-4F7E-B3E7-6D5CA9B8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D5F2-E84A-432E-AD41-764ED81C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55F-FC28-4C70-B5AD-AEA5E632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E92F-E5DC-4F52-95D5-0D9F2BE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9EFD-FA2F-4FA7-BBFF-C13135E4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A6CC-4A1E-4787-A693-8892790D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2395-2618-4330-B788-B4EB76B9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48A4-6203-438C-B050-358D4B85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4C1DB-9727-4A68-AB32-00DF825D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11413-DB8D-4BAA-B563-7C5C55E6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63E29-9BFD-43FE-BAE1-665AE86F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C067-3F0D-4AC9-AA70-80304191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3072-0869-4C4E-ABE1-10A37CD3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3F9-A697-4EA3-AE60-E6226902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ABCAE-70C1-4460-9669-FFCDFE56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4D52-C786-4902-B30E-7F7786F2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F7FB-B8AD-4490-89AA-D5F7B252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48D6-9C9A-45AD-B9E1-5C750048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CAADB-8C32-4800-823E-84B54FF1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1FB8-EBC7-47DC-A67A-CB1DF5BC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DA176-4481-43B9-A169-DF2A23B6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7218-22BC-4EC7-9FBF-AF82B96A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C2504-542A-4149-9D40-A1F0147D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FFFFD-D214-4205-8D89-8827E46C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75A-E4AA-4E8F-8D99-C358A73D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82B06-BFC6-4C6B-9240-FF8567A4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AB408-F861-4D2B-AAFA-20BCE211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B1C1-B665-4EBF-877F-1C055194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AF129-4519-4A2F-BBA2-A05B3DB1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D3BF1-76FE-4918-9FBE-E4F56F2F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D4182-C3FF-4157-B4C2-05D42F28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C3DBA-DFF0-43A1-AA04-883C818F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79CB-67AC-4F1D-B54B-26ACDCB9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3CB49-654E-4C16-94E1-D0265933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45E-C925-46CE-933E-7DAF7DDA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865-2991-44CE-A1FD-946804F8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BA2-9FAF-4661-B40C-1CCA6753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4B7-74CE-4C7D-B8C1-7725F4C0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F8A-1488-4EF7-B939-E8EEBA07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B589-1B08-4A23-BBEE-9C55326DB52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3ADC-0520-45AC-8BD5-20231148B230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3563-CCF2-4555-B16C-36D1AB4B3E9B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F21D-7720-4292-AE27-4E78C5A5481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204840" y="380880"/>
            <a:ext cx="8688240" cy="11912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3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: The Classification of Living Organisms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cs typeface="Majalla UI"/>
              </a:rPr>
              <a:t>تصنيف الكائنات ال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700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79280" y="2249280"/>
            <a:ext cx="878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Taxonomy: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is that branch of biology, concerned with the grouping and naming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تسمي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modern taxonomic system was developed by the Swedish botanist Carolus Linnae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كارلوس لينيوس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707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788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lassified all known organisms into two large kingdom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a) Kingdom Plantae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b) Kingdom Animalia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ملكة الحيوان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nnaeus developed a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level classification system based on similarities between organism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Kingdom      Phylum      Class      Order      Family      Genus     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مملك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ea typeface="Majalla UI"/>
              </a:rPr>
              <a:t> شعب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طائف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رتبة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عائلة 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جنس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      </a:t>
            </a:r>
            <a:r>
              <a:rPr b="0" lang="ar-SA" sz="2200" spc="-1" strike="noStrike">
                <a:solidFill>
                  <a:srgbClr val="0000cc"/>
                </a:solidFill>
                <a:latin typeface="Constantia"/>
                <a:cs typeface="Majalla UI"/>
              </a:rPr>
              <a:t>نوع</a:t>
            </a:r>
            <a:r>
              <a:rPr b="0" lang="en-US" sz="2200" spc="-1" strike="noStrike">
                <a:solidFill>
                  <a:srgbClr val="0000cc"/>
                </a:solidFill>
                <a:latin typeface="Constanti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66680" y="17524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Taxonomy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لم التصني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2"/>
          <p:cNvGrpSpPr/>
          <p:nvPr/>
        </p:nvGrpSpPr>
        <p:grpSpPr>
          <a:xfrm>
            <a:off x="1403280" y="6163920"/>
            <a:ext cx="6288480" cy="720"/>
            <a:chOff x="1403280" y="6163920"/>
            <a:chExt cx="6288480" cy="720"/>
          </a:xfrm>
        </p:grpSpPr>
        <p:cxnSp>
          <p:nvCxnSpPr>
            <p:cNvPr id="200" name="Straight Arrow Connector 4"/>
            <p:cNvCxnSpPr/>
            <p:nvPr/>
          </p:nvCxnSpPr>
          <p:spPr>
            <a:xfrm>
              <a:off x="140328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1" name="Straight Arrow Connector 13"/>
            <p:cNvCxnSpPr/>
            <p:nvPr/>
          </p:nvCxnSpPr>
          <p:spPr>
            <a:xfrm>
              <a:off x="2765160" y="6163920"/>
              <a:ext cx="36720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2" name="Straight Arrow Connector 14"/>
            <p:cNvCxnSpPr/>
            <p:nvPr/>
          </p:nvCxnSpPr>
          <p:spPr>
            <a:xfrm>
              <a:off x="380340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3" name="Straight Arrow Connector 15"/>
            <p:cNvCxnSpPr/>
            <p:nvPr/>
          </p:nvCxnSpPr>
          <p:spPr>
            <a:xfrm>
              <a:off x="492588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4" name="Straight Arrow Connector 16"/>
            <p:cNvCxnSpPr/>
            <p:nvPr/>
          </p:nvCxnSpPr>
          <p:spPr>
            <a:xfrm>
              <a:off x="614988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5" name="Straight Arrow Connector 17"/>
            <p:cNvCxnSpPr/>
            <p:nvPr/>
          </p:nvCxnSpPr>
          <p:spPr>
            <a:xfrm>
              <a:off x="7326360" y="616392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06" name="Group 11"/>
          <p:cNvGrpSpPr/>
          <p:nvPr/>
        </p:nvGrpSpPr>
        <p:grpSpPr>
          <a:xfrm>
            <a:off x="1403280" y="6524280"/>
            <a:ext cx="6288480" cy="720"/>
            <a:chOff x="1403280" y="6524280"/>
            <a:chExt cx="6288480" cy="720"/>
          </a:xfrm>
        </p:grpSpPr>
        <p:cxnSp>
          <p:nvCxnSpPr>
            <p:cNvPr id="207" name="Straight Arrow Connector 27"/>
            <p:cNvCxnSpPr/>
            <p:nvPr/>
          </p:nvCxnSpPr>
          <p:spPr>
            <a:xfrm>
              <a:off x="140328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8" name="Straight Arrow Connector 28"/>
            <p:cNvCxnSpPr/>
            <p:nvPr/>
          </p:nvCxnSpPr>
          <p:spPr>
            <a:xfrm>
              <a:off x="2765160" y="6524280"/>
              <a:ext cx="36720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09" name="Straight Arrow Connector 29"/>
            <p:cNvCxnSpPr/>
            <p:nvPr/>
          </p:nvCxnSpPr>
          <p:spPr>
            <a:xfrm>
              <a:off x="380340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10" name="Straight Arrow Connector 30"/>
            <p:cNvCxnSpPr/>
            <p:nvPr/>
          </p:nvCxnSpPr>
          <p:spPr>
            <a:xfrm>
              <a:off x="492588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11" name="Straight Arrow Connector 31"/>
            <p:cNvCxnSpPr/>
            <p:nvPr/>
          </p:nvCxnSpPr>
          <p:spPr>
            <a:xfrm>
              <a:off x="614988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12" name="Straight Arrow Connector 32"/>
            <p:cNvCxnSpPr/>
            <p:nvPr/>
          </p:nvCxnSpPr>
          <p:spPr>
            <a:xfrm>
              <a:off x="7326360" y="6524280"/>
              <a:ext cx="3657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9280" y="376200"/>
            <a:ext cx="878544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nnaeus classified species  as the smallest unit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pecies is a Latin word meaning “kind” or “appearance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ces between species based o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rphological difference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ختلافات شكلي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otential to interbreed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درة على التزاوج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ith each other in nature to produce fertile offspring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نسل خصيب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obert Whittaker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روبرت وايتكر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69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proposed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fiv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kingdoms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-4680" y="3645000"/>
            <a:ext cx="9113760" cy="2288160"/>
            <a:chOff x="-4680" y="3645000"/>
            <a:chExt cx="9113760" cy="2288160"/>
          </a:xfrm>
        </p:grpSpPr>
        <p:grpSp>
          <p:nvGrpSpPr>
            <p:cNvPr id="215" name="Group 4"/>
            <p:cNvGrpSpPr/>
            <p:nvPr/>
          </p:nvGrpSpPr>
          <p:grpSpPr>
            <a:xfrm>
              <a:off x="-4680" y="3660840"/>
              <a:ext cx="7731720" cy="1640160"/>
              <a:chOff x="-4680" y="3660840"/>
              <a:chExt cx="7731720" cy="1640160"/>
            </a:xfrm>
          </p:grpSpPr>
          <p:sp>
            <p:nvSpPr>
              <p:cNvPr id="216" name="Text Box 4"/>
              <p:cNvSpPr/>
              <p:nvPr/>
            </p:nvSpPr>
            <p:spPr>
              <a:xfrm>
                <a:off x="-4680" y="4292280"/>
                <a:ext cx="28954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1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Kingdom: Animalia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مملكة الحيوا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Group 10"/>
              <p:cNvGrpSpPr/>
              <p:nvPr/>
            </p:nvGrpSpPr>
            <p:grpSpPr>
              <a:xfrm>
                <a:off x="1415160" y="3660840"/>
                <a:ext cx="6311880" cy="1466640"/>
                <a:chOff x="1415160" y="3660840"/>
                <a:chExt cx="6311880" cy="1466640"/>
              </a:xfrm>
            </p:grpSpPr>
            <p:sp>
              <p:nvSpPr>
                <p:cNvPr id="218" name="Line 12"/>
                <p:cNvSpPr/>
                <p:nvPr/>
              </p:nvSpPr>
              <p:spPr>
                <a:xfrm>
                  <a:off x="1415160" y="3660840"/>
                  <a:ext cx="6311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2886480" y="3660840"/>
                  <a:ext cx="0" cy="1466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Line 14"/>
            <p:cNvSpPr/>
            <p:nvPr/>
          </p:nvSpPr>
          <p:spPr>
            <a:xfrm>
              <a:off x="7712640" y="3645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>
              <a:off x="1426680" y="3645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6128280" y="365652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"/>
            <p:cNvSpPr/>
            <p:nvPr/>
          </p:nvSpPr>
          <p:spPr>
            <a:xfrm>
              <a:off x="1492200" y="5229360"/>
              <a:ext cx="281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2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Kingdom: Plantae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مملكة النب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"/>
            <p:cNvSpPr/>
            <p:nvPr/>
          </p:nvSpPr>
          <p:spPr>
            <a:xfrm>
              <a:off x="4687920" y="5229360"/>
              <a:ext cx="2873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4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Kingdom: Protista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مملكة الطلائعي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"/>
            <p:cNvSpPr/>
            <p:nvPr/>
          </p:nvSpPr>
          <p:spPr>
            <a:xfrm>
              <a:off x="6343920" y="4314960"/>
              <a:ext cx="2765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5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Kingdom: Monera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مملكة البدائي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14"/>
          <p:cNvSpPr/>
          <p:nvPr/>
        </p:nvSpPr>
        <p:spPr>
          <a:xfrm>
            <a:off x="4427640" y="364500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179880" y="4292640"/>
            <a:ext cx="252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3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Kingdom: Fungi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ملكة الفطري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50560" y="1268280"/>
            <a:ext cx="8569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ed b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arolus Linnae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omial nomenclature consists of two nam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rst name  is the organism’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gen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econd name is the organism’s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pec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What rules are used to write scientific nam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rst letter of the genus is always capitaliz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rst letter of the species is always lowerc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Calibri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tific names of organisms are always italicized  or underlin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Homo </a:t>
            </a:r>
            <a:r>
              <a:rPr b="0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hich means “wise ma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نسان العا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76320" y="333360"/>
            <a:ext cx="88390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Binomial nomenclature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سمية الثن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754280" y="1268280"/>
            <a:ext cx="5697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  Mammalia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 Primate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Hominidae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Constantia"/>
              </a:rPr>
              <a:t>Homo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i="1" lang="en-US" sz="28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436680" y="333360"/>
            <a:ext cx="82389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Systematic position of human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Traditional Arabic"/>
              </a:rPr>
              <a:t>الوضع التقسيمي للإنس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084320" y="333360"/>
            <a:ext cx="7016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First: Kingdom of Monera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ملكة البدائ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9280" y="1268280"/>
            <a:ext cx="87854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 the organisms of this kingdom are prokaryote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.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بدائية النوا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means all cells do not have nuclear membran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y are unicellular organism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كائنات وحيدة الخل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kingdom is divided into two groups,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a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b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nera exist in habitat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وطن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at are too cold, too hot, too salty, too acidic, or too alkalin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6"/>
          <p:cNvSpPr/>
          <p:nvPr/>
        </p:nvSpPr>
        <p:spPr>
          <a:xfrm>
            <a:off x="393840" y="13413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33200" y="333360"/>
            <a:ext cx="8893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Classification of Kingdom Monera Based on Mode of Nutrition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Traditional Arabic"/>
              </a:rPr>
              <a:t>طريقة التغذ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"/>
          <p:cNvGrpSpPr/>
          <p:nvPr/>
        </p:nvGrpSpPr>
        <p:grpSpPr>
          <a:xfrm>
            <a:off x="250920" y="2651040"/>
            <a:ext cx="8569080" cy="3310560"/>
            <a:chOff x="250920" y="2651040"/>
            <a:chExt cx="8569080" cy="3310560"/>
          </a:xfrm>
        </p:grpSpPr>
        <p:grpSp>
          <p:nvGrpSpPr>
            <p:cNvPr id="240" name="Group 3"/>
            <p:cNvGrpSpPr/>
            <p:nvPr/>
          </p:nvGrpSpPr>
          <p:grpSpPr>
            <a:xfrm>
              <a:off x="250920" y="2651040"/>
              <a:ext cx="6911280" cy="703800"/>
              <a:chOff x="250920" y="2651040"/>
              <a:chExt cx="6911280" cy="703800"/>
            </a:xfrm>
          </p:grpSpPr>
          <p:sp>
            <p:nvSpPr>
              <p:cNvPr id="241" name="Text Box 4"/>
              <p:cNvSpPr/>
              <p:nvPr/>
            </p:nvSpPr>
            <p:spPr>
              <a:xfrm>
                <a:off x="250920" y="2651040"/>
                <a:ext cx="3106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1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Autotrophs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ذاتي التغذي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4"/>
              <p:cNvSpPr/>
              <p:nvPr/>
            </p:nvSpPr>
            <p:spPr>
              <a:xfrm>
                <a:off x="3357360" y="2651040"/>
                <a:ext cx="38048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Heterotrophs 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غير ذاتي التغذي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4"/>
            <p:cNvGrpSpPr/>
            <p:nvPr/>
          </p:nvGrpSpPr>
          <p:grpSpPr>
            <a:xfrm>
              <a:off x="1978920" y="3011040"/>
              <a:ext cx="5484600" cy="1656720"/>
              <a:chOff x="1978920" y="3011040"/>
              <a:chExt cx="5484600" cy="1656720"/>
            </a:xfrm>
          </p:grpSpPr>
          <p:sp>
            <p:nvSpPr>
              <p:cNvPr id="244" name="Line 14"/>
              <p:cNvSpPr/>
              <p:nvPr/>
            </p:nvSpPr>
            <p:spPr>
              <a:xfrm>
                <a:off x="4758480" y="3011040"/>
                <a:ext cx="0" cy="64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25"/>
              <p:cNvGrpSpPr/>
              <p:nvPr/>
            </p:nvGrpSpPr>
            <p:grpSpPr>
              <a:xfrm>
                <a:off x="1978920" y="3267720"/>
                <a:ext cx="4596480" cy="1400040"/>
                <a:chOff x="1978920" y="3267720"/>
                <a:chExt cx="4596480" cy="1400040"/>
              </a:xfrm>
            </p:grpSpPr>
            <p:grpSp>
              <p:nvGrpSpPr>
                <p:cNvPr id="246" name="Group 3"/>
                <p:cNvGrpSpPr/>
                <p:nvPr/>
              </p:nvGrpSpPr>
              <p:grpSpPr>
                <a:xfrm>
                  <a:off x="1978920" y="3267720"/>
                  <a:ext cx="4596480" cy="1399680"/>
                  <a:chOff x="1978920" y="3267720"/>
                  <a:chExt cx="4596480" cy="1399680"/>
                </a:xfrm>
              </p:grpSpPr>
              <p:grpSp>
                <p:nvGrpSpPr>
                  <p:cNvPr id="247" name="Group 10"/>
                  <p:cNvGrpSpPr/>
                  <p:nvPr/>
                </p:nvGrpSpPr>
                <p:grpSpPr>
                  <a:xfrm>
                    <a:off x="2902320" y="3267720"/>
                    <a:ext cx="3672000" cy="365040"/>
                    <a:chOff x="2902320" y="3267720"/>
                    <a:chExt cx="3672000" cy="365040"/>
                  </a:xfrm>
                </p:grpSpPr>
                <p:sp>
                  <p:nvSpPr>
                    <p:cNvPr id="248" name="Line 12"/>
                    <p:cNvSpPr/>
                    <p:nvPr/>
                  </p:nvSpPr>
                  <p:spPr>
                    <a:xfrm>
                      <a:off x="2902320" y="3278880"/>
                      <a:ext cx="3672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3"/>
                    <p:cNvSpPr/>
                    <p:nvPr/>
                  </p:nvSpPr>
                  <p:spPr>
                    <a:xfrm>
                      <a:off x="2902320" y="3267720"/>
                      <a:ext cx="0" cy="36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13"/>
                  <p:cNvSpPr/>
                  <p:nvPr/>
                </p:nvSpPr>
                <p:spPr>
                  <a:xfrm>
                    <a:off x="6575400" y="3274200"/>
                    <a:ext cx="0" cy="365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4"/>
                  <p:cNvSpPr/>
                  <p:nvPr/>
                </p:nvSpPr>
                <p:spPr>
                  <a:xfrm>
                    <a:off x="1978920" y="3658680"/>
                    <a:ext cx="1860480" cy="100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alibri"/>
                      </a:rPr>
                      <a:t>a)</a:t>
                    </a: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 </a:t>
                    </a: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Saprophyte </a:t>
                    </a:r>
                    <a:r>
                      <a:rPr b="0" lang="ar-SA" sz="2000" spc="-1" strike="noStrike">
                        <a:solidFill>
                          <a:srgbClr val="ff0000"/>
                        </a:solidFill>
                        <a:latin typeface="Constantia"/>
                        <a:cs typeface="Majalla UI"/>
                      </a:rPr>
                      <a:t>ترمم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Text Box 4"/>
                <p:cNvSpPr/>
                <p:nvPr/>
              </p:nvSpPr>
              <p:spPr>
                <a:xfrm>
                  <a:off x="3863520" y="3659040"/>
                  <a:ext cx="18140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b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Parasitism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تطفل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Text Box 4"/>
              <p:cNvSpPr/>
              <p:nvPr/>
            </p:nvSpPr>
            <p:spPr>
              <a:xfrm>
                <a:off x="5712840" y="3659040"/>
                <a:ext cx="1750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c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ymbiosis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تكاف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1"/>
            <p:cNvGrpSpPr/>
            <p:nvPr/>
          </p:nvGrpSpPr>
          <p:grpSpPr>
            <a:xfrm>
              <a:off x="4836960" y="4307040"/>
              <a:ext cx="3983040" cy="1654560"/>
              <a:chOff x="4836960" y="4307040"/>
              <a:chExt cx="3983040" cy="1654560"/>
            </a:xfrm>
          </p:grpSpPr>
          <p:grpSp>
            <p:nvGrpSpPr>
              <p:cNvPr id="255" name="Group 35"/>
              <p:cNvGrpSpPr/>
              <p:nvPr/>
            </p:nvGrpSpPr>
            <p:grpSpPr>
              <a:xfrm>
                <a:off x="4836960" y="4593240"/>
                <a:ext cx="3983040" cy="1368360"/>
                <a:chOff x="4836960" y="4593240"/>
                <a:chExt cx="3983040" cy="1368360"/>
              </a:xfrm>
            </p:grpSpPr>
            <p:grpSp>
              <p:nvGrpSpPr>
                <p:cNvPr id="256" name="Group 3"/>
                <p:cNvGrpSpPr/>
                <p:nvPr/>
              </p:nvGrpSpPr>
              <p:grpSpPr>
                <a:xfrm>
                  <a:off x="4836960" y="4593240"/>
                  <a:ext cx="2760120" cy="1063440"/>
                  <a:chOff x="4836960" y="4593240"/>
                  <a:chExt cx="2760120" cy="1063440"/>
                </a:xfrm>
              </p:grpSpPr>
              <p:grpSp>
                <p:nvGrpSpPr>
                  <p:cNvPr id="257" name="Group 10"/>
                  <p:cNvGrpSpPr/>
                  <p:nvPr/>
                </p:nvGrpSpPr>
                <p:grpSpPr>
                  <a:xfrm>
                    <a:off x="5713920" y="4593240"/>
                    <a:ext cx="1882800" cy="365040"/>
                    <a:chOff x="5713920" y="4593240"/>
                    <a:chExt cx="1882800" cy="365040"/>
                  </a:xfrm>
                </p:grpSpPr>
                <p:sp>
                  <p:nvSpPr>
                    <p:cNvPr id="258" name="Line 12"/>
                    <p:cNvSpPr/>
                    <p:nvPr/>
                  </p:nvSpPr>
                  <p:spPr>
                    <a:xfrm>
                      <a:off x="5713920" y="4604400"/>
                      <a:ext cx="18828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3"/>
                    <p:cNvSpPr/>
                    <p:nvPr/>
                  </p:nvSpPr>
                  <p:spPr>
                    <a:xfrm>
                      <a:off x="5725080" y="4593240"/>
                      <a:ext cx="0" cy="36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0" name="Line 13"/>
                  <p:cNvSpPr/>
                  <p:nvPr/>
                </p:nvSpPr>
                <p:spPr>
                  <a:xfrm>
                    <a:off x="7597080" y="4599720"/>
                    <a:ext cx="0" cy="365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Text Box 4"/>
                  <p:cNvSpPr/>
                  <p:nvPr/>
                </p:nvSpPr>
                <p:spPr>
                  <a:xfrm>
                    <a:off x="4836960" y="4952880"/>
                    <a:ext cx="180036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alibri"/>
                      </a:rPr>
                      <a:t>i)</a:t>
                    </a:r>
                    <a:r>
                      <a:rPr b="1" lang="en-GB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 </a:t>
                    </a: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Constantia"/>
                      </a:rPr>
                      <a:t>Mutualism </a:t>
                    </a:r>
                    <a:r>
                      <a:rPr b="0" lang="ar-SA" sz="2000" spc="-1" strike="noStrike">
                        <a:solidFill>
                          <a:srgbClr val="ff0000"/>
                        </a:solidFill>
                        <a:latin typeface="Constantia"/>
                        <a:cs typeface="Majalla UI"/>
                      </a:rPr>
                      <a:t>تقايض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Text Box 4"/>
                <p:cNvSpPr/>
                <p:nvPr/>
              </p:nvSpPr>
              <p:spPr>
                <a:xfrm>
                  <a:off x="6421320" y="4952880"/>
                  <a:ext cx="239868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ii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Commensalism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تعاي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Straight Connector 6"/>
              <p:cNvSpPr/>
              <p:nvPr/>
            </p:nvSpPr>
            <p:spPr>
              <a:xfrm flipV="1">
                <a:off x="6678360" y="4307040"/>
                <a:ext cx="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133200" y="369720"/>
            <a:ext cx="88934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utotrophic bacter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bacteria which prepare their ow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eterotrophic bacte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which are dependent on other organisms for their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Parasitic bacte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obtain their food from the tissues of living organisms (host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عائ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and cause harm to the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aprophytic bacter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cteria obtain their food from dead organic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utualism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relationship between individuals of different species in which both individuals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ommensalism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relationship between individuals of different species in which one organism benefits without affecting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30000"/>
              </a:lnSpc>
              <a:buClr>
                <a:srgbClr val="00b05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8000" y="1052640"/>
            <a:ext cx="5256000" cy="65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teria can be classified by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shape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o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ill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عصوي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Cocc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كرو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Spirillum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حلزوني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Different types of </a:t>
            </a: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diseases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are caused by bacteria include: cholera, many sexually disease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راض الجنسية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سمم الغذائي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owever, more bacteria are beneficial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فيدة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 algn="just">
              <a:lnSpc>
                <a:spcPct val="120000"/>
              </a:lnSpc>
              <a:buClr>
                <a:srgbClr val="339933"/>
              </a:buClr>
              <a:buSzPct val="85000"/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أمعائنا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 algn="just">
              <a:lnSpc>
                <a:spcPct val="120000"/>
              </a:lnSpc>
              <a:buClr>
                <a:srgbClr val="339933"/>
              </a:buClr>
              <a:buSzPct val="85000"/>
              <a:buFont typeface="Courier New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084320" y="333360"/>
            <a:ext cx="7016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A)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http://www.tv411.org/sites/default/files/questions/Science1_A3_Q11-13.png"/>
          <p:cNvPicPr/>
          <p:nvPr/>
        </p:nvPicPr>
        <p:blipFill>
          <a:blip r:embed="rId1"/>
          <a:stretch/>
        </p:blipFill>
        <p:spPr>
          <a:xfrm>
            <a:off x="5364000" y="2817720"/>
            <a:ext cx="3672000" cy="2340000"/>
          </a:xfrm>
          <a:prstGeom prst="rect">
            <a:avLst/>
          </a:prstGeom>
          <a:ln w="19080">
            <a:solidFill>
              <a:srgbClr val="00b05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8000" y="1125360"/>
            <a:ext cx="496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rchaea 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a)-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onstantia"/>
              </a:rPr>
              <a:t>Halophiles</a:t>
            </a: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حب للملوح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ve in saline waters (high salt concentrations) as the Great Salt Lake and the Dead Se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me species require an extremely salty environment to grow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nstantia"/>
              </a:rPr>
              <a:t>b)-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onstantia"/>
              </a:rPr>
              <a:t>Thermophiles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live in hot environments (hot spring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ينابيع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The optimum temperatures for most thermophiles ar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60 - 80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39384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084320" y="333360"/>
            <a:ext cx="7016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B) Archa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http://www.ucmp.berkeley.edu/archaea/NRPobsidianpool.jpg"/>
          <p:cNvPicPr/>
          <p:nvPr/>
        </p:nvPicPr>
        <p:blipFill>
          <a:blip r:embed="rId1"/>
          <a:stretch/>
        </p:blipFill>
        <p:spPr>
          <a:xfrm>
            <a:off x="5172120" y="1020600"/>
            <a:ext cx="3863880" cy="2567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https://student.societyforscience.org/sites/student.societyforscience.org/files/main/articles/PICT0012-Grand-Prismatic-Spring-at-Midway-Geyser-Basin-1.jpg"/>
          <p:cNvPicPr/>
          <p:nvPr/>
        </p:nvPicPr>
        <p:blipFill>
          <a:blip r:embed="rId2"/>
          <a:stretch/>
        </p:blipFill>
        <p:spPr>
          <a:xfrm>
            <a:off x="5172120" y="3716280"/>
            <a:ext cx="38844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Mohammed Albeshr</cp:lastModifiedBy>
  <dcterms:modified xsi:type="dcterms:W3CDTF">2017-11-06T21:17:08Z</dcterms:modified>
  <cp:revision>192</cp:revision>
  <dc:subject/>
  <dc:title>Principals of General Zoology (Zoo-103)</dc:title>
</cp:coreProperties>
</file>