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D96-0632-44C3-9015-FE87C205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1B2-7F5F-46AC-8DBC-68C77D9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252-0B59-4100-80D0-B1B6F0C8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3F1-5529-4C51-8D52-983E593B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8653-8B52-49C3-86DF-BAAEE350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F9D-FFA2-4B8B-A452-D441C4C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ECF-BB05-40D2-BBDA-CFE0798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2443-F35D-4580-B01A-D8D9B6A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BDC-BA63-4C91-B4E7-CA9873A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B2DA-A25A-4E3B-B0D2-DE6F4FD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C576-0186-41AD-B695-FA3DFE4E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13B-65A9-4E07-9B78-A5C814A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A7E-29D5-4F6C-AB72-A707120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07F6-312F-422D-8B9D-CEE8B9A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628-407B-4156-A1D2-36B9FF7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F893-B879-417B-B807-E4BF7A1A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08F-CAA9-4315-A4F8-88DA96AB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398B-F40C-48D7-8536-957B9160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68D9-61EF-46FA-92BE-C532F52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0437-C9F8-4C27-941D-936D7FDA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AFFD-75D5-406A-A628-F1434FD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49ED-DCB6-4AE5-8E4A-D03B313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72B-A7D5-4247-AB83-53B835B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1061-9FE4-495F-9401-61AE50A9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BC6F-AEA9-45AD-AAAD-2231C95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DE93-E8B0-4FF0-B8DF-CDCF7B7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DE49-F243-43E5-9315-777BA04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FFCE-E382-43AD-9399-0ABFB56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4371-80E3-4F4A-88A0-2F7C10B3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33CB-CDFE-47D1-858A-5CF590A8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C534-3642-4772-99A2-C2EB38D8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E4F9-1CC9-4007-90A5-6DE8574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ADA9-1041-42EA-BCE5-C6B0199A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F8D-3780-44E7-BF1F-8A40E1E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EA65-71F1-4377-9D04-4D3F680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0E07-DA55-4AD0-924F-889E6B84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993B-A2E7-4311-9433-180504C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2027-5029-4F57-8DB1-7921105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E88C-60EB-4779-AB77-FBD26FD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565E-9ED1-497E-8A03-5A4407E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78F5-B684-4EF1-BCDA-6908F23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E440-C950-4C13-BB35-DE5E5E6D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8B92-91AA-41F0-96DB-43AC9FFB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644-E8B1-4335-A511-16F40C4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988-D82C-429F-A063-382330E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E53-D6F2-4D69-9C8B-7FD7C9B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DCE-93D8-4E88-BD70-11DCED5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1F9-CD68-4388-8291-2532EA9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2C52-5A1D-4656-B9DB-877D2C8D87A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865C-0507-4CE7-B9FC-4B917F90F2B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840-BAE4-4D1E-A7A3-C7AF190ED3D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0C2-CF0D-41F2-9338-82E6A41DDA8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204840" y="380880"/>
            <a:ext cx="8688240" cy="11912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: The Classification of Living Organisms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صنيف 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700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224928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Taxonomy: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is that branch of biology, concerned with the grouping and nam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سم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odern taxonomic system was developed by the Swedish botanist Carolus Linnae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رلوس لينيوس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8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assified all known organisms into two large kingdom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a) Kingdom Plantae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b) Kingdom Animali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developed a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evel classification system based on similarities between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ingdom      Phylum      Class      Order      Family      Genus     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مملك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ea typeface="Majalla UI"/>
              </a:rPr>
              <a:t> شع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طائف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رت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عائلة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جنس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نوع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6680" y="1752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xonomy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تصن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403280" y="6163920"/>
            <a:ext cx="6288480" cy="720"/>
            <a:chOff x="1403280" y="6163920"/>
            <a:chExt cx="6288480" cy="720"/>
          </a:xfrm>
        </p:grpSpPr>
        <p:cxnSp>
          <p:nvCxnSpPr>
            <p:cNvPr id="200" name="Straight Arrow Connector 4"/>
            <p:cNvCxnSpPr/>
            <p:nvPr/>
          </p:nvCxnSpPr>
          <p:spPr>
            <a:xfrm>
              <a:off x="14032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13"/>
            <p:cNvCxnSpPr/>
            <p:nvPr/>
          </p:nvCxnSpPr>
          <p:spPr>
            <a:xfrm>
              <a:off x="2765160" y="616392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14"/>
            <p:cNvCxnSpPr/>
            <p:nvPr/>
          </p:nvCxnSpPr>
          <p:spPr>
            <a:xfrm>
              <a:off x="380340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15"/>
            <p:cNvCxnSpPr/>
            <p:nvPr/>
          </p:nvCxnSpPr>
          <p:spPr>
            <a:xfrm>
              <a:off x="4925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4" name="Straight Arrow Connector 16"/>
            <p:cNvCxnSpPr/>
            <p:nvPr/>
          </p:nvCxnSpPr>
          <p:spPr>
            <a:xfrm>
              <a:off x="6149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5" name="Straight Arrow Connector 17"/>
            <p:cNvCxnSpPr/>
            <p:nvPr/>
          </p:nvCxnSpPr>
          <p:spPr>
            <a:xfrm>
              <a:off x="732636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06" name="Group 11"/>
          <p:cNvGrpSpPr/>
          <p:nvPr/>
        </p:nvGrpSpPr>
        <p:grpSpPr>
          <a:xfrm>
            <a:off x="1403280" y="6524280"/>
            <a:ext cx="6288480" cy="720"/>
            <a:chOff x="1403280" y="6524280"/>
            <a:chExt cx="6288480" cy="720"/>
          </a:xfrm>
        </p:grpSpPr>
        <p:cxnSp>
          <p:nvCxnSpPr>
            <p:cNvPr id="207" name="Straight Arrow Connector 27"/>
            <p:cNvCxnSpPr/>
            <p:nvPr/>
          </p:nvCxnSpPr>
          <p:spPr>
            <a:xfrm>
              <a:off x="14032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28"/>
            <p:cNvCxnSpPr/>
            <p:nvPr/>
          </p:nvCxnSpPr>
          <p:spPr>
            <a:xfrm>
              <a:off x="2765160" y="652428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29"/>
            <p:cNvCxnSpPr/>
            <p:nvPr/>
          </p:nvCxnSpPr>
          <p:spPr>
            <a:xfrm>
              <a:off x="380340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30"/>
            <p:cNvCxnSpPr/>
            <p:nvPr/>
          </p:nvCxnSpPr>
          <p:spPr>
            <a:xfrm>
              <a:off x="4925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31"/>
            <p:cNvCxnSpPr/>
            <p:nvPr/>
          </p:nvCxnSpPr>
          <p:spPr>
            <a:xfrm>
              <a:off x="6149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32"/>
            <p:cNvCxnSpPr/>
            <p:nvPr/>
          </p:nvCxnSpPr>
          <p:spPr>
            <a:xfrm>
              <a:off x="732636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376200"/>
            <a:ext cx="87854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classified species  as the smallest uni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es is a Latin word meaning “kind” or “appearance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ces between species based 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phological differenc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ختلافات شك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otential to interbre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درة على التزاوج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th each other in nature to produce fertile offspr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نسل خصي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obert Whittaker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وبرت وايتكر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9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propos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kingdom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-4680" y="3645000"/>
            <a:ext cx="9113760" cy="2288160"/>
            <a:chOff x="-4680" y="3645000"/>
            <a:chExt cx="9113760" cy="2288160"/>
          </a:xfrm>
        </p:grpSpPr>
        <p:grpSp>
          <p:nvGrpSpPr>
            <p:cNvPr id="215" name="Group 4"/>
            <p:cNvGrpSpPr/>
            <p:nvPr/>
          </p:nvGrpSpPr>
          <p:grpSpPr>
            <a:xfrm>
              <a:off x="-4680" y="3660840"/>
              <a:ext cx="7731720" cy="1640160"/>
              <a:chOff x="-4680" y="3660840"/>
              <a:chExt cx="7731720" cy="1640160"/>
            </a:xfrm>
          </p:grpSpPr>
          <p:sp>
            <p:nvSpPr>
              <p:cNvPr id="216" name="Text Box 4"/>
              <p:cNvSpPr/>
              <p:nvPr/>
            </p:nvSpPr>
            <p:spPr>
              <a:xfrm>
                <a:off x="-4680" y="4292280"/>
                <a:ext cx="2895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Kingdom: Animalia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مملكة الحيوا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10"/>
              <p:cNvGrpSpPr/>
              <p:nvPr/>
            </p:nvGrpSpPr>
            <p:grpSpPr>
              <a:xfrm>
                <a:off x="1415160" y="3660840"/>
                <a:ext cx="6311880" cy="1466640"/>
                <a:chOff x="1415160" y="3660840"/>
                <a:chExt cx="6311880" cy="1466640"/>
              </a:xfrm>
            </p:grpSpPr>
            <p:sp>
              <p:nvSpPr>
                <p:cNvPr id="218" name="Line 12"/>
                <p:cNvSpPr/>
                <p:nvPr/>
              </p:nvSpPr>
              <p:spPr>
                <a:xfrm>
                  <a:off x="1415160" y="3660840"/>
                  <a:ext cx="631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2886480" y="3660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Line 14"/>
            <p:cNvSpPr/>
            <p:nvPr/>
          </p:nvSpPr>
          <p:spPr>
            <a:xfrm>
              <a:off x="771264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42668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6128280" y="3656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1492200" y="5229360"/>
              <a:ext cx="281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lantae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نب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"/>
            <p:cNvSpPr/>
            <p:nvPr/>
          </p:nvSpPr>
          <p:spPr>
            <a:xfrm>
              <a:off x="4687920" y="5229360"/>
              <a:ext cx="287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rotist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طلائع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6343920" y="4314960"/>
              <a:ext cx="27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5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Moner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بدائ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14"/>
          <p:cNvSpPr/>
          <p:nvPr/>
        </p:nvSpPr>
        <p:spPr>
          <a:xfrm>
            <a:off x="4427640" y="3645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79880" y="4292640"/>
            <a:ext cx="25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3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Kingdom: Fungi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فطر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50560" y="126828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ed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olus Linna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omial nomenclature consists of two na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name 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cond name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pe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hat rules are used to write scientific nam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genus is always capital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species is always lowerc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names of organisms are always italicized  or underl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means “wise ma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 العا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inomial nomenclature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ية الثن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54280" y="1268280"/>
            <a:ext cx="5697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 Mam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Pri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Hominida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Homo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8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6680" y="333360"/>
            <a:ext cx="8238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ystematic position of huma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وضع التقسيمي ل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First: Kingdom of Moner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بدائ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268280"/>
            <a:ext cx="8785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organisms of this kingdom are prokaryote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.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بدائية 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means all cells do not have nuclear membra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unicellular organism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وحيدة الخ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kingdom is divided into two groups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era exist in habitat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وط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too cold, too hot, too salty, too acidic, or too alkali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393840" y="13413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33200" y="333360"/>
            <a:ext cx="8893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Kingdom Monera Based on Mode of Nutritio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طريقة التغذ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50920" y="2651040"/>
            <a:ext cx="8569080" cy="3310560"/>
            <a:chOff x="250920" y="2651040"/>
            <a:chExt cx="8569080" cy="3310560"/>
          </a:xfrm>
        </p:grpSpPr>
        <p:grpSp>
          <p:nvGrpSpPr>
            <p:cNvPr id="240" name="Group 3"/>
            <p:cNvGrpSpPr/>
            <p:nvPr/>
          </p:nvGrpSpPr>
          <p:grpSpPr>
            <a:xfrm>
              <a:off x="250920" y="2651040"/>
              <a:ext cx="6911280" cy="703800"/>
              <a:chOff x="250920" y="2651040"/>
              <a:chExt cx="6911280" cy="703800"/>
            </a:xfrm>
          </p:grpSpPr>
          <p:sp>
            <p:nvSpPr>
              <p:cNvPr id="241" name="Text Box 4"/>
              <p:cNvSpPr/>
              <p:nvPr/>
            </p:nvSpPr>
            <p:spPr>
              <a:xfrm>
                <a:off x="250920" y="2651040"/>
                <a:ext cx="3106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utotroph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4"/>
              <p:cNvSpPr/>
              <p:nvPr/>
            </p:nvSpPr>
            <p:spPr>
              <a:xfrm>
                <a:off x="3357360" y="2651040"/>
                <a:ext cx="3804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Heterotrophs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غير 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4"/>
            <p:cNvGrpSpPr/>
            <p:nvPr/>
          </p:nvGrpSpPr>
          <p:grpSpPr>
            <a:xfrm>
              <a:off x="1978920" y="3011040"/>
              <a:ext cx="5484600" cy="1656720"/>
              <a:chOff x="1978920" y="3011040"/>
              <a:chExt cx="5484600" cy="1656720"/>
            </a:xfrm>
          </p:grpSpPr>
          <p:sp>
            <p:nvSpPr>
              <p:cNvPr id="244" name="Line 14"/>
              <p:cNvSpPr/>
              <p:nvPr/>
            </p:nvSpPr>
            <p:spPr>
              <a:xfrm>
                <a:off x="4758480" y="301104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5"/>
              <p:cNvGrpSpPr/>
              <p:nvPr/>
            </p:nvGrpSpPr>
            <p:grpSpPr>
              <a:xfrm>
                <a:off x="1978920" y="3267720"/>
                <a:ext cx="4596480" cy="1400040"/>
                <a:chOff x="1978920" y="3267720"/>
                <a:chExt cx="4596480" cy="1400040"/>
              </a:xfrm>
            </p:grpSpPr>
            <p:grpSp>
              <p:nvGrpSpPr>
                <p:cNvPr id="246" name="Group 3"/>
                <p:cNvGrpSpPr/>
                <p:nvPr/>
              </p:nvGrpSpPr>
              <p:grpSpPr>
                <a:xfrm>
                  <a:off x="1978920" y="3267720"/>
                  <a:ext cx="4596480" cy="1399680"/>
                  <a:chOff x="1978920" y="3267720"/>
                  <a:chExt cx="4596480" cy="1399680"/>
                </a:xfrm>
              </p:grpSpPr>
              <p:grpSp>
                <p:nvGrpSpPr>
                  <p:cNvPr id="247" name="Group 10"/>
                  <p:cNvGrpSpPr/>
                  <p:nvPr/>
                </p:nvGrpSpPr>
                <p:grpSpPr>
                  <a:xfrm>
                    <a:off x="2902320" y="3267720"/>
                    <a:ext cx="3672000" cy="365040"/>
                    <a:chOff x="2902320" y="3267720"/>
                    <a:chExt cx="3672000" cy="365040"/>
                  </a:xfrm>
                </p:grpSpPr>
                <p:sp>
                  <p:nvSpPr>
                    <p:cNvPr id="248" name="Line 12"/>
                    <p:cNvSpPr/>
                    <p:nvPr/>
                  </p:nvSpPr>
                  <p:spPr>
                    <a:xfrm>
                      <a:off x="2902320" y="3278880"/>
                      <a:ext cx="36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3"/>
                    <p:cNvSpPr/>
                    <p:nvPr/>
                  </p:nvSpPr>
                  <p:spPr>
                    <a:xfrm>
                      <a:off x="2902320" y="326772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13"/>
                  <p:cNvSpPr/>
                  <p:nvPr/>
                </p:nvSpPr>
                <p:spPr>
                  <a:xfrm>
                    <a:off x="6575400" y="327420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4"/>
                  <p:cNvSpPr/>
                  <p:nvPr/>
                </p:nvSpPr>
                <p:spPr>
                  <a:xfrm>
                    <a:off x="1978920" y="3658680"/>
                    <a:ext cx="1860480" cy="100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a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Saprophyte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رم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Text Box 4"/>
                <p:cNvSpPr/>
                <p:nvPr/>
              </p:nvSpPr>
              <p:spPr>
                <a:xfrm>
                  <a:off x="3863520" y="3659040"/>
                  <a:ext cx="1814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b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Parasit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طف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Text Box 4"/>
              <p:cNvSpPr/>
              <p:nvPr/>
            </p:nvSpPr>
            <p:spPr>
              <a:xfrm>
                <a:off x="5712840" y="3659040"/>
                <a:ext cx="1750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c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ymbiosi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تكاف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"/>
            <p:cNvGrpSpPr/>
            <p:nvPr/>
          </p:nvGrpSpPr>
          <p:grpSpPr>
            <a:xfrm>
              <a:off x="4836960" y="4307040"/>
              <a:ext cx="3983040" cy="1654560"/>
              <a:chOff x="4836960" y="4307040"/>
              <a:chExt cx="3983040" cy="1654560"/>
            </a:xfrm>
          </p:grpSpPr>
          <p:grpSp>
            <p:nvGrpSpPr>
              <p:cNvPr id="255" name="Group 35"/>
              <p:cNvGrpSpPr/>
              <p:nvPr/>
            </p:nvGrpSpPr>
            <p:grpSpPr>
              <a:xfrm>
                <a:off x="4836960" y="4593240"/>
                <a:ext cx="3983040" cy="1368360"/>
                <a:chOff x="4836960" y="4593240"/>
                <a:chExt cx="3983040" cy="1368360"/>
              </a:xfrm>
            </p:grpSpPr>
            <p:grpSp>
              <p:nvGrpSpPr>
                <p:cNvPr id="256" name="Group 3"/>
                <p:cNvGrpSpPr/>
                <p:nvPr/>
              </p:nvGrpSpPr>
              <p:grpSpPr>
                <a:xfrm>
                  <a:off x="4836960" y="4593240"/>
                  <a:ext cx="2760120" cy="1063440"/>
                  <a:chOff x="4836960" y="4593240"/>
                  <a:chExt cx="2760120" cy="1063440"/>
                </a:xfrm>
              </p:grpSpPr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5713920" y="4593240"/>
                    <a:ext cx="1882800" cy="365040"/>
                    <a:chOff x="5713920" y="4593240"/>
                    <a:chExt cx="1882800" cy="365040"/>
                  </a:xfrm>
                </p:grpSpPr>
                <p:sp>
                  <p:nvSpPr>
                    <p:cNvPr id="258" name="Line 12"/>
                    <p:cNvSpPr/>
                    <p:nvPr/>
                  </p:nvSpPr>
                  <p:spPr>
                    <a:xfrm>
                      <a:off x="5713920" y="4604400"/>
                      <a:ext cx="1882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3"/>
                    <p:cNvSpPr/>
                    <p:nvPr/>
                  </p:nvSpPr>
                  <p:spPr>
                    <a:xfrm>
                      <a:off x="5725080" y="459324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" name="Line 13"/>
                  <p:cNvSpPr/>
                  <p:nvPr/>
                </p:nvSpPr>
                <p:spPr>
                  <a:xfrm>
                    <a:off x="7597080" y="459972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Text Box 4"/>
                  <p:cNvSpPr/>
                  <p:nvPr/>
                </p:nvSpPr>
                <p:spPr>
                  <a:xfrm>
                    <a:off x="4836960" y="4952880"/>
                    <a:ext cx="180036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i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Mutualism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قايض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Text Box 4"/>
                <p:cNvSpPr/>
                <p:nvPr/>
              </p:nvSpPr>
              <p:spPr>
                <a:xfrm>
                  <a:off x="6421320" y="4952880"/>
                  <a:ext cx="23986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ii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Commensal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عاي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Straight Connector 6"/>
              <p:cNvSpPr/>
              <p:nvPr/>
            </p:nvSpPr>
            <p:spPr>
              <a:xfrm flipV="1">
                <a:off x="6678360" y="43070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33200" y="369720"/>
            <a:ext cx="889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utotrophic bacte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bacteria which prepare their ow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terotroph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which are dependent on other organisms for thei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arasi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the tissues of living organisms (host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ائ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cause harm to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aprophy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dead organic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utualism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lationship between individuals of different species in which both individuals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mmensalism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elationship between individuals of different species in which one organism benefits without affecting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1052640"/>
            <a:ext cx="5256000" cy="65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can be classified by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o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ill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عصو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occ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رو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Spirillum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لزون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fferent types of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disease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re caused by bacteria include: cholera, many sexually disease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الجنسية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م الغذائ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owever, more bacteria are benefic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فيد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ئنا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A)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tv411.org/sites/default/files/questions/Science1_A3_Q11-13.png"/>
          <p:cNvPicPr/>
          <p:nvPr/>
        </p:nvPicPr>
        <p:blipFill>
          <a:blip r:embed="rId1"/>
          <a:stretch/>
        </p:blipFill>
        <p:spPr>
          <a:xfrm>
            <a:off x="5364000" y="2817720"/>
            <a:ext cx="3672000" cy="234000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8000" y="1125360"/>
            <a:ext cx="496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chaea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a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Halophiles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ملوح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ve in saline waters (high salt concentrations) as the Great Salt Lake and the Dead S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species require an extremely salty environment to grow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b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Thermophil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live in hot environments (hot spring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ينابيع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optimum temperatures for most thermophiles ar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60 - 8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)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ucmp.berkeley.edu/archaea/NRPobsidianpool.jpg"/>
          <p:cNvPicPr/>
          <p:nvPr/>
        </p:nvPicPr>
        <p:blipFill>
          <a:blip r:embed="rId1"/>
          <a:stretch/>
        </p:blipFill>
        <p:spPr>
          <a:xfrm>
            <a:off x="5172120" y="1020600"/>
            <a:ext cx="3863880" cy="256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s://student.societyforscience.org/sites/student.societyforscience.org/files/main/articles/PICT0012-Grand-Prismatic-Spring-at-Midway-Geyser-Basin-1.jpg"/>
          <p:cNvPicPr/>
          <p:nvPr/>
        </p:nvPicPr>
        <p:blipFill>
          <a:blip r:embed="rId2"/>
          <a:stretch/>
        </p:blipFill>
        <p:spPr>
          <a:xfrm>
            <a:off x="5172120" y="3716280"/>
            <a:ext cx="3884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Mohammed Albeshr</cp:lastModifiedBy>
  <dcterms:modified xsi:type="dcterms:W3CDTF">2017-11-06T21:17:08Z</dcterms:modified>
  <cp:revision>192</cp:revision>
  <dc:subject/>
  <dc:title>Principals of General Zoology (Zoo-103)</dc:title>
</cp:coreProperties>
</file>