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24C-4F7A-42AD-A3E8-DB041A7A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8AB-CC34-40D3-9B90-51AA8220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BD4-D40D-4112-ACFC-C0512A11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1AE-4583-4AE4-ABF2-90F8D5F5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A024-8132-4EE5-B122-07C6C05E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666-327E-4899-B6D7-2C9A66F8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0CF8-8D83-401A-9D73-3D165040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1830-354D-4E09-A69B-61D25DC9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5877-DE7D-46B9-9A15-80682BFD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2ADA-6E98-468A-A57C-FF458414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3D5C-A5F8-4992-996B-EC1F9CF1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888-A8FC-47EA-85C1-E1AA14B7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A458-4D27-4527-8AB7-3BA442EA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A45C-8024-4E52-8FB8-35EC510E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A7A4-E424-475E-8205-FFCAE15A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647A-C81E-49AD-B373-F8185160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FD6D-469F-487A-A184-3044DEBE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FAC2-6407-4DC6-B294-1AD74D83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FA4A-3C94-45D6-A191-AF2CC89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5CA2-AE66-49B3-9C64-CF78EE14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CF8F-D9CA-4DC1-8E63-4F91E4DE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3A1A-C15B-4C11-9746-B1877C5D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2E8-5185-4FA8-8F73-676372F4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3757-00A1-4492-833E-09D16B98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295B-F4ED-45F9-B82E-28B6454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0F3F-553D-4A22-A987-8D3DB2FC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825B-F7F9-4771-A8D2-A566149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2B94-BF1D-4525-90FB-25DF2107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815D-94C8-476B-89BE-ACAA2EFA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5965-9AF0-4D8E-9D6B-C380CBDF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961C8-BBE1-4F71-A1E6-19BE26D6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FF6F-7167-400C-91E3-F0D3FFB6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B8C54-9CAE-4CE5-855A-CDFBD5BA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D72-9572-4D22-ABAE-F0389B12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CD50-3F3F-46C5-91B5-3BE7BDA9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D518E-8D91-468E-9107-A27D6BB5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4B35-D2D2-4280-93BB-F673B24E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B286-119C-4467-A1CA-20AF638E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1E76-8042-489B-9BC4-56E1AE6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6FB5-560A-4EEE-BE86-D7FFB40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90F46-D138-428D-9B34-B78C92DE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3B431-7AB9-43EB-AD33-9FA7F081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3DDD-CB95-43CE-B880-FD6F3026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5DB-1274-4E91-B83C-B3D3056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7BC-9E85-465A-80B5-96B7119F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260-C334-4B48-A22D-5A82324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D7F-C65F-4A4D-A714-DB4F1BB7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78B-FC62-4836-BFCB-2BCDD624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5543-8DBB-4FA0-AC9D-8BCD28020D1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4F74-91DD-46E6-AB91-F960E0D2E0E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E7E7-48B6-4920-AA21-6A8D00325D9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AD86-FB7C-43A5-BCB3-38B9831563C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د أشرف مشالي</cp:lastModifiedBy>
  <dcterms:modified xsi:type="dcterms:W3CDTF">2013-09-01T08:40:35Z</dcterms:modified>
  <cp:revision>37</cp:revision>
  <dc:subject/>
  <dc:title>Principals of General Zoology (Zoo-103)</dc:title>
</cp:coreProperties>
</file>