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180-AD7B-4CAE-935E-9AA7DE0C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95E-53F9-43A7-B9A3-0BB9BB13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C85-DE1E-47B6-96EA-177C6D57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068-D7B6-4358-98C5-91B9B39E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C608-91EF-445A-9657-17D91E0D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3467-803D-46DE-ACBC-37BCFEDD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0E0A-4521-40EE-B218-31AF6498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4E4D-9698-46D8-A202-060263F5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38C7-6BDB-426D-9FCE-FEE8AD21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5603-9CBC-43C6-A5BA-75DBFDB6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9984-7037-4BDC-BA39-55623428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2F2-3583-4971-9FDA-AE47D143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F3D8-DCFB-46CC-81A9-2E434A20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EF3F-99BA-41F5-80E0-7AF7997B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5D07-585E-456D-9D9D-1336562D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8BF6-CC75-4F8C-88BB-F4E261AC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079E-7F44-46B4-9607-D52DD376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56279-A37E-488E-9E3F-E3E69EF2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E1617-4A2C-4EDB-B198-4117C687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81D72-D575-4E00-8F9B-0A76932A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1FBBA-6987-4CB3-8B25-446E0500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97E6B-CAEA-4015-ACFA-74EB9F3D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BDB-C9BD-4DFD-AF63-E6C9E4CD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FB331-ED83-4808-884E-BBE8D25A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74044-9766-4B48-9FD4-547AD145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0598E-3977-4B7C-BD51-A281ED9C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B3320-34CD-45F5-940F-289FC913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5A40D-A6BF-4EE1-B5C0-227CD8B0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3A8EA-E471-45B0-B7E8-C56F77EC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CF5DA-7C5A-4C88-916C-FA24AF21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CD8B6-431F-4867-AB83-2CBA69D2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38782-3B4E-40CF-AEEB-B2B10487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120FB-5411-40F1-A57A-8E726070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8E9-7945-4C15-BA5A-31ED7CBE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3EC7D-BB79-4361-861A-2F67423D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6E2F0-D034-4E88-BAE9-F6F94184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8F5E5-9EC2-41FD-9DED-04F6EFB5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9D4E4-303F-4C8E-ADA3-AAF84591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3CF6A-0778-438F-83D8-73974599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9A0F3-FE5C-45B5-B45B-67EDE1B0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44833-9BFE-4D0B-9F8C-9683A707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2756F-5ADC-4E9D-A794-96A0A4AF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37426-915D-41F9-9ACB-E7DD2F24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924A-2A73-40BE-807B-F80CE4A7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CEB6-DD77-4B5D-A906-BBB2DD64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29C-F4D1-49AA-99BC-A178DB54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15A9-461F-47DD-AE08-2F164D3E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EEE-7AEB-483E-94A1-DF981262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4926-010C-4F39-A255-DB46196F682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3260-71DD-4CA8-938D-FD944BF34AE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C2C9-07FD-4C74-81EB-2AEDDD97975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2189-8303-41AB-86D2-E436FBA2075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2240" y="366480"/>
            <a:ext cx="6675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3: Animal Classification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تصنيف الحيوان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9280" y="1889280"/>
            <a:ext cx="878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Systemat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ncludes taxonomy, which is the nam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classification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ف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species and groups of spec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Taxonomy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at branch of biology dealing with the identification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عريف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nd nam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of organism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cc"/>
                </a:solidFill>
                <a:uFillTx/>
                <a:latin typeface="Constantia"/>
              </a:rPr>
              <a:t>Aristotle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رسطو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cient Greek philosopher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began the science of taxonom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Carolus Linneu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رلوس لينياس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700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wedish botanist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classified all then-known organisms into two large kingdom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a) Kingdom Plantae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نباتي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b) Kingdom Animalia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Robert Whittak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in 1969 proposed five kingdoms: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lantae, Animalia, Fungi, Protista, and Monera</a:t>
            </a:r>
            <a:r>
              <a:rPr b="1" lang="en-US" sz="1800" spc="-1" strike="noStrike">
                <a:solidFill>
                  <a:srgbClr val="0000cc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Recent studies suggest that three domains be employed: Archaea, Bacteria, and Eukarya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00120" y="119556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ystematic/Taxonomy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م التصني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3880" y="115560"/>
            <a:ext cx="27939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)- bacter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58640"/>
            <a:ext cx="8229600" cy="58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s consider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s the most known prokar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major bacterial taxa (species) are now accorded kingdom status by most prokaryotic systemati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اء التصن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Different types of diseases are caused by bacteria inclu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g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cholera, many sexually transmissible diseas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راض الجنسية المعد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nd certain types of food poison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سمم الغذائي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wever, more bacteria are beneficial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فيد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n our intestin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عائن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duce important vitam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recycle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other chemical elements between organic matter and the soil and atmospher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often live in close association among themselves and with eukaryotes in symbiotic relationship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اقة تبادل منفع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534960" y="9144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"/>
          <p:cNvPicPr/>
          <p:nvPr/>
        </p:nvPicPr>
        <p:blipFill>
          <a:blip r:embed="rId1"/>
          <a:srcRect l="2812" t="5014" r="68512" b="49184"/>
          <a:stretch/>
        </p:blipFill>
        <p:spPr>
          <a:xfrm>
            <a:off x="179280" y="0"/>
            <a:ext cx="2448000" cy="467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rcRect l="54263" t="5014" r="22954" b="51206"/>
          <a:stretch/>
        </p:blipFill>
        <p:spPr>
          <a:xfrm>
            <a:off x="6659640" y="189000"/>
            <a:ext cx="1944720" cy="446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3"/>
          <a:srcRect l="0" t="51074" r="0" b="26337"/>
          <a:stretch/>
        </p:blipFill>
        <p:spPr>
          <a:xfrm>
            <a:off x="611280" y="4554360"/>
            <a:ext cx="7315200" cy="2303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4"/>
          <a:srcRect l="0" t="74387" r="68715" b="4435"/>
          <a:stretch/>
        </p:blipFill>
        <p:spPr>
          <a:xfrm>
            <a:off x="2556000" y="476280"/>
            <a:ext cx="36716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1800" y="366840"/>
            <a:ext cx="7415280" cy="49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Harmful prokaryotes (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thogenes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ُمْرضات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96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thogens produce disease by invading the tissues of the hos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ore commonly, pathogens cause illness by producing poisons, called exotoxins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خارج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d endotoxin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داخل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thogenic prokaryotes cause about half of all human diseas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The actinomycete that causes tuberculosis is an example of this source of symp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48840" y="294840"/>
            <a:ext cx="66358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Beneficial prokaryotes (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نافعة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have learned to exploit the diverse metabolic capabilities of prokaryotes, for scientific research and for practical purpo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okaryotes are used to solve environmental probl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also use bacteria as metabolic “factories” for commercial produc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تجات التجار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application of organisms to remove pollutants from air, water, and soil is bioremediation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نَقٍّيات أحيائ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rcRect l="0" t="0" r="57724" b="6935"/>
          <a:stretch/>
        </p:blipFill>
        <p:spPr>
          <a:xfrm>
            <a:off x="6754680" y="836640"/>
            <a:ext cx="2281320" cy="5832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79240" y="571320"/>
            <a:ext cx="362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imal Taxonom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8920" y="141264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lassified spec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s the smallest unit, and that each species nested within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درج تح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higher categ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Constantia"/>
              </a:rPr>
              <a:t>Speci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is a Latin word meaning “kind” or “appearanc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كل الظاهري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fferentiation between species based 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a)- Morphological differenc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ختلافات شكل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b)- The potential to interbreed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قدرة على التزاوج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with each</a:t>
            </a:r>
            <a:br>
              <a:rPr sz="1800"/>
            </a:b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other in nature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to produce fertile offspr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جيل خصيب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7120" y="817200"/>
            <a:ext cx="688032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raditional Classification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صنيف التقليدي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4760" y="177300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raditional Classifica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صنيف التقليد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 depends on both common ancestr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ًّسب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the amount of differences among grou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traditional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dating to Linneaus view, is that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birds have feath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ريش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ptiles have sca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حراش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400" spc="-1" strike="noStrike">
                <a:solidFill>
                  <a:srgbClr val="ff3399"/>
                </a:solidFill>
                <a:latin typeface="Constantia"/>
              </a:rPr>
              <a:t>mammals have hai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عر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inneus placed each of these groups in a separate class within the Phylum Chorda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658440"/>
            <a:ext cx="653076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Binomial nomenclature </a:t>
            </a:r>
            <a:r>
              <a:rPr b="1" lang="ar-SA" sz="32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سمية الثنائية</a:t>
            </a:r>
            <a:br>
              <a:rPr sz="3200"/>
            </a:b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(</a:t>
            </a:r>
            <a:r>
              <a:rPr b="1" lang="ar-SA" sz="2400" spc="-1" strike="noStrike">
                <a:solidFill>
                  <a:srgbClr val="990099"/>
                </a:solidFill>
                <a:latin typeface="Calibri"/>
                <a:cs typeface="Traditional Arabic"/>
              </a:rPr>
              <a:t>الاسم الثنائي للحيوان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)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560" y="1793520"/>
            <a:ext cx="8569080" cy="51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developed the concept of 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binomial nomenclature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, whereby scientists could communicate clea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Under the binomial system, each species is assigned a two-part latinized nam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سم لاتيني من قسمي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 binomia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first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he </a:t>
            </a:r>
            <a:r>
              <a:rPr b="1" lang="en-US" sz="2000" spc="-1" strike="noStrike">
                <a:solidFill>
                  <a:srgbClr val="0000cc"/>
                </a:solidFill>
                <a:latin typeface="Constantia"/>
              </a:rPr>
              <a:t>genu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is the group to which a species belon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second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refers to the </a:t>
            </a:r>
            <a:r>
              <a:rPr b="1" lang="en-US" sz="2000" spc="-1" strike="noStrike">
                <a:solidFill>
                  <a:srgbClr val="990099"/>
                </a:solidFill>
                <a:latin typeface="Constantia"/>
              </a:rPr>
              <a:t>speci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in the gen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irst letter of the genu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pital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both names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italicize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tin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example, Linnaeus assigned to humans the scientific name </a:t>
            </a:r>
            <a:r>
              <a:rPr b="1" i="1" lang="en-US" sz="20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0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means “wise man”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857160"/>
            <a:ext cx="65278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ystematic position of human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وضع التقسيمي للإنسان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45920" y="2046240"/>
            <a:ext cx="77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Kingdo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Ani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Chordat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las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Mam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طائفة الثدي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Ord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Primate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رتبة الرئيس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amily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Hominida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ائلة البشر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Genu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Homo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 البشري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Speci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sapien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cientific name: </a:t>
            </a:r>
            <a:r>
              <a:rPr b="1" i="1" lang="en-US" sz="24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4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4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The Wise Ma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 العاقل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7"/>
          <p:cNvGrpSpPr/>
          <p:nvPr/>
        </p:nvGrpSpPr>
        <p:grpSpPr>
          <a:xfrm>
            <a:off x="3932280" y="907920"/>
            <a:ext cx="5176800" cy="4686480"/>
            <a:chOff x="3932280" y="907920"/>
            <a:chExt cx="5176800" cy="4686480"/>
          </a:xfrm>
        </p:grpSpPr>
        <p:pic>
          <p:nvPicPr>
            <p:cNvPr id="208" name="Picture 5" descr="kingdoms"/>
            <p:cNvPicPr/>
            <p:nvPr/>
          </p:nvPicPr>
          <p:blipFill>
            <a:blip r:embed="rId1"/>
            <a:stretch/>
          </p:blipFill>
          <p:spPr>
            <a:xfrm>
              <a:off x="3932280" y="1771560"/>
              <a:ext cx="51768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8"/>
            <p:cNvSpPr/>
            <p:nvPr/>
          </p:nvSpPr>
          <p:spPr>
            <a:xfrm>
              <a:off x="7021440" y="907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"/>
            <p:cNvSpPr/>
            <p:nvPr/>
          </p:nvSpPr>
          <p:spPr>
            <a:xfrm flipH="1">
              <a:off x="5149800" y="1339920"/>
              <a:ext cx="2735280" cy="79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1"/>
            <p:cNvSpPr/>
            <p:nvPr/>
          </p:nvSpPr>
          <p:spPr>
            <a:xfrm flipH="1">
              <a:off x="6732360" y="1339920"/>
              <a:ext cx="1152360" cy="64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 flipH="1">
              <a:off x="6732360" y="1339920"/>
              <a:ext cx="1152360" cy="21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 flipH="1">
              <a:off x="7813800" y="1339920"/>
              <a:ext cx="71280" cy="93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4"/>
            <p:cNvSpPr/>
            <p:nvPr/>
          </p:nvSpPr>
          <p:spPr>
            <a:xfrm>
              <a:off x="4213440" y="479592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958160" y="486864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6"/>
            <p:cNvSpPr/>
            <p:nvPr/>
          </p:nvSpPr>
          <p:spPr>
            <a:xfrm>
              <a:off x="6589800" y="97956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ee Kingdoms of lif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50920" y="1628640"/>
            <a:ext cx="432108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hree Kingdoms of lif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)- Eukaryo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gi, Protesta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Plantae &amp; 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re not considered living organis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324000" y="83664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338040"/>
            <a:ext cx="540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- Prokaryotes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bacteria &amp; archaea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9280" y="1196640"/>
            <a:ext cx="4392720" cy="39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urrent taxonomy recognizes two prokaryotic domains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Kingdom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acteri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rchae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acteria and archaea exist so early in life and are very  differ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t the same time, the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oth are structurall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ganized at th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karyotic leve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4741920" y="1125360"/>
            <a:ext cx="4367160" cy="5516640"/>
            <a:chOff x="4741920" y="1125360"/>
            <a:chExt cx="4367160" cy="5516640"/>
          </a:xfrm>
        </p:grpSpPr>
        <p:pic>
          <p:nvPicPr>
            <p:cNvPr id="224" name="Picture 6" descr=""/>
            <p:cNvPicPr/>
            <p:nvPr/>
          </p:nvPicPr>
          <p:blipFill>
            <a:blip r:embed="rId1"/>
            <a:srcRect l="0" t="0" r="0" b="56485"/>
            <a:stretch/>
          </p:blipFill>
          <p:spPr>
            <a:xfrm>
              <a:off x="4741920" y="3762360"/>
              <a:ext cx="436716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8" descr=""/>
            <p:cNvPicPr/>
            <p:nvPr/>
          </p:nvPicPr>
          <p:blipFill>
            <a:blip r:embed="rId2"/>
            <a:srcRect l="0" t="0" r="0" b="3991"/>
            <a:stretch/>
          </p:blipFill>
          <p:spPr>
            <a:xfrm>
              <a:off x="4813200" y="1125360"/>
              <a:ext cx="4249800" cy="2659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47640" y="115560"/>
            <a:ext cx="662472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- Prokaryotes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teria &amp; archaea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9280" y="980640"/>
            <a:ext cx="4680000" cy="13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karytes exist in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ات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oo cold, too hot, too salty, too acidic, or too alkali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or any eukaryo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433440" y="9079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4182840" cy="2854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133200" y="2565360"/>
            <a:ext cx="889344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karyotes often interact with                               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 species of prokaryotes or                                                          eukaryotes with complementary                                               metabolism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لتكامل الأيض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se relationships called (symbiosi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 three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Commens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عايشة</a:t>
            </a:r>
            <a:r>
              <a:rPr b="0" lang="ar-SA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 receives benefits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le the other is not harmed or helped by the relatio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arasit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طفل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, the parasite, benefits at the expense of the h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utu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oth partners benefit from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A)- Archae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560" y="1268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chaea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xtremophil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ظروف القا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xtreme environmen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be classified int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hal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ملوح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ive in such saline places as the Great Salt Lake and the Dead Se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require an extremely salty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ديدة الملوح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nvironment to g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therm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حرار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live in hot environmen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optimum temperatures for most thermophiles are 60 - 80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°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234" name="Line 6"/>
          <p:cNvSpPr/>
          <p:nvPr/>
        </p:nvSpPr>
        <p:spPr>
          <a:xfrm>
            <a:off x="324000" y="98100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48:27Z</dcterms:created>
  <dc:creator>Dr. A A</dc:creator>
  <dc:description/>
  <dc:language>en-US</dc:language>
  <cp:lastModifiedBy>د أشرف مشالي</cp:lastModifiedBy>
  <dcterms:modified xsi:type="dcterms:W3CDTF">2013-09-01T08:40:35Z</dcterms:modified>
  <cp:revision>37</cp:revision>
  <dc:subject/>
  <dc:title>Principals of General Zoology (Zoo-103)</dc:title>
</cp:coreProperties>
</file>