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2F3-71A8-4A27-8045-22D48369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D56-3770-4BB6-BD36-2C1E265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645-6894-4397-98B8-9014357C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7B2-741E-4DBF-A7FB-FF9E5AE4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B3F1-24CD-4B53-82EE-EBAE0CD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F53D-EBE4-4D23-8EAD-0C5FAF18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BC22-78D9-434A-9253-BBC97E04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65D6-50D0-4AEB-8F4C-35BD3B29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4AF2-6310-410B-A6F6-936590C7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2289-4674-4DC0-A91D-4DCD23E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43FB-3B8B-4EBA-8E25-5F337C3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AA7-9826-4FD0-BE04-B5870933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444A-9860-42F7-97C3-0D4CB41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DFE2-5739-43F9-9582-916CC51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0ECE-6841-4EF2-89A8-445AFF0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9621-5C0C-4DCC-87FE-2BDAA105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EDB5-CC54-4431-B4CD-DAE74318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3B81-BC00-4EE2-9450-354E7EDF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AF77-5BC6-4056-B77C-3754839D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CB72-AAA2-409B-BB46-2F925FD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76DF-B7CF-4B91-952E-4B050DD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1D3B-4DA2-4EBF-AC72-6EEEFE9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FC2-D259-4FF1-A1E0-B04A2C5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D0A2-42F5-4139-8BDA-B41D71BE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5154-CB4C-459E-8846-B0F8A2F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5DC0-132E-4944-85BA-D7536501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81E5-A33F-44E9-8315-FB89B6F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242F-657B-486E-BFEC-7E413BD2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A989-8057-4078-A2BF-2AC1B3E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A23B-3595-4FEC-BC44-221A1AA8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F6F9-8498-4B26-BD4B-7B46043C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81B9-C338-4742-9E7B-D4040505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3898-BDE5-45D6-8065-56EEC29D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622-E19C-4DC7-9EC2-8826E86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894E-4DA7-487B-B352-59A07601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BD32-3461-4AC3-8B89-7ADB45D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1023-D899-4E2B-97BE-D9B2CE4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287D-EBB1-4379-A405-E68E47B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E828-EC84-4AF5-BE34-A0C8AA67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081B-8176-4E72-B469-1D76EAB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3262-C35C-40CF-97E4-C84F9B0B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BF12-2C93-4BB9-8687-C1400B7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40EF-E8BB-45BA-A4CF-A90EE9B0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7F0-125A-416C-8FDF-EE9762DD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DE4-7D2F-4626-AC22-6CDE863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2CE-2F9A-40CE-8BEF-49A8008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C46-F032-4F0E-84FD-A347A8CF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B09-A6A1-46BB-A95C-D0BDCDE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FA78-A9CF-4A4E-942F-FB39C1C21E3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5AE8-6EF2-4878-8705-CB4E7236034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592-2D11-4EF5-AA0C-21C8C31ECDA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5B7A-2203-4DED-A113-5C689FDBCAD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User</cp:lastModifiedBy>
  <dcterms:modified xsi:type="dcterms:W3CDTF">2014-08-27T10:21:34Z</dcterms:modified>
  <cp:revision>37</cp:revision>
  <dc:subject/>
  <dc:title>Principals of General Zoology (Zoo-103)</dc:title>
</cp:coreProperties>
</file>