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084-2177-4C30-A905-C2A1859E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6F6-4F22-4B8D-A82F-B66A6CA2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B00-AB65-4AD4-84A4-B831B612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DFF-0C29-4A57-91EE-35F28338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5CA5-B9BA-4C1A-A612-5FBE9704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896C-3441-4630-ADE4-B1EB7449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241A-70B8-4C16-A9F8-E3A54F5F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DC1A-0B36-4160-B0B3-7A5BFAC0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34FB-86E6-4CAB-BAEA-D229DA2B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7B94-3D3D-49F3-B96E-02FD6DAB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D0C4-E83A-436B-B2F0-33C2EB53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92C-BF95-4552-98A7-D3270912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23EC-16F4-4456-9A5A-A21DC024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0A96-9EF5-421D-95DA-EA4EFCC9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DF64-8003-47D5-9CB2-BDE8D717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0143-4248-48C5-AD25-198C815C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3466-E566-454A-B46C-5875232E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1B46-671A-4DB4-8D54-D92B07D2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B9B0-D2CF-41DB-A346-97F36296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D2506-5776-417C-B142-D7862235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433C-A77E-42E4-ABCD-0F949227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6EED-B043-4764-9D10-AF2BEA81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5C2-9894-467C-9C0D-4C9CE872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96DA-CEB5-467F-9B9F-9BE86E1D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C8B0E-F5EA-4DCC-AB50-170DF107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79272-0279-4080-9FA8-A4DCC7E5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61C8D-23A1-4227-8109-987E0F48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867A-0962-441F-B14B-56D5E057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10A0-888E-4FA9-8693-A120CB54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DCA2-C4A3-49D3-9FB9-EDF1A0D3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2A7CE-D804-43F2-BAEF-8290D8FD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C7B1B-B4A3-4176-934A-9E829E20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783F-D9F0-497A-BB88-D5E20896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1BF-C1B0-430B-A305-9303D55B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2A8A1-D7A3-4759-BA8D-DBD24BEA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3C692-77DC-4B3B-856B-E89F74EA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EA675-B6C3-4F80-B00D-FAE7F11C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AC9A-0473-44DD-BE6A-03F09B08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53028-51BE-46CE-B48B-D115FF9F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A87B4-830B-4FE3-BAF7-3CCD4C1D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B5AD7-FFE5-4102-853F-CF679E59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BF0A-ED08-49CD-B476-C0E6B4EA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3DE7-75B3-4BA1-A62A-1A48F44B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0CE-F25B-4B55-A17C-8D0919B5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35E-BA56-4D2F-B668-B4796627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B4D-4591-4AC2-B99B-41EA6A1C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A51-64CC-4772-B15F-2A6A327A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CBB-5DFE-4215-9AA8-629E5CEA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8518-7126-4846-871A-4C9F02DC4E7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AC1F-F13D-47F2-89CA-D6C6E0473F5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0FA0-A40C-4E16-AFB8-7063891518D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235F-3F23-4965-9D0B-21F8358F43E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2240" y="366480"/>
            <a:ext cx="6675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3: Animal Classification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صنيف الحيوان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889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Systemat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ncludes taxonomy, which is the nam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classifica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ف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Taxonomy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at branch of biology dealing with the identification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nam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Constantia"/>
              </a:rPr>
              <a:t>Aristotle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رسطو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cient Greek philosopher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began the science of taxonom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Carolus Linneu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رلوس لينياس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700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wedish botanis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classified all then-known organisms into two large kingdom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a) Kingdom Plantae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b) Kingdom Animalia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Robert Whittak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in 1969 proposed five kingdoms: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lantae, Animalia, Fungi, Protista, and Monera</a:t>
            </a: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ecent studies suggest that three domains be employed: Archaea, Bacteria, and Eukarya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00120" y="11955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ystematic/Taxonomy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م التصني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115560"/>
            <a:ext cx="279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)- bacter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8640"/>
            <a:ext cx="8229600" cy="58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s consider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major bacterial taxa (species) are now accorded kingdom status by most prokaryotic systemati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اء التصن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 types of diseases are caused by bacteria inclu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g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cholera, many sexually transmissible diseas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جنسية المعد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م الغذائ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wever, more bacteria are beneficial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فيد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عائن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often live in close association among themselves and with eukaryotes in symbiotic relationship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اقة تبادل منفع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3496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1800" y="366840"/>
            <a:ext cx="74152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Harmful prokaryotes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hogene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ُمْرضات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re commonly, pathogens cause illness by producing poisons, called exotoxins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خارج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d endotoxin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داخل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thogenic prokaryotes cause about half of all human disea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8840" y="294840"/>
            <a:ext cx="6635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eneficial prokaryotes (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افعة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have learned to exploit the diverse metabolic capabilities of prokaryotes, for scientific research and for practical purpo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okaryotes are used to solve environmental probl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also use bacteria as metabolic “factories” for commercial produc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تجات التجار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application of organisms to remove pollutants from air, water, and soil is bioremediation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نَقٍّيات أحيائ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9240" y="571320"/>
            <a:ext cx="362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imal Taxonom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8920" y="141264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lassified spec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 the smallest unit, and that each species nested within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درج تح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onstantia"/>
              </a:rPr>
              <a:t>Speci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is a Latin word meaning “kind” or “appearanc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a)- Morphological differenc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لافات شكل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b)- The potential to interbreed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درة على التزاوج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with each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other in nature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to produce fertile offspr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جيل خصيب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817200"/>
            <a:ext cx="68803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aditional Classification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صنيف التقليدي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4760" y="1773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aditional Classifica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التقليد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depends on both common ancestr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ًّسب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the amount of differences among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traditional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dating to Linneaus view, is that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birds have feath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ريش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ptiles have sca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حراش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ff3399"/>
                </a:solidFill>
                <a:latin typeface="Constantia"/>
              </a:rPr>
              <a:t>mammals have hai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inneus placed each of these groups in a separate class within the Phylum Chorda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658440"/>
            <a:ext cx="653076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Binomial nomenclature </a:t>
            </a:r>
            <a:r>
              <a:rPr b="1" lang="ar-SA" sz="32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سمية الثنائية</a:t>
            </a:r>
            <a:br>
              <a:rPr sz="3200"/>
            </a:b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(</a:t>
            </a:r>
            <a:r>
              <a:rPr b="1" lang="ar-SA" sz="2400" spc="-1" strike="noStrike">
                <a:solidFill>
                  <a:srgbClr val="990099"/>
                </a:solidFill>
                <a:latin typeface="Calibri"/>
                <a:cs typeface="Traditional Arabic"/>
              </a:rPr>
              <a:t>الاسم الثنائي للحيوان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793520"/>
            <a:ext cx="8569080" cy="51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developed the concept of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der the binomial system, each species is assigned a two-part latinized nam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م لاتيني من قسمي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 binomia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irst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1" lang="en-US" sz="2000" spc="-1" strike="noStrike">
                <a:solidFill>
                  <a:srgbClr val="0000cc"/>
                </a:solidFill>
                <a:latin typeface="Constantia"/>
              </a:rPr>
              <a:t>genu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s the group to which a species belon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second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refers to the </a:t>
            </a:r>
            <a:r>
              <a:rPr b="1" lang="en-US" sz="2000" spc="-1" strike="noStrike">
                <a:solidFill>
                  <a:srgbClr val="990099"/>
                </a:solidFill>
                <a:latin typeface="Constantia"/>
              </a:rPr>
              <a:t>speci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in the gen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letter of the genu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pital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both nam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italiciz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tin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1" i="1" lang="en-US" sz="20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0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means “wise man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527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stematic position of human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ضع التقسيمي للإنسان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920" y="204624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Mam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Prima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Hominid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Homo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sapien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The Wise 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 العاقل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7"/>
          <p:cNvGrpSpPr/>
          <p:nvPr/>
        </p:nvGrpSpPr>
        <p:grpSpPr>
          <a:xfrm>
            <a:off x="3932280" y="907920"/>
            <a:ext cx="5176800" cy="4686480"/>
            <a:chOff x="3932280" y="907920"/>
            <a:chExt cx="5176800" cy="4686480"/>
          </a:xfrm>
        </p:grpSpPr>
        <p:pic>
          <p:nvPicPr>
            <p:cNvPr id="208" name="Picture 5" descr="kingdoms"/>
            <p:cNvPicPr/>
            <p:nvPr/>
          </p:nvPicPr>
          <p:blipFill>
            <a:blip r:embed="rId1"/>
            <a:stretch/>
          </p:blipFill>
          <p:spPr>
            <a:xfrm>
              <a:off x="3932280" y="1771560"/>
              <a:ext cx="51768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8"/>
            <p:cNvSpPr/>
            <p:nvPr/>
          </p:nvSpPr>
          <p:spPr>
            <a:xfrm>
              <a:off x="7021440" y="907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5149800" y="1339920"/>
              <a:ext cx="273528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6732360" y="1339920"/>
              <a:ext cx="115236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 flipH="1">
              <a:off x="6732360" y="1339920"/>
              <a:ext cx="1152360" cy="21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>
              <a:off x="7813800" y="1339920"/>
              <a:ext cx="71280" cy="93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4213440" y="479592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958160" y="486864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6589800" y="97956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e Kingdoms of lif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50920" y="1628640"/>
            <a:ext cx="4321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hree Kingdoms of lif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Eukaryo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, Protest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Plantae &amp; 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considered living organis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324000" y="83664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338040"/>
            <a:ext cx="540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- Prokaryotes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bacteria &amp; archaea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196640"/>
            <a:ext cx="43927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urrent taxonomy recognizes two prokaryotic domains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Kingdom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acteria and archaea exist so early in life and are very  diffe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t the same time, the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oth are structurall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ganized at th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karyotic lev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4741920" y="1125360"/>
            <a:ext cx="4367160" cy="5516640"/>
            <a:chOff x="4741920" y="1125360"/>
            <a:chExt cx="4367160" cy="5516640"/>
          </a:xfrm>
        </p:grpSpPr>
        <p:pic>
          <p:nvPicPr>
            <p:cNvPr id="224" name="Picture 6" descr=""/>
            <p:cNvPicPr/>
            <p:nvPr/>
          </p:nvPicPr>
          <p:blipFill>
            <a:blip r:embed="rId1"/>
            <a:srcRect l="0" t="0" r="0" b="56485"/>
            <a:stretch/>
          </p:blipFill>
          <p:spPr>
            <a:xfrm>
              <a:off x="4741920" y="3762360"/>
              <a:ext cx="43671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2"/>
            <a:srcRect l="0" t="0" r="0" b="3991"/>
            <a:stretch/>
          </p:blipFill>
          <p:spPr>
            <a:xfrm>
              <a:off x="4813200" y="1125360"/>
              <a:ext cx="4249800" cy="265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66247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- Prokaryote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&amp; archaea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0640"/>
            <a:ext cx="46800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karytes exist in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oo cold, too hot, too salty, too acidic, or too alkali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433440" y="9079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133200" y="2565360"/>
            <a:ext cx="8893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karyotes often interact with             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species of prokaryotes or                                                          eukaryotes with complementary                                               metabolism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لتكامل الأيض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relationships called (symbiosi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 thre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ommens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عايشة</a:t>
            </a:r>
            <a:r>
              <a:rPr b="0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 receives benefit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 the other is not harmed or helped by the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طفل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, the parasite, benefits at the expense of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utu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oth partners benefit from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A)- Archae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268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chaea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xtremophil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ظروف القا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xtreme environmen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hal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ve in such saline places as the Great Salt Lake and the Dead Se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require an extremely salty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ديدة الملوح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vironment to g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therm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live in hot environm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optimum temperatures for most thermophiles are 60 - 80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234" name="Line 6"/>
          <p:cNvSpPr/>
          <p:nvPr/>
        </p:nvSpPr>
        <p:spPr>
          <a:xfrm>
            <a:off x="324000" y="981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User</cp:lastModifiedBy>
  <dcterms:modified xsi:type="dcterms:W3CDTF">2014-08-27T10:21:34Z</dcterms:modified>
  <cp:revision>37</cp:revision>
  <dc:subject/>
  <dc:title>Principals of General Zoology (Zoo-103)</dc:title>
</cp:coreProperties>
</file>