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568-BE84-47BA-8D33-A5BB676D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DDF-8FAA-4371-9B8B-CB31B573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C539-FCB1-4CEB-BF9E-844EF742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CBC-FA96-4830-B08D-A0389433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54D6-8D53-4115-94B1-4A4BE706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A58B-DCC4-4198-BED9-523C0EA5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7840-F19A-4C60-841C-C82B94FA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65D2-CBC9-4DCC-94B8-6BEB6BF8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C532-AAEB-48F9-BB3A-3A840289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3661-D707-4BB2-B19B-AA0F1013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BACC-B79A-40AF-BCA4-661B8DF6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BD5-A45A-4682-91FD-1B0E1BA0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189C-5B5A-44F3-96FD-0FC30207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6212-9214-4016-9F88-CBA8CA03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CE52-6D24-4070-B053-32025593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0791-5DC7-40D9-864E-5DA71AF8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48B9-7CD3-423C-98AB-6F7BDC3D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79D15-50D6-40A0-B259-FA225775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7BE38-CE95-4922-9FD0-A8282E72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923B1-257B-4540-B605-D140B86C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2A43C-5BD5-4CA2-A973-46381ADF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09349-97DB-40E0-A07F-CB675460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799-5A48-4B03-9641-2D1ADD29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FE7DA-71A4-4158-8A0D-3A4FA565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7A9C3-ECDF-442C-B605-D6CA6DF9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27664-7234-4633-A4D9-F1D21B2D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9DCD4-A032-4126-8CE0-07FAD689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0B6CD-3FBD-48E7-AD4B-EDB9C1DF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B3244-DB27-4957-8A51-9BF6F16C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34267-F389-410D-BBD9-5620ECE1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C9757-4115-4E88-9CD2-A4FF7FFC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F4607-6008-409F-97DA-D07886DE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5ECFA-3E0B-4073-8D98-E1FD165E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5C88-2EAD-4CDE-A17E-83C0452C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21D71-9E2E-4584-950C-513871D5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142EA-350C-4AEA-8354-2F41BACF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CD598-D985-468D-ACF3-4F47DBFD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6A25E-6369-4024-B737-DCCFFCD4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03FCB-B966-4818-85A0-B0BA9C40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3F3C9-B722-42D6-9DC3-A5957B70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6D1DF-BBE0-4E0F-84E6-063A8EA9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3FC64-74D6-4FC3-ABE1-B29F6979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A4BE8-C16C-41CE-9891-5C0D1D4E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D615-7599-45BB-AB02-15AEC1C8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9E16-8B3D-4FC8-ACC5-6A41D45D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526-A5F3-461E-96A6-84BD1BD1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7D6D-9379-4022-B2BD-20B714BC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FADD-8FED-4017-B290-5E8B7E82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D761-0BE8-456D-AD1F-86A882C3FFA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E77E-486C-4DBD-A8EB-15ABA4C985B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05E6-79C2-4D34-8094-6359DE2E769B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2CEE-FACC-40DF-BDCB-82B1F506501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82240" y="366480"/>
            <a:ext cx="6675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3: Animal Classification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تصنيف الحيوان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9280" y="1889280"/>
            <a:ext cx="878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Systemat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ncludes taxonomy, which is the nam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classification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ف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species and groups of spec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Taxonomy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at branch of biology dealing with the identification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عريف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nd nam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of organism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cc"/>
                </a:solidFill>
                <a:uFillTx/>
                <a:latin typeface="Constantia"/>
              </a:rPr>
              <a:t>Aristotle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رسطو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cient Greek philosopher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began the science of taxonom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Carolus Linneu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رلوس لينياس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700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wedish botanist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classified all then-known organisms into two large kingdom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a) Kingdom Plantae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نباتي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b) Kingdom Animalia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Robert Whittak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in 1969 proposed five kingdoms: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lantae, Animalia, Fungi, Protista, and Monera</a:t>
            </a:r>
            <a:r>
              <a:rPr b="1" lang="en-US" sz="1800" spc="-1" strike="noStrike">
                <a:solidFill>
                  <a:srgbClr val="0000cc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Recent studies suggest that three domains be employed: Archaea, Bacteria, and Eukarya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00120" y="119556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ystematic/Taxonomy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م التصنيف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3880" y="115560"/>
            <a:ext cx="27939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)- bacter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58640"/>
            <a:ext cx="8229600" cy="58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s consider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s the most known prokar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major bacterial taxa (species) are now accorded kingdom status by most prokaryotic systemati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اء التصن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Different types of diseases are caused by bacteria inclu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g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cholera, many sexually transmissible diseas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راض الجنسية المعد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nd certain types of food poison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سمم الغذائي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owever, more bacteria are beneficial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فيد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n our intestin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عائن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duce important vitam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recycle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other chemical elements between organic matter and the soil and atmospher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often live in close association among themselves and with eukaryotes in symbiotic relationship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اقة تبادل منفع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534960" y="9144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"/>
          <p:cNvPicPr/>
          <p:nvPr/>
        </p:nvPicPr>
        <p:blipFill>
          <a:blip r:embed="rId1"/>
          <a:srcRect l="2812" t="5014" r="68512" b="49184"/>
          <a:stretch/>
        </p:blipFill>
        <p:spPr>
          <a:xfrm>
            <a:off x="179280" y="0"/>
            <a:ext cx="2448000" cy="4670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rcRect l="54263" t="5014" r="22954" b="51206"/>
          <a:stretch/>
        </p:blipFill>
        <p:spPr>
          <a:xfrm>
            <a:off x="6659640" y="189000"/>
            <a:ext cx="1944720" cy="4464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3"/>
          <a:srcRect l="0" t="51074" r="0" b="26337"/>
          <a:stretch/>
        </p:blipFill>
        <p:spPr>
          <a:xfrm>
            <a:off x="611280" y="4554360"/>
            <a:ext cx="7315200" cy="2303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4"/>
          <a:srcRect l="0" t="74387" r="68715" b="4435"/>
          <a:stretch/>
        </p:blipFill>
        <p:spPr>
          <a:xfrm>
            <a:off x="2556000" y="476280"/>
            <a:ext cx="36716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1800" y="366840"/>
            <a:ext cx="7415280" cy="49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Harmful prokaryotes (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thogenes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ُمْرضات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19664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me pathogens produce disease by invading the tissues of the hos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ore commonly, pathogens cause illness by producing poisons, called exotoxins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خارج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d endotoxin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داخل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thogenic prokaryotes cause about half of all human diseas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The actinomycete that causes tuberculosis is an example of this source of symp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48840" y="294840"/>
            <a:ext cx="66358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Beneficial prokaryotes (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نافعة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have learned to exploit the diverse metabolic capabilities of prokaryotes, for scientific research and for practical purpo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okaryotes are used to solve environmental probl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also use bacteria as metabolic “factories” for commercial produc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تجات التجار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application of organisms to remove pollutants from air, water, and soil is bioremediation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ُنَقٍّيات أحيائ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rcRect l="0" t="0" r="57724" b="6935"/>
          <a:stretch/>
        </p:blipFill>
        <p:spPr>
          <a:xfrm>
            <a:off x="6754680" y="836640"/>
            <a:ext cx="2281320" cy="5832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79240" y="571320"/>
            <a:ext cx="362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imal Taxonom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8920" y="141264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lassified spec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s the smallest unit, and that each species nested within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ندرج تح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higher categ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Constantia"/>
              </a:rPr>
              <a:t>Speci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is a Latin word meaning “kind” or “appearanc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كل الظاهري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fferentiation between species based 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a)- Morphological differenc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ختلافات شكل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b)- The potential to interbreed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قدرة على التزاوج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with each</a:t>
            </a:r>
            <a:br>
              <a:rPr sz="1800"/>
            </a:b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other in nature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to produce fertile offspr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جيل خصيب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57120" y="817200"/>
            <a:ext cx="688032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raditional Classification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صنيف التقليدي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4760" y="177300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raditional Classificati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صنيف التقليد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 depends on both common ancestr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ًّسب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the amount of differences among grou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traditional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dating to Linneaus view, is that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birds have feath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ريش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eptiles have sca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حراش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400" spc="-1" strike="noStrike">
                <a:solidFill>
                  <a:srgbClr val="ff3399"/>
                </a:solidFill>
                <a:latin typeface="Constantia"/>
              </a:rPr>
              <a:t>mammals have hai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عر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inneus placed each of these groups in a separate class within the Phylum Chorda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658440"/>
            <a:ext cx="653076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Binomial nomenclature </a:t>
            </a:r>
            <a:r>
              <a:rPr b="1" lang="ar-SA" sz="32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سمية الثنائية</a:t>
            </a:r>
            <a:br>
              <a:rPr sz="3200"/>
            </a:b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(</a:t>
            </a:r>
            <a:r>
              <a:rPr b="1" lang="ar-SA" sz="2400" spc="-1" strike="noStrike">
                <a:solidFill>
                  <a:srgbClr val="990099"/>
                </a:solidFill>
                <a:latin typeface="Calibri"/>
                <a:cs typeface="Traditional Arabic"/>
              </a:rPr>
              <a:t>الاسم الثنائي للحيوان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)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560" y="1793520"/>
            <a:ext cx="8569080" cy="51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developed the concept of 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binomial nomenclature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, whereby scientists could communicate clea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Under the binomial system, each species is assigned a two-part latinized nam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سم لاتيني من قسمي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 binomia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first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he </a:t>
            </a:r>
            <a:r>
              <a:rPr b="1" lang="en-US" sz="2000" spc="-1" strike="noStrike">
                <a:solidFill>
                  <a:srgbClr val="0000cc"/>
                </a:solidFill>
                <a:latin typeface="Constantia"/>
              </a:rPr>
              <a:t>genu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is the group to which a species belon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second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refers to the </a:t>
            </a:r>
            <a:r>
              <a:rPr b="1" lang="en-US" sz="2000" spc="-1" strike="noStrike">
                <a:solidFill>
                  <a:srgbClr val="990099"/>
                </a:solidFill>
                <a:latin typeface="Constantia"/>
              </a:rPr>
              <a:t>speci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in the gen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first letter of the genus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pital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both names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italicize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tin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example, Linnaeus assigned to humans the scientific name </a:t>
            </a:r>
            <a:r>
              <a:rPr b="1" i="1" lang="en-US" sz="20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0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means “wise man”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857160"/>
            <a:ext cx="65278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ystematic position of human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وضع التقسيمي للإنسان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45920" y="2046240"/>
            <a:ext cx="77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Kingdo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Ani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hylu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Chordat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Clas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Mam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طائفة الثدي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Ord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Primate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رتبة الرئيس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Family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Hominida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عائلة البشر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Genu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Homo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 البشري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Speci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sapien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cientific name: </a:t>
            </a:r>
            <a:r>
              <a:rPr b="1" i="1" lang="en-US" sz="24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4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4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The Wise Ma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 العاقل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7"/>
          <p:cNvGrpSpPr/>
          <p:nvPr/>
        </p:nvGrpSpPr>
        <p:grpSpPr>
          <a:xfrm>
            <a:off x="3932280" y="907920"/>
            <a:ext cx="5176800" cy="4686480"/>
            <a:chOff x="3932280" y="907920"/>
            <a:chExt cx="5176800" cy="4686480"/>
          </a:xfrm>
        </p:grpSpPr>
        <p:pic>
          <p:nvPicPr>
            <p:cNvPr id="208" name="Picture 5" descr="kingdoms"/>
            <p:cNvPicPr/>
            <p:nvPr/>
          </p:nvPicPr>
          <p:blipFill>
            <a:blip r:embed="rId1"/>
            <a:stretch/>
          </p:blipFill>
          <p:spPr>
            <a:xfrm>
              <a:off x="3932280" y="1771560"/>
              <a:ext cx="51768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8"/>
            <p:cNvSpPr/>
            <p:nvPr/>
          </p:nvSpPr>
          <p:spPr>
            <a:xfrm>
              <a:off x="7021440" y="907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ukaryo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"/>
            <p:cNvSpPr/>
            <p:nvPr/>
          </p:nvSpPr>
          <p:spPr>
            <a:xfrm flipH="1">
              <a:off x="5149800" y="1339920"/>
              <a:ext cx="2735280" cy="79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1"/>
            <p:cNvSpPr/>
            <p:nvPr/>
          </p:nvSpPr>
          <p:spPr>
            <a:xfrm flipH="1">
              <a:off x="6732360" y="1339920"/>
              <a:ext cx="1152360" cy="64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 flipH="1">
              <a:off x="6732360" y="1339920"/>
              <a:ext cx="1152360" cy="21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 flipH="1">
              <a:off x="7813800" y="1339920"/>
              <a:ext cx="71280" cy="93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4"/>
            <p:cNvSpPr/>
            <p:nvPr/>
          </p:nvSpPr>
          <p:spPr>
            <a:xfrm>
              <a:off x="4213440" y="479592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958160" y="486864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6"/>
            <p:cNvSpPr/>
            <p:nvPr/>
          </p:nvSpPr>
          <p:spPr>
            <a:xfrm>
              <a:off x="6589800" y="97956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ee Kingdoms of lif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50920" y="1628640"/>
            <a:ext cx="432108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hree Kingdoms of lif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)- Eukaryo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gi, Protesta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Plantae &amp; 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re not considered living organis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324000" y="83664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338040"/>
            <a:ext cx="540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- Prokaryotes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bacteria &amp; archaea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79280" y="1196640"/>
            <a:ext cx="4392720" cy="39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urrent taxonomy recognizes two prokaryotic domains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Kingdom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acteri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rchae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acteria and archaea exist so early in life and are very  differ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t the same time, the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oth are structurall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ganized at th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karyotic leve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4741920" y="1125360"/>
            <a:ext cx="4367160" cy="5516640"/>
            <a:chOff x="4741920" y="1125360"/>
            <a:chExt cx="4367160" cy="5516640"/>
          </a:xfrm>
        </p:grpSpPr>
        <p:pic>
          <p:nvPicPr>
            <p:cNvPr id="224" name="Picture 6" descr=""/>
            <p:cNvPicPr/>
            <p:nvPr/>
          </p:nvPicPr>
          <p:blipFill>
            <a:blip r:embed="rId1"/>
            <a:srcRect l="0" t="0" r="0" b="56485"/>
            <a:stretch/>
          </p:blipFill>
          <p:spPr>
            <a:xfrm>
              <a:off x="4741920" y="3762360"/>
              <a:ext cx="436716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8" descr=""/>
            <p:cNvPicPr/>
            <p:nvPr/>
          </p:nvPicPr>
          <p:blipFill>
            <a:blip r:embed="rId2"/>
            <a:srcRect l="0" t="0" r="0" b="3991"/>
            <a:stretch/>
          </p:blipFill>
          <p:spPr>
            <a:xfrm>
              <a:off x="4813200" y="1125360"/>
              <a:ext cx="4249800" cy="2659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47640" y="115560"/>
            <a:ext cx="662472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- Prokaryotes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teria &amp; archaea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9280" y="980640"/>
            <a:ext cx="4680000" cy="13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karytes exist in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ات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oo cold, too hot, too salty, too acidic, or too alkali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or any eukaryo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433440" y="9079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4182840" cy="2854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>
            <a:off x="133200" y="2565360"/>
            <a:ext cx="889344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karyotes often interact with                               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 species of prokaryotes or                                                          eukaryotes with complementary                                               metabolism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لتكامل الأيض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se relationships called (symbiosi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 three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Commens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عايشة</a:t>
            </a:r>
            <a:r>
              <a:rPr b="0" lang="ar-SA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 receives benefits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le the other is not harmed or helped by the relation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arasit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طفل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, the parasite, benefits at the expense of the h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utu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oth partners benefit from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A)- Archae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560" y="1268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chaea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xtremophil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ظروف القا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”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xtreme environment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n be classified int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hal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ملوح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ive in such saline places as the Great Salt Lake and the Dead Se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require an extremely salty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ديدة الملوح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nvironment to g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therm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حرار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live in hot environmen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optimum temperatures for most thermophiles are 60 - 80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°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234" name="Line 6"/>
          <p:cNvSpPr/>
          <p:nvPr/>
        </p:nvSpPr>
        <p:spPr>
          <a:xfrm>
            <a:off x="324000" y="98100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6:48:27Z</dcterms:created>
  <dc:creator>Dr. A A</dc:creator>
  <dc:description/>
  <dc:language>en-US</dc:language>
  <cp:lastModifiedBy>د أشرف مشالي</cp:lastModifiedBy>
  <dcterms:modified xsi:type="dcterms:W3CDTF">2013-09-01T08:40:35Z</dcterms:modified>
  <cp:revision>37</cp:revision>
  <dc:subject/>
  <dc:title>Principals of General Zoology (Zoo-103)</dc:title>
</cp:coreProperties>
</file>