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77B-1064-4052-B12D-3E7943A6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374A-56B2-4A42-86F0-85355857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8DF-9E1F-4801-A65A-9681CD29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FAC-F60D-4833-BFF3-AE9A4504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069-D7DA-4771-97DB-90F3EFD7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D57-B2A8-4C96-9BE0-BC604D5C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87A-CA57-47E5-B176-348D3A4C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7F1-BEC0-4D8A-B988-2451D88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3A3-827D-4D5F-89E3-4AA84FC0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346A-080F-4125-8CE6-3AD3B44B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88D-5558-4FE1-920C-D2E3222B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60A-DFCC-4208-9801-AF5B967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5320-F52D-42A7-815A-96F3DCE0CA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2E28-947E-4C46-AF11-CE8F6E979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077-1220-4419-942A-907DA6EEBE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913D-FCFF-4B70-B4A1-44B532CD04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17D7-9B98-4447-8325-A5B800B346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prstGeom prst="pie">
              <a:avLst/>
            </a:pr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ralajmi</cp:lastModifiedBy>
  <dcterms:modified xsi:type="dcterms:W3CDTF">2014-02-02T04:47:04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