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A60-075C-4AFF-A8F7-D7005A39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3FC-74AD-437A-90EA-9D82C0E5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2D8-ED26-46AF-BDED-3C0DE22C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55C-8770-4B98-8D33-2CB904C1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C6B-45BE-4409-9420-45D28F1A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C74-90DA-445F-9A54-506D66C6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A39-5C72-4061-8324-60109B49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81B-9DB3-4F60-9F23-830A9333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CCC-FC30-4B98-826F-9449E5B2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5C9-607A-4AA4-92FC-C96EBFCE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F6E-5E51-472E-A569-611FA940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C18-C1D6-4A4D-8D62-823B2743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213D-6B1E-4F14-BCD1-0ECDEE6B7B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1128-B017-4A38-96D3-3468CF6048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E1A8-4936-4485-B3E3-C1FB872154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331A-8E8E-4F9F-8C80-64776C93DA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B0C1-56DA-4249-A3BA-7F94F205BC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teps can be divided into two ph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prstGeom prst="pie">
              <a:avLst/>
            </a:pr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ralajmi</cp:lastModifiedBy>
  <dcterms:modified xsi:type="dcterms:W3CDTF">2014-02-02T04:47:04Z</dcterms:modified>
  <cp:revision>1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5CD21A-EB1C-4D83-AC74-5924905D0726</vt:lpwstr>
  </property>
  <property fmtid="{D5CDD505-2E9C-101B-9397-08002B2CF9AE}" pid="3" name="ArticulatePath">
    <vt:lpwstr>Lecture 14</vt:lpwstr>
  </property>
</Properties>
</file>