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247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E26-DD60-4160-B6C8-7E9676D48F0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4ED-5453-464B-AEAF-6CDA184A7FC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CF6-DC77-4A6D-9C3A-0B5DCEC0EF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7D64-91DA-4F92-8FD0-8868DB4D6D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3C9-4788-41BF-9E7C-30C534B108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0BD-D8C1-440C-B82F-A205FAE64E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E6D2-DC53-4CD7-BC4C-8941E32713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361D-2491-4ECF-A6C4-5AA2EAAA4B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B991-DFE0-4613-B1C7-8455A2B47C4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CC7-BED9-486C-AB6D-AE3B62458F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655-051B-4D47-88E5-6C28FB611C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E3C-AA1E-4D65-8138-239BA5494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6F58-7AFD-4413-B790-3F0FD03F03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FB5-0118-4728-A647-66B5008F05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555-E2E8-4377-973D-0B7D5521B7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A15-6251-4BC5-B65F-51C53D0B4D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366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51460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TER 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STUCTURE AN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3"/>
          <a:srcRect l="0" t="0" r="0" b="4734"/>
          <a:stretch/>
        </p:blipFill>
        <p:spPr>
          <a:xfrm>
            <a:off x="152280" y="236232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1143000" y="16905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w things get into and out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eady traffi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عبور المنتط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small molecules and ions moves across the plasma membrane in both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example, sugars, amino acids, and other nutrients enter a muscle cell and metabolic waste products leav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e cell absorbs 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and expels C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t also regulates concentrations of inorganic ions, like N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K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C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2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and Cl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by passing them a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substances do not move across the barrier indiscriminate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membrane is selectively perme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phobic molecules, like hydrocarbons,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an dissolve in the lipid bilayer and cross eas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ons and polar molecules pass through with difficu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is includes small molecules, like water, and larger critical molecules, like glucose and other sug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teins can assist and regul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يساعد و ينظم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transport of ions and polar mole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759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unctions of cell membran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sma membran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)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- Selective permeabil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نفاذية الإختيارية</a:t>
            </a:r>
            <a:endParaRPr b="0" lang="en-US" sz="2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4"/>
          <p:cNvSpPr/>
          <p:nvPr/>
        </p:nvSpPr>
        <p:spPr>
          <a:xfrm>
            <a:off x="2438280" y="1066680"/>
            <a:ext cx="4724640" cy="3810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ffff"/>
            </a:solidFill>
            <a:miter/>
          </a:ln>
          <a:effectLst>
            <a:outerShdw dist="155100" dir="330113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505320" y="152388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219320" y="28195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267080" y="36576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190512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5410080" y="2209680"/>
            <a:ext cx="1600200" cy="1295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614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909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elective Perm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295280" y="5257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The cell is able to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Arial"/>
              </a:rPr>
              <a:t>take up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 particular molecules an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Arial"/>
              </a:rPr>
              <a:t>exclud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275 -0.11991 E">
                                      <p:cBhvr>
                                        <p:cTn id="19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81481E-006 L 0.28333 -4.81481E-006 E">
                                      <p:cBhvr>
                                        <p:cTn id="19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rcRect l="0" t="0" r="0" b="56328"/>
          <a:stretch/>
        </p:blipFill>
        <p:spPr>
          <a:xfrm>
            <a:off x="0" y="3576600"/>
            <a:ext cx="9067680" cy="32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838080"/>
            <a:ext cx="899136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fu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tende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إستعدا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molecules of any substance to spread ou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vailable space random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a permeable membra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غشاء منف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ing a solution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ure w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dye molecules will cross the barrier random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ye will cross the membrane until both solutions have equal concentrations of the dye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ynamic equilibr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تعادل الديناميكى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- Passive transpor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قال السلبى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s diffusion across a membrane</a:t>
            </a:r>
            <a:endParaRPr b="0" lang="en-US" sz="24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00000" y="649116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0a, Page 1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320" y="577800"/>
            <a:ext cx="8991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ubstance will diffuse from where it is more concentrated to where it is less concentrated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own its concentration gradien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مـُنحدر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ترك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233280" y="1676520"/>
            <a:ext cx="7996320" cy="2058840"/>
            <a:chOff x="233280" y="1676520"/>
            <a:chExt cx="7996320" cy="205884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rcRect l="5493" t="58904" r="0" b="3080"/>
            <a:stretch/>
          </p:blipFill>
          <p:spPr>
            <a:xfrm>
              <a:off x="1905120" y="1676520"/>
              <a:ext cx="632448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233280" y="2059200"/>
              <a:ext cx="1579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0b, Page 14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6"/>
          <p:cNvSpPr/>
          <p:nvPr/>
        </p:nvSpPr>
        <p:spPr>
          <a:xfrm>
            <a:off x="152280" y="4114800"/>
            <a:ext cx="86868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assive transp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قال السلب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diffusion of a substance across a biological membrane whic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requires no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rom the cell to make it ha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ncentration gradient represents potential energy and dr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diffu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29400" y="6324480"/>
            <a:ext cx="2362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D Unit 2, Chapter 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120" y="1142640"/>
            <a:ext cx="89154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concentrat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solved materi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lead to the movement of ions from one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high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low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s with equal solute concentration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sm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passive transport  in which water                                                diffuses across a selectively permeable                                            membrane from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                                                   to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until the                                                      solutions bec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. Osmosis is the passive transport of water</a:t>
            </a:r>
            <a:endParaRPr b="0" lang="en-US" sz="32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56272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80280" y="6477120"/>
            <a:ext cx="1479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1, page 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2514600" y="81000"/>
            <a:ext cx="4191120" cy="5867280"/>
            <a:chOff x="2514600" y="81000"/>
            <a:chExt cx="4191120" cy="5867280"/>
          </a:xfrm>
        </p:grpSpPr>
        <p:sp>
          <p:nvSpPr>
            <p:cNvPr id="119" name="AutoShape 3"/>
            <p:cNvSpPr/>
            <p:nvPr/>
          </p:nvSpPr>
          <p:spPr>
            <a:xfrm rot="16200000">
              <a:off x="1905120" y="1757520"/>
              <a:ext cx="5333760" cy="3047760"/>
            </a:xfrm>
            <a:prstGeom prst="flowChartOnlineStorage">
              <a:avLst/>
            </a:prstGeom>
            <a:solidFill>
              <a:srgbClr val="00cc99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6200000">
              <a:off x="1866600" y="1794960"/>
              <a:ext cx="5334120" cy="220968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2514600" y="81000"/>
              <a:ext cx="419112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6"/>
          <p:cNvSpPr/>
          <p:nvPr/>
        </p:nvSpPr>
        <p:spPr>
          <a:xfrm>
            <a:off x="3086280" y="160488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676840" y="1604880"/>
            <a:ext cx="3938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086280" y="305280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95680" y="5567400"/>
            <a:ext cx="1526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609480" y="4667400"/>
            <a:ext cx="2667240" cy="368280"/>
            <a:chOff x="609480" y="4667400"/>
            <a:chExt cx="2667240" cy="368280"/>
          </a:xfrm>
        </p:grpSpPr>
        <p:sp>
          <p:nvSpPr>
            <p:cNvPr id="127" name="Text Box 11"/>
            <p:cNvSpPr/>
            <p:nvPr/>
          </p:nvSpPr>
          <p:spPr>
            <a:xfrm>
              <a:off x="609480" y="4667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ow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2666880" y="489564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3"/>
          <p:cNvGrpSpPr/>
          <p:nvPr/>
        </p:nvGrpSpPr>
        <p:grpSpPr>
          <a:xfrm>
            <a:off x="5866920" y="4729320"/>
            <a:ext cx="2972160" cy="368280"/>
            <a:chOff x="5866920" y="4729320"/>
            <a:chExt cx="2972160" cy="368280"/>
          </a:xfrm>
        </p:grpSpPr>
        <p:sp>
          <p:nvSpPr>
            <p:cNvPr id="130" name="Text Box 14"/>
            <p:cNvSpPr/>
            <p:nvPr/>
          </p:nvSpPr>
          <p:spPr>
            <a:xfrm>
              <a:off x="6477120" y="472932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igh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5866920" y="495756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6"/>
          <p:cNvGrpSpPr/>
          <p:nvPr/>
        </p:nvGrpSpPr>
        <p:grpSpPr>
          <a:xfrm>
            <a:off x="3809880" y="3503520"/>
            <a:ext cx="1447920" cy="2059200"/>
            <a:chOff x="3809880" y="3503520"/>
            <a:chExt cx="1447920" cy="2059200"/>
          </a:xfrm>
        </p:grpSpPr>
        <p:sp>
          <p:nvSpPr>
            <p:cNvPr id="133" name="Text Box 17"/>
            <p:cNvSpPr/>
            <p:nvPr/>
          </p:nvSpPr>
          <p:spPr>
            <a:xfrm>
              <a:off x="3809880" y="35035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lectively permeable membr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4572000" y="44197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19"/>
          <p:cNvSpPr/>
          <p:nvPr/>
        </p:nvSpPr>
        <p:spPr>
          <a:xfrm>
            <a:off x="990720" y="152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Principal of wate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687240" y="4952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6782400" y="5029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3659040" y="16444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oton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460080" y="1203480"/>
            <a:ext cx="8312760" cy="871560"/>
            <a:chOff x="460080" y="1203480"/>
            <a:chExt cx="8312760" cy="871560"/>
          </a:xfrm>
        </p:grpSpPr>
        <p:sp>
          <p:nvSpPr>
            <p:cNvPr id="140" name="Rectangle 23"/>
            <p:cNvSpPr/>
            <p:nvPr/>
          </p:nvSpPr>
          <p:spPr>
            <a:xfrm>
              <a:off x="460080" y="120348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4"/>
            <p:cNvSpPr/>
            <p:nvPr/>
          </p:nvSpPr>
          <p:spPr>
            <a:xfrm>
              <a:off x="6784560" y="137160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52280" y="125280"/>
            <a:ext cx="8991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ssive transport of water (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smosi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914400"/>
            <a:ext cx="8686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 soluti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عالى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high concentration of solute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ُذاب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نخفض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low concentration of solute 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تعادل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equal concentrations of solute molecu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5257800" y="4267080"/>
            <a:ext cx="2362320" cy="1447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3657600"/>
            <a:ext cx="1371600" cy="266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Bio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828800" y="5715000"/>
            <a:ext cx="5867280" cy="459720"/>
            <a:chOff x="1828800" y="5715000"/>
            <a:chExt cx="5867280" cy="459720"/>
          </a:xfrm>
        </p:grpSpPr>
        <p:sp>
          <p:nvSpPr>
            <p:cNvPr id="147" name="Text Box 9"/>
            <p:cNvSpPr/>
            <p:nvPr/>
          </p:nvSpPr>
          <p:spPr>
            <a:xfrm>
              <a:off x="55627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o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828800" y="5715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er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Oval 11"/>
          <p:cNvSpPr/>
          <p:nvPr/>
        </p:nvSpPr>
        <p:spPr>
          <a:xfrm>
            <a:off x="1523880" y="4267080"/>
            <a:ext cx="236232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5715000" y="4483080"/>
            <a:ext cx="1295280" cy="1066680"/>
            <a:chOff x="5715000" y="4483080"/>
            <a:chExt cx="1295280" cy="1066680"/>
          </a:xfrm>
        </p:grpSpPr>
        <p:grpSp>
          <p:nvGrpSpPr>
            <p:cNvPr id="151" name="Group 13"/>
            <p:cNvGrpSpPr/>
            <p:nvPr/>
          </p:nvGrpSpPr>
          <p:grpSpPr>
            <a:xfrm>
              <a:off x="5715000" y="4483080"/>
              <a:ext cx="1295280" cy="1066680"/>
              <a:chOff x="5715000" y="4483080"/>
              <a:chExt cx="1295280" cy="1066680"/>
            </a:xfrm>
          </p:grpSpPr>
          <p:sp>
            <p:nvSpPr>
              <p:cNvPr id="152" name="AutoShape 14"/>
              <p:cNvSpPr/>
              <p:nvPr/>
            </p:nvSpPr>
            <p:spPr>
              <a:xfrm>
                <a:off x="5715000" y="4483080"/>
                <a:ext cx="1295280" cy="304920"/>
              </a:xfrm>
              <a:prstGeom prst="leftArrow">
                <a:avLst>
                  <a:gd name="adj1" fmla="val 50000"/>
                  <a:gd name="adj2" fmla="val 106198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5"/>
              <p:cNvSpPr/>
              <p:nvPr/>
            </p:nvSpPr>
            <p:spPr>
              <a:xfrm>
                <a:off x="5715000" y="5245200"/>
                <a:ext cx="1295280" cy="304560"/>
              </a:xfrm>
              <a:prstGeom prst="leftArrow">
                <a:avLst>
                  <a:gd name="adj1" fmla="val 50000"/>
                  <a:gd name="adj2" fmla="val 10632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Text Box 16"/>
            <p:cNvSpPr/>
            <p:nvPr/>
          </p:nvSpPr>
          <p:spPr>
            <a:xfrm>
              <a:off x="6019920" y="478764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H</a:t>
              </a:r>
              <a:r>
                <a:rPr b="1" lang="en-GB" sz="2800" spc="-1" strike="noStrike" baseline="-25000">
                  <a:solidFill>
                    <a:srgbClr val="00ff00"/>
                  </a:solidFill>
                  <a:latin typeface="Tahoma"/>
                  <a:ea typeface="Arial"/>
                </a:rPr>
                <a:t>2</a:t>
              </a: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3875 -0.00926 E">
                                      <p:cBhvr>
                                        <p:cTn id="361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0" t="0" r="0" b="4790"/>
          <a:stretch/>
        </p:blipFill>
        <p:spPr>
          <a:xfrm>
            <a:off x="4572000" y="304920"/>
            <a:ext cx="4495680" cy="2622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069920"/>
            <a:ext cx="41907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ell in a hypertonic environment will loose water, shrivel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كم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nd d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ell in a hypotonic solution will ga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سح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er, swell, and bur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without rigid walls have osmotic problems in either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erto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oto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nvironment and must have adaptations f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moreg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mainta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لحفاظ ع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ir internal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c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ave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alized organell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e contractile vacuo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that functions as a pump to fo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قز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er out of the c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243200" y="304812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2, Page 14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6320" y="90360"/>
            <a:ext cx="449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smoreg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توازن الأسموز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4648320" y="3506760"/>
            <a:ext cx="4039920" cy="3046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79560" y="650700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8.13 &amp; 8.12, Page 1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576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68680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polar molecules and ions diffuse passively through the lipid bilayer with the help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port protein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gated channel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قنوات مُبَوب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ssive movement of molecules down its concentration gradient via a transport protein is call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cilitated diff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pecific proteins facilit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ـُسَه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ive transport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876920" y="3505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25146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transport proteins simply prov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ann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lowing a specific molecule or ion to 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0" r="51680" b="7097"/>
          <a:stretch/>
        </p:blipFill>
        <p:spPr>
          <a:xfrm>
            <a:off x="5791320" y="2027160"/>
            <a:ext cx="3200400" cy="23925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152280" y="3735360"/>
            <a:ext cx="3886200" cy="2970360"/>
            <a:chOff x="152280" y="3735360"/>
            <a:chExt cx="3886200" cy="2970360"/>
          </a:xfrm>
        </p:grpSpPr>
        <p:pic>
          <p:nvPicPr>
            <p:cNvPr id="169" name="Picture 10" descr=""/>
            <p:cNvPicPr/>
            <p:nvPr/>
          </p:nvPicPr>
          <p:blipFill>
            <a:blip r:embed="rId2"/>
            <a:srcRect l="51661" t="0" r="0" b="4958"/>
            <a:stretch/>
          </p:blipFill>
          <p:spPr>
            <a:xfrm>
              <a:off x="152280" y="3735360"/>
              <a:ext cx="388620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9"/>
            <p:cNvSpPr/>
            <p:nvPr/>
          </p:nvSpPr>
          <p:spPr>
            <a:xfrm>
              <a:off x="157680" y="6400800"/>
              <a:ext cx="188136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4a &amp; b, Page 14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Rectangle 11"/>
          <p:cNvSpPr/>
          <p:nvPr/>
        </p:nvSpPr>
        <p:spPr>
          <a:xfrm>
            <a:off x="44197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transport protein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loc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نق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es across the membrane as the protein changes shap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tive trans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162920" y="6400800"/>
            <a:ext cx="1904760" cy="3808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D U 2 Ch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4"/>
          <p:cNvSpPr/>
          <p:nvPr/>
        </p:nvSpPr>
        <p:spPr>
          <a:xfrm>
            <a:off x="129528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ction A: Membran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nimal Cell.MOV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1028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lasma membrane separates the living cell from its nonliving surrou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thin barrier, 8 nm thick, controls traffic into and out of the c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other membranes, the plasma membrane is selectively permeable, allowing some substances to cross more easily than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ain macromolecules in membranes are lipids and proteins, but include some carbohydr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 abundant lipid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spholipids and most other membrane constituent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mphipathic mole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mphipathic molecules have both hydrophobic regions and hydrophilic reg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ospholipids and proteins in membra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reate a unique physical environment, described by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luid mosaic mod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embrane is a fluid structure with proteins embedded or attached to a double layer of phospholip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4495680" y="838080"/>
            <a:ext cx="4648320" cy="2567160"/>
            <a:chOff x="4495680" y="838080"/>
            <a:chExt cx="4648320" cy="2567160"/>
          </a:xfrm>
        </p:grpSpPr>
        <p:pic>
          <p:nvPicPr>
            <p:cNvPr id="56" name="Picture 6" descr=""/>
            <p:cNvPicPr/>
            <p:nvPr/>
          </p:nvPicPr>
          <p:blipFill>
            <a:blip r:embed="rId1"/>
            <a:srcRect l="0" t="42557" r="0" b="3011"/>
            <a:stretch/>
          </p:blipFill>
          <p:spPr>
            <a:xfrm>
              <a:off x="4495680" y="838080"/>
              <a:ext cx="464832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7"/>
            <p:cNvSpPr/>
            <p:nvPr/>
          </p:nvSpPr>
          <p:spPr>
            <a:xfrm>
              <a:off x="6218280" y="2743200"/>
              <a:ext cx="78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4495680" y="3022560"/>
            <a:ext cx="4648320" cy="3622680"/>
            <a:chOff x="4495680" y="3022560"/>
            <a:chExt cx="4648320" cy="3622680"/>
          </a:xfrm>
        </p:grpSpPr>
        <p:pic>
          <p:nvPicPr>
            <p:cNvPr id="59" name="Picture 12" descr=""/>
            <p:cNvPicPr/>
            <p:nvPr/>
          </p:nvPicPr>
          <p:blipFill>
            <a:blip r:embed="rId2"/>
            <a:srcRect l="45831" t="0" r="0" b="4010"/>
            <a:stretch/>
          </p:blipFill>
          <p:spPr>
            <a:xfrm>
              <a:off x="4495680" y="3022560"/>
              <a:ext cx="4648320" cy="36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3"/>
            <p:cNvSpPr/>
            <p:nvPr/>
          </p:nvSpPr>
          <p:spPr>
            <a:xfrm>
              <a:off x="8156520" y="5943600"/>
              <a:ext cx="78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2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olecules in the bilay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بقة مزدوج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rranged 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obic fatty acid 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re shelter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ح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water while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ilic phosphate 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 are amphipathic, with                                hydrophobic and hydrophilic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t the surface, the hydrophilic regions                                     would be in cont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this fluid mosa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model, the hydrophil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gions of protei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nd phospholipids are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contact with water and                                                                               the hydrophobic regio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re in a nonaque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ا مائى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vironme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lipids and some proteins c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rift                                            lateral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the plane of the membrane, but                                                  rare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lip-fl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layer to the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teral movements of phospholipids are                                                  rapid, abou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2 µm/sec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larger membrane proteins move more                                                 slowly but do dri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temperatures cool, membranes switch                                                     from a fluid state to a solid state as the                                                  phospholipids are more closely pack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ran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ich in unsaturated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are more fluid than those dominated by  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aturated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ause the kinks                                                                             in the unsaturated fatty acid tails preve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 p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o work properly with permeability, membrane must be fluid, about as fluid as 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0" t="0" r="50914" b="58904"/>
          <a:stretch/>
        </p:blipFill>
        <p:spPr>
          <a:xfrm>
            <a:off x="5943600" y="838080"/>
            <a:ext cx="3200400" cy="2195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ell membrane is fluid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rcRect l="0" t="48882" r="51823" b="3357"/>
          <a:stretch/>
        </p:blipFill>
        <p:spPr>
          <a:xfrm>
            <a:off x="5867280" y="3343320"/>
            <a:ext cx="3200400" cy="2600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7967520" y="5600880"/>
            <a:ext cx="10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. 8.4a &amp;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membrane is a collage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ـَجَمُ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different proteins embedded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مُـنْغَمِ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the fluid matrix of the lipid bilay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embranes are mosaics of structure and function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0" t="0" r="0" b="4734"/>
          <a:stretch/>
        </p:blipFill>
        <p:spPr>
          <a:xfrm>
            <a:off x="1219320" y="1774800"/>
            <a:ext cx="7086600" cy="4743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7919640" y="6597720"/>
            <a:ext cx="122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8.6, Page 1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0" y="6324480"/>
            <a:ext cx="1905120" cy="53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, Unit 2 ch.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3"/>
          <p:cNvGrpSpPr/>
          <p:nvPr/>
        </p:nvGrpSpPr>
        <p:grpSpPr>
          <a:xfrm>
            <a:off x="5029200" y="3111480"/>
            <a:ext cx="4038480" cy="3365640"/>
            <a:chOff x="5029200" y="3111480"/>
            <a:chExt cx="4038480" cy="336564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5029200" y="3111480"/>
              <a:ext cx="40384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8001000" y="57913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Periphe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8001000" y="32767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Periphe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9"/>
            <p:cNvSpPr/>
            <p:nvPr/>
          </p:nvSpPr>
          <p:spPr>
            <a:xfrm flipH="1">
              <a:off x="7695720" y="3505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 flipH="1">
              <a:off x="7772040" y="6172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5257800" y="335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nteg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>
              <a:off x="5715000" y="3733920"/>
              <a:ext cx="12193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)- The plasma membrane has a unique collection </a:t>
            </a:r>
            <a:r>
              <a:rPr b="0" lang="ar-EG" sz="2000" spc="-1" strike="noStrike" u="sng">
                <a:solidFill>
                  <a:srgbClr val="0000ff"/>
                </a:solidFill>
                <a:uFillTx/>
                <a:latin typeface="Arial"/>
                <a:cs typeface="Arial"/>
              </a:rPr>
              <a:t>تجمع مميَـز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f prote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populations of membrane prote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phe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رف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not embedded in the lipid bilayer at all. Instead, they are loosely bounded to the surface of the protein, often connected to the other population of membrane prote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teg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ُندَمج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ُتحِ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etrate the hydrophobic core of the lipid bilayer, often completely spanning the membran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membran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prote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contact the core,                                                                    they ha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drophobic reg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with nonpolar amino acids, often                                                              coiled in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pha hel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are in contact with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queous environment, they have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drophilic reg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mino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5477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7, Page 1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proteins in the plasma membrane may provide a variety of major cell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304920" y="990720"/>
            <a:ext cx="8534160" cy="5489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2743200" y="641520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9, Page 14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226280" y="6286680"/>
            <a:ext cx="1905120" cy="533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, Unit 1 ch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15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  <a:ea typeface="Arial"/>
              </a:rPr>
              <a:t>The membrane plays the key role in cell-cell recog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-cell recognition is the ability of a cell to distinguish one type of neighbo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مجاو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 from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the basis for rejection of foreign cells by the immun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s recognize other cells by recognizing the surface molecules, often carbohydrates, on the plasma memb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rane carbohydrates may be covalently bonded either to lipids,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lycolipid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, to proteins,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ly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our human blood groups (</a:t>
            </a:r>
            <a:r>
              <a:rPr b="1" lang="en-US" sz="2000" spc="-1" strike="noStrike">
                <a:solidFill>
                  <a:srgbClr val="f63f1b"/>
                </a:solidFill>
                <a:latin typeface="Arial"/>
                <a:ea typeface="Arial"/>
              </a:rPr>
              <a:t>A, B, AB, and 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differ in the external carbohydrates on red blood c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)- Membrane carbohydrates are important for cell-cell recognition</a:t>
            </a:r>
            <a:endParaRPr b="0" lang="en-US" sz="24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Ahmed</cp:lastModifiedBy>
  <cp:lastPrinted>2001-01-06T03:20:03Z</cp:lastPrinted>
  <dcterms:modified xsi:type="dcterms:W3CDTF">2009-03-03T12:28:22Z</dcterms:modified>
  <cp:revision>268</cp:revision>
  <dc:subject/>
  <dc:title>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