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247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629C-A62A-4E55-AA58-CCCEE660DF1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C5BF-3FBC-4955-A2EE-47CB503D3D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289C-0B90-4AB8-9422-D09F10122C3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BAB9-A6A4-4384-8499-012B19CDCD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E2BB-0EFC-487B-8E88-CC0A6FCADA6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62D3-3147-4B90-982B-B6890BD48B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B451-3873-4263-A0B4-BB0B72FE475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DE0-5C8A-4047-A94D-C98A4DDA042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8E55-FE66-42FD-BBF2-C8EDB789942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42E5-A95E-4099-A251-2B63A80934B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E70-564F-4B06-8C10-66507E63441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6440-3C86-42F8-9702-F0B61E9F3C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DC19-5F5A-4EFE-BD2C-D55D402117E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2705-1BAF-465D-B691-343A4AA54C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A752-064D-4D45-A513-DD3BA7F3D79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7C6B-0108-48F7-8103-0814538C35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76320" y="81000"/>
            <a:ext cx="1752480" cy="1366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2"/>
          <p:cNvSpPr/>
          <p:nvPr/>
        </p:nvSpPr>
        <p:spPr>
          <a:xfrm>
            <a:off x="2514600" y="1522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PTER 8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RANE STUCTURE AN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3"/>
          <a:srcRect l="0" t="0" r="0" b="4734"/>
          <a:stretch/>
        </p:blipFill>
        <p:spPr>
          <a:xfrm>
            <a:off x="152280" y="2362320"/>
            <a:ext cx="88394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5"/>
          <p:cNvSpPr/>
          <p:nvPr/>
        </p:nvSpPr>
        <p:spPr>
          <a:xfrm>
            <a:off x="1143000" y="16905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ow things get into and out of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88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eady traffic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عبور المنتط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small molecules and ions moves across the plasma membrane in both dire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For example, sugars, amino acids, and other nutrients enter a muscle cell and metabolic waste products leave 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e cell absorbs O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and expels CO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t also regulates concentrations of inorganic ions, like Na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, K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, Ca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2+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, and Cl</a:t>
            </a:r>
            <a:r>
              <a:rPr b="1" lang="en-US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, by passing them across the membr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substances do not move across the barrier indiscriminate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شوائ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membrane is selectively perme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ydrophobic molecules, like hydrocarbons,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nd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can dissolve in the lipid bilayer and cross easi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ons and polar molecules pass through with difficul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This includes small molecules, like water, and larger critical molecules, like glucose and other suga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roteins can assist and regul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يساعد و ينظم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e transport of ions and polar molec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759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Functions of cell membran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Plasma membran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)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- Selective permeabilit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نفاذية الإختيارية</a:t>
            </a:r>
            <a:endParaRPr b="0" lang="en-US" sz="20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93" name="Line 4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4"/>
          <p:cNvSpPr/>
          <p:nvPr/>
        </p:nvSpPr>
        <p:spPr>
          <a:xfrm>
            <a:off x="2438280" y="1066680"/>
            <a:ext cx="4724640" cy="3810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ffff"/>
            </a:solidFill>
            <a:miter/>
          </a:ln>
          <a:effectLst>
            <a:outerShdw dist="155100" dir="3301132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505320" y="1523880"/>
            <a:ext cx="1066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CO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219320" y="2819520"/>
            <a:ext cx="838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  <a:ea typeface="Arial"/>
              </a:rPr>
              <a:t>O</a:t>
            </a:r>
            <a:r>
              <a:rPr b="1" lang="en-GB" sz="3600" spc="-1" strike="noStrike" baseline="-25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267080" y="3657600"/>
            <a:ext cx="83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  <a:ea typeface="Arial"/>
              </a:rPr>
              <a:t>O</a:t>
            </a:r>
            <a:r>
              <a:rPr b="1" lang="en-GB" sz="3600" spc="-1" strike="noStrike" baseline="-25000">
                <a:solidFill>
                  <a:srgbClr val="0000ff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1905120"/>
            <a:ext cx="1067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CO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9"/>
          <p:cNvSpPr/>
          <p:nvPr/>
        </p:nvSpPr>
        <p:spPr>
          <a:xfrm>
            <a:off x="5410080" y="2209680"/>
            <a:ext cx="1600200" cy="12956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614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ff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  <a:ea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2590920" y="1522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  <a:ea typeface="Arial"/>
              </a:rPr>
              <a:t>Selective Perme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295280" y="52578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Arial"/>
              </a:rPr>
              <a:t>The cell is able to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Arial"/>
              </a:rPr>
              <a:t>take up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Arial"/>
              </a:rPr>
              <a:t> particular molecules an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  <a:ea typeface="Arial"/>
              </a:rPr>
              <a:t>exclude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  <a:ea typeface="Arial"/>
              </a:rPr>
              <a:t>ot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-0.275 -0.11991 E">
                                      <p:cBhvr>
                                        <p:cTn id="19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81481E-006 L 0.28333 -4.81481E-006 E">
                                      <p:cBhvr>
                                        <p:cTn id="19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rcRect l="0" t="0" r="0" b="56328"/>
          <a:stretch/>
        </p:blipFill>
        <p:spPr>
          <a:xfrm>
            <a:off x="0" y="3576600"/>
            <a:ext cx="9067680" cy="3205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320" y="838080"/>
            <a:ext cx="8991360" cy="249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ffus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إنتشا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tendenc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إستعدا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molecules of any substance to spread ou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للإنتشا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vailable space random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عشوائ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xample, a permeable membran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غشاء منف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arating a solution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olec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ure w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dye molecules will cross the barrier random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ye will cross the membrane until both solutions have equal concentrations of the dye (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ynamic equilibr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تعادل الديناميكى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- Passive transpor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إنتقال السلبى</a:t>
            </a:r>
            <a:r>
              <a:rPr b="0" lang="ar-EG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s diffusion across a membrane</a:t>
            </a:r>
            <a:endParaRPr b="0" lang="en-US" sz="24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500000" y="649116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0a, Page 14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320" y="577800"/>
            <a:ext cx="8991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ubstance will diffuse from where it is more concentrated to where it is less concentrated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own its concentration gradien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مـُنحدر</a:t>
            </a:r>
            <a:r>
              <a:rPr b="1" lang="ar-EG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تركي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9"/>
          <p:cNvGrpSpPr/>
          <p:nvPr/>
        </p:nvGrpSpPr>
        <p:grpSpPr>
          <a:xfrm>
            <a:off x="233280" y="1676520"/>
            <a:ext cx="7996320" cy="2058840"/>
            <a:chOff x="233280" y="1676520"/>
            <a:chExt cx="7996320" cy="2058840"/>
          </a:xfrm>
        </p:grpSpPr>
        <p:pic>
          <p:nvPicPr>
            <p:cNvPr id="109" name="Picture 4" descr=""/>
            <p:cNvPicPr/>
            <p:nvPr/>
          </p:nvPicPr>
          <p:blipFill>
            <a:blip r:embed="rId1"/>
            <a:srcRect l="5493" t="58904" r="0" b="3080"/>
            <a:stretch/>
          </p:blipFill>
          <p:spPr>
            <a:xfrm>
              <a:off x="1905120" y="1676520"/>
              <a:ext cx="632448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5"/>
            <p:cNvSpPr/>
            <p:nvPr/>
          </p:nvSpPr>
          <p:spPr>
            <a:xfrm>
              <a:off x="233280" y="2059200"/>
              <a:ext cx="1579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8.10b, Page 145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6"/>
          <p:cNvSpPr/>
          <p:nvPr/>
        </p:nvSpPr>
        <p:spPr>
          <a:xfrm>
            <a:off x="152280" y="4114800"/>
            <a:ext cx="86868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assive transp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إنتقال السلب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he diffusion of a substance across a biological membrane whic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requires no ener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rom the cell to make it hap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ncentration gradient represents potential energy and driv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diffu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6629400" y="6324480"/>
            <a:ext cx="23623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ff"/>
            </a:solidFill>
            <a:miter/>
          </a:ln>
          <a:effectLst>
            <a:outerShdw dist="89604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D Unit 2, Chapter 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4120" y="1142640"/>
            <a:ext cx="89154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s in concentration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solved materi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wo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an lead to the movement of ions from one to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olution with the higher concentration of solutes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er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olution with the lower concentration of solutes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utions with equal solute concentrations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s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Osmos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 passive transport  in which water                                                diffuses across a selectively permeable                                            membrane from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olution                                                    to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yper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olution until the                                                      solutions becom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soto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2. Osmosis is the passive transport of water</a:t>
            </a:r>
            <a:endParaRPr b="0" lang="en-US" sz="32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562720" y="3809880"/>
            <a:ext cx="3429000" cy="24861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80280" y="6477120"/>
            <a:ext cx="1479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1, page 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2"/>
          <p:cNvGrpSpPr/>
          <p:nvPr/>
        </p:nvGrpSpPr>
        <p:grpSpPr>
          <a:xfrm>
            <a:off x="2514600" y="81000"/>
            <a:ext cx="4191120" cy="5867280"/>
            <a:chOff x="2514600" y="81000"/>
            <a:chExt cx="4191120" cy="5867280"/>
          </a:xfrm>
        </p:grpSpPr>
        <p:sp>
          <p:nvSpPr>
            <p:cNvPr id="119" name="AutoShape 3"/>
            <p:cNvSpPr/>
            <p:nvPr/>
          </p:nvSpPr>
          <p:spPr>
            <a:xfrm rot="16200000">
              <a:off x="1905120" y="1757520"/>
              <a:ext cx="5333760" cy="3047760"/>
            </a:xfrm>
            <a:prstGeom prst="flowChartOnlineStorage">
              <a:avLst/>
            </a:prstGeom>
            <a:solidFill>
              <a:srgbClr val="00cc99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AutoShape 4"/>
            <p:cNvSpPr/>
            <p:nvPr/>
          </p:nvSpPr>
          <p:spPr>
            <a:xfrm rot="16200000">
              <a:off x="1866600" y="1794960"/>
              <a:ext cx="5334120" cy="2209680"/>
            </a:xfrm>
            <a:prstGeom prst="flowChartOnlineStorage">
              <a:avLst/>
            </a:prstGeom>
            <a:solidFill>
              <a:srgbClr val="ffffff"/>
            </a:solidFill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2514600" y="81000"/>
              <a:ext cx="419112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Rectangle 6"/>
          <p:cNvSpPr/>
          <p:nvPr/>
        </p:nvSpPr>
        <p:spPr>
          <a:xfrm>
            <a:off x="3086280" y="1604880"/>
            <a:ext cx="3045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676840" y="1604880"/>
            <a:ext cx="39384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086280" y="3052800"/>
            <a:ext cx="30456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495680" y="5567400"/>
            <a:ext cx="15264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609480" y="4667400"/>
            <a:ext cx="2667240" cy="368280"/>
            <a:chOff x="609480" y="4667400"/>
            <a:chExt cx="2667240" cy="368280"/>
          </a:xfrm>
        </p:grpSpPr>
        <p:sp>
          <p:nvSpPr>
            <p:cNvPr id="127" name="Text Box 11"/>
            <p:cNvSpPr/>
            <p:nvPr/>
          </p:nvSpPr>
          <p:spPr>
            <a:xfrm>
              <a:off x="609480" y="4667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Low conc. of sug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2666880" y="4895640"/>
              <a:ext cx="609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3"/>
          <p:cNvGrpSpPr/>
          <p:nvPr/>
        </p:nvGrpSpPr>
        <p:grpSpPr>
          <a:xfrm>
            <a:off x="5866920" y="4729320"/>
            <a:ext cx="2972160" cy="368280"/>
            <a:chOff x="5866920" y="4729320"/>
            <a:chExt cx="2972160" cy="368280"/>
          </a:xfrm>
        </p:grpSpPr>
        <p:sp>
          <p:nvSpPr>
            <p:cNvPr id="130" name="Text Box 14"/>
            <p:cNvSpPr/>
            <p:nvPr/>
          </p:nvSpPr>
          <p:spPr>
            <a:xfrm>
              <a:off x="6477120" y="4729320"/>
              <a:ext cx="23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igh conc. of sug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H="1">
              <a:off x="5866920" y="4957560"/>
              <a:ext cx="6858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6"/>
          <p:cNvGrpSpPr/>
          <p:nvPr/>
        </p:nvGrpSpPr>
        <p:grpSpPr>
          <a:xfrm>
            <a:off x="3809880" y="3503520"/>
            <a:ext cx="1447920" cy="2059200"/>
            <a:chOff x="3809880" y="3503520"/>
            <a:chExt cx="1447920" cy="2059200"/>
          </a:xfrm>
        </p:grpSpPr>
        <p:sp>
          <p:nvSpPr>
            <p:cNvPr id="133" name="Text Box 17"/>
            <p:cNvSpPr/>
            <p:nvPr/>
          </p:nvSpPr>
          <p:spPr>
            <a:xfrm>
              <a:off x="3809880" y="35035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electively permeable membra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8"/>
            <p:cNvSpPr/>
            <p:nvPr/>
          </p:nvSpPr>
          <p:spPr>
            <a:xfrm>
              <a:off x="4572000" y="4419720"/>
              <a:ext cx="0" cy="1143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Text Box 19"/>
          <p:cNvSpPr/>
          <p:nvPr/>
        </p:nvSpPr>
        <p:spPr>
          <a:xfrm>
            <a:off x="990720" y="1522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Tahoma"/>
                <a:ea typeface="Arial"/>
              </a:rPr>
              <a:t>Principal of water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687240" y="495288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ypo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6782400" y="50292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ypert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3659040" y="1644480"/>
            <a:ext cx="17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oton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460080" y="1203480"/>
            <a:ext cx="8312760" cy="871560"/>
            <a:chOff x="460080" y="1203480"/>
            <a:chExt cx="8312760" cy="871560"/>
          </a:xfrm>
        </p:grpSpPr>
        <p:sp>
          <p:nvSpPr>
            <p:cNvPr id="140" name="Rectangle 23"/>
            <p:cNvSpPr/>
            <p:nvPr/>
          </p:nvSpPr>
          <p:spPr>
            <a:xfrm>
              <a:off x="460080" y="1203480"/>
              <a:ext cx="198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Osmosi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24"/>
            <p:cNvSpPr/>
            <p:nvPr/>
          </p:nvSpPr>
          <p:spPr>
            <a:xfrm>
              <a:off x="6784560" y="1371600"/>
              <a:ext cx="1988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Osmosi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2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52280" y="125280"/>
            <a:ext cx="8991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assive transport of water (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Osmosis</a:t>
            </a: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28600" y="914400"/>
            <a:ext cx="8686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ertonic solution: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عالى التركيز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high concentration of solute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مُذاب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molecu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ypotonic solution: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منخفض التركيز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low concentration of solute molecul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65001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sotonic solution: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900" spc="-1" strike="noStrike">
                <a:solidFill>
                  <a:srgbClr val="000000"/>
                </a:solidFill>
                <a:latin typeface="Arial"/>
                <a:cs typeface="Arial"/>
              </a:rPr>
              <a:t>متعادل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tains equal concentrations of solute molecul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5257800" y="4267080"/>
            <a:ext cx="2362320" cy="1447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3657600"/>
            <a:ext cx="1371600" cy="2666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Arial"/>
              </a:rPr>
              <a:t>Bio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  <a:ea typeface="Arial"/>
              </a:rPr>
              <a:t>Memb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1828800" y="5715000"/>
            <a:ext cx="5867280" cy="459720"/>
            <a:chOff x="1828800" y="5715000"/>
            <a:chExt cx="5867280" cy="459720"/>
          </a:xfrm>
        </p:grpSpPr>
        <p:sp>
          <p:nvSpPr>
            <p:cNvPr id="147" name="Text Box 9"/>
            <p:cNvSpPr/>
            <p:nvPr/>
          </p:nvSpPr>
          <p:spPr>
            <a:xfrm>
              <a:off x="55627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oto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1828800" y="57150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erton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Oval 11"/>
          <p:cNvSpPr/>
          <p:nvPr/>
        </p:nvSpPr>
        <p:spPr>
          <a:xfrm>
            <a:off x="1523880" y="4267080"/>
            <a:ext cx="2362320" cy="1447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5715000" y="4483080"/>
            <a:ext cx="1295280" cy="1066680"/>
            <a:chOff x="5715000" y="4483080"/>
            <a:chExt cx="1295280" cy="1066680"/>
          </a:xfrm>
        </p:grpSpPr>
        <p:grpSp>
          <p:nvGrpSpPr>
            <p:cNvPr id="151" name="Group 13"/>
            <p:cNvGrpSpPr/>
            <p:nvPr/>
          </p:nvGrpSpPr>
          <p:grpSpPr>
            <a:xfrm>
              <a:off x="5715000" y="4483080"/>
              <a:ext cx="1295280" cy="1066680"/>
              <a:chOff x="5715000" y="4483080"/>
              <a:chExt cx="1295280" cy="1066680"/>
            </a:xfrm>
          </p:grpSpPr>
          <p:sp>
            <p:nvSpPr>
              <p:cNvPr id="152" name="AutoShape 14"/>
              <p:cNvSpPr/>
              <p:nvPr/>
            </p:nvSpPr>
            <p:spPr>
              <a:xfrm>
                <a:off x="5715000" y="4483080"/>
                <a:ext cx="1295280" cy="304920"/>
              </a:xfrm>
              <a:prstGeom prst="leftArrow">
                <a:avLst>
                  <a:gd name="adj1" fmla="val 50000"/>
                  <a:gd name="adj2" fmla="val 106198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5"/>
              <p:cNvSpPr/>
              <p:nvPr/>
            </p:nvSpPr>
            <p:spPr>
              <a:xfrm>
                <a:off x="5715000" y="5245200"/>
                <a:ext cx="1295280" cy="304560"/>
              </a:xfrm>
              <a:prstGeom prst="leftArrow">
                <a:avLst>
                  <a:gd name="adj1" fmla="val 50000"/>
                  <a:gd name="adj2" fmla="val 106324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Text Box 16"/>
            <p:cNvSpPr/>
            <p:nvPr/>
          </p:nvSpPr>
          <p:spPr>
            <a:xfrm>
              <a:off x="6019920" y="4787640"/>
              <a:ext cx="99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  <a:ea typeface="Arial"/>
                </a:rPr>
                <a:t>H</a:t>
              </a:r>
              <a:r>
                <a:rPr b="1" lang="en-GB" sz="2800" spc="-1" strike="noStrike" baseline="-25000">
                  <a:solidFill>
                    <a:srgbClr val="00ff00"/>
                  </a:solidFill>
                  <a:latin typeface="Tahoma"/>
                  <a:ea typeface="Arial"/>
                </a:rPr>
                <a:t>2</a:t>
              </a:r>
              <a:r>
                <a:rPr b="1" lang="en-GB" sz="2400" spc="-1" strike="noStrike">
                  <a:solidFill>
                    <a:srgbClr val="00ff00"/>
                  </a:solidFill>
                  <a:latin typeface="Tahoma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-0.3875 -0.00926 E">
                                      <p:cBhvr>
                                        <p:cTn id="361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7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rcRect l="0" t="0" r="0" b="4790"/>
          <a:stretch/>
        </p:blipFill>
        <p:spPr>
          <a:xfrm>
            <a:off x="4572000" y="304920"/>
            <a:ext cx="4495680" cy="2622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1069920"/>
            <a:ext cx="419076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ell in a hypertonic environment will loose water, shrivel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نكم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and d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ell in a hypotonic solution will ga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سح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ter, swell, and burs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ganisms without rigid walls have osmotic problems in either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perto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poton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environment and must have adaptations f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osmoreg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maintai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للحفاظ ع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ir internal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meciu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have 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ialized organell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he contractile vacuo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that functions as a pump to forc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قز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ter out of the c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243200" y="304812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2, Page 14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76320" y="90360"/>
            <a:ext cx="4495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Osmoreg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التوازن الأسموز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4648320" y="3506760"/>
            <a:ext cx="4039920" cy="30463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79560" y="650700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. 8.13 &amp; 8.12, Page 1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657600" y="62485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686800" cy="13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polar molecules and ions diffuse passively through the lipid bilayer with the help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ransport protein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gated channels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  <a:cs typeface="Arial"/>
              </a:rPr>
              <a:t>قنوات مُبَوب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assive movement of molecules down its concentration gradient via a transport protein is calle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cilitated diffu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63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Specific proteins facilit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تـُسَه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assive transport</a:t>
            </a:r>
            <a:endParaRPr b="0" lang="en-US" sz="28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876920" y="35053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04920" y="2514600"/>
            <a:ext cx="53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transport proteins simply provid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hann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llowing a specific molecule or ion to cross the membra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1"/>
          <a:srcRect l="0" t="0" r="51680" b="7097"/>
          <a:stretch/>
        </p:blipFill>
        <p:spPr>
          <a:xfrm>
            <a:off x="5791320" y="2027160"/>
            <a:ext cx="3200400" cy="239256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2"/>
          <p:cNvGrpSpPr/>
          <p:nvPr/>
        </p:nvGrpSpPr>
        <p:grpSpPr>
          <a:xfrm>
            <a:off x="152280" y="3735360"/>
            <a:ext cx="3886200" cy="2970360"/>
            <a:chOff x="152280" y="3735360"/>
            <a:chExt cx="3886200" cy="2970360"/>
          </a:xfrm>
        </p:grpSpPr>
        <p:pic>
          <p:nvPicPr>
            <p:cNvPr id="169" name="Picture 10" descr=""/>
            <p:cNvPicPr/>
            <p:nvPr/>
          </p:nvPicPr>
          <p:blipFill>
            <a:blip r:embed="rId2"/>
            <a:srcRect l="51661" t="0" r="0" b="4958"/>
            <a:stretch/>
          </p:blipFill>
          <p:spPr>
            <a:xfrm>
              <a:off x="152280" y="3735360"/>
              <a:ext cx="3886200" cy="29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9"/>
            <p:cNvSpPr/>
            <p:nvPr/>
          </p:nvSpPr>
          <p:spPr>
            <a:xfrm>
              <a:off x="157680" y="6400800"/>
              <a:ext cx="1881360" cy="29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8.14a &amp; b, Page 14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Rectangle 11"/>
          <p:cNvSpPr/>
          <p:nvPr/>
        </p:nvSpPr>
        <p:spPr>
          <a:xfrm>
            <a:off x="4419720" y="464832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transport protein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ransloc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ينق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olecules across the membrane as the protein changes shap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ctive transp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162920" y="6400800"/>
            <a:ext cx="1904760" cy="3808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D U 2 Ch.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4"/>
          <p:cNvSpPr/>
          <p:nvPr/>
        </p:nvSpPr>
        <p:spPr>
          <a:xfrm>
            <a:off x="129528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ection A: Membran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nimal Cell.MOV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701028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034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686800" cy="59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plasma membrane separates the living cell from its nonliving surround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thin barrier, 8 nm thick, controls traffic into and out of the c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 other membranes, the plasma membrane is selectively permeable, allowing some substances to cross more easily than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ain macromolecules in membranes are lipids and proteins, but include some carbohydr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most abundant lipids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phospholipid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ospholipids and most other membrane constituents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mphipathic molecu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mphipathic molecules have both hydrophobic regions and hydrophilic reg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hospholipids and proteins in membran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reate a unique physical environment, described by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luid mosaic mode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membrane is a fluid structure with proteins embedded or attached to a double layer of phospholipi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4"/>
          <p:cNvGrpSpPr/>
          <p:nvPr/>
        </p:nvGrpSpPr>
        <p:grpSpPr>
          <a:xfrm>
            <a:off x="4495680" y="838080"/>
            <a:ext cx="4648320" cy="2567160"/>
            <a:chOff x="4495680" y="838080"/>
            <a:chExt cx="4648320" cy="2567160"/>
          </a:xfrm>
        </p:grpSpPr>
        <p:pic>
          <p:nvPicPr>
            <p:cNvPr id="56" name="Picture 6" descr=""/>
            <p:cNvPicPr/>
            <p:nvPr/>
          </p:nvPicPr>
          <p:blipFill>
            <a:blip r:embed="rId1"/>
            <a:srcRect l="0" t="42557" r="0" b="3011"/>
            <a:stretch/>
          </p:blipFill>
          <p:spPr>
            <a:xfrm>
              <a:off x="4495680" y="838080"/>
              <a:ext cx="464832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7"/>
            <p:cNvSpPr/>
            <p:nvPr/>
          </p:nvSpPr>
          <p:spPr>
            <a:xfrm>
              <a:off x="6218280" y="2743200"/>
              <a:ext cx="78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8.1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5"/>
          <p:cNvGrpSpPr/>
          <p:nvPr/>
        </p:nvGrpSpPr>
        <p:grpSpPr>
          <a:xfrm>
            <a:off x="4495680" y="3022560"/>
            <a:ext cx="4648320" cy="3622680"/>
            <a:chOff x="4495680" y="3022560"/>
            <a:chExt cx="4648320" cy="3622680"/>
          </a:xfrm>
        </p:grpSpPr>
        <p:pic>
          <p:nvPicPr>
            <p:cNvPr id="59" name="Picture 12" descr=""/>
            <p:cNvPicPr/>
            <p:nvPr/>
          </p:nvPicPr>
          <p:blipFill>
            <a:blip r:embed="rId2"/>
            <a:srcRect l="45831" t="0" r="0" b="4010"/>
            <a:stretch/>
          </p:blipFill>
          <p:spPr>
            <a:xfrm>
              <a:off x="4495680" y="3022560"/>
              <a:ext cx="4648320" cy="362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Rectangle 13"/>
            <p:cNvSpPr/>
            <p:nvPr/>
          </p:nvSpPr>
          <p:spPr>
            <a:xfrm>
              <a:off x="8156520" y="5943600"/>
              <a:ext cx="788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8.2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58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olecules in the bilayer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طبقة مزدوج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arranged a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hydrophobic fatty acid ta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re shelter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حم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water while the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hydrophilic phosphate grou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eract with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brane proteins are amphipathic, with                                hydrophobic and hydrophilic reg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t the surface, the hydrophilic regions                                     would be in contact with wa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n this fluid mosaic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model, the hydrophilic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regions of proteins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and phospholipids are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in contact with water and                                                                               the hydrophobic regions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are in a nonaque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لا مائى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environment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he lipids and some proteins c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drift                                            lateral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the plane of the membrane, but                                                  rarel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flip-fl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 one layer to the o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ateral movements of phospholipids are                                                  rapid, abou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2 µm/sec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larger membrane proteins move more                                                 slowly but do dri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temperatures cool, membranes switch                                                     from a fluid state to a solid state as the                                                  phospholipids are more closely pack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rane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rich in unsaturated fatty ac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are more fluid than those dominated by                                                  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saturated fatty aci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cause the kinks                                                                             in the unsaturated fatty acid tails preve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ght pack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o work properly with permeability, membrane must be fluid, about as fluid as o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rcRect l="0" t="0" r="50914" b="58904"/>
          <a:stretch/>
        </p:blipFill>
        <p:spPr>
          <a:xfrm>
            <a:off x="5943600" y="838080"/>
            <a:ext cx="3200400" cy="2195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228240" y="763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ell membrane is fluid</a:t>
            </a:r>
            <a:endParaRPr b="0" lang="en-US" sz="36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2"/>
          <a:srcRect l="0" t="48882" r="51823" b="3357"/>
          <a:stretch/>
        </p:blipFill>
        <p:spPr>
          <a:xfrm>
            <a:off x="5867280" y="3343320"/>
            <a:ext cx="3200400" cy="2600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7967520" y="5600880"/>
            <a:ext cx="1008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ig. 8.4a &amp; 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membrane is a collage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ـَجَمُع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f different proteins embedded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مُـنْغَمِس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 the fluid matrix of the lipid bilay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Membranes are mosaics of structure and function</a:t>
            </a:r>
            <a:endParaRPr b="0" lang="en-US" sz="28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rcRect l="0" t="0" r="0" b="4734"/>
          <a:stretch/>
        </p:blipFill>
        <p:spPr>
          <a:xfrm>
            <a:off x="1219320" y="1774800"/>
            <a:ext cx="7086600" cy="4743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7919640" y="6597720"/>
            <a:ext cx="122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8.6, Page 14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0" y="6324480"/>
            <a:ext cx="1905120" cy="5335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, Unit 2 ch.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3"/>
          <p:cNvGrpSpPr/>
          <p:nvPr/>
        </p:nvGrpSpPr>
        <p:grpSpPr>
          <a:xfrm>
            <a:off x="5029200" y="3111480"/>
            <a:ext cx="4038480" cy="3365640"/>
            <a:chOff x="5029200" y="3111480"/>
            <a:chExt cx="4038480" cy="3365640"/>
          </a:xfrm>
        </p:grpSpPr>
        <p:pic>
          <p:nvPicPr>
            <p:cNvPr id="75" name="Picture 5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5029200" y="3111480"/>
              <a:ext cx="403848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7"/>
            <p:cNvSpPr/>
            <p:nvPr/>
          </p:nvSpPr>
          <p:spPr>
            <a:xfrm>
              <a:off x="8001000" y="57913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Peripheral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8"/>
            <p:cNvSpPr/>
            <p:nvPr/>
          </p:nvSpPr>
          <p:spPr>
            <a:xfrm>
              <a:off x="8001000" y="327672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Peripheral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9"/>
            <p:cNvSpPr/>
            <p:nvPr/>
          </p:nvSpPr>
          <p:spPr>
            <a:xfrm flipH="1">
              <a:off x="7695720" y="350532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0"/>
            <p:cNvSpPr/>
            <p:nvPr/>
          </p:nvSpPr>
          <p:spPr>
            <a:xfrm flipH="1">
              <a:off x="7772040" y="61722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1"/>
            <p:cNvSpPr/>
            <p:nvPr/>
          </p:nvSpPr>
          <p:spPr>
            <a:xfrm>
              <a:off x="5257800" y="3352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Integral prote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12"/>
            <p:cNvSpPr/>
            <p:nvPr/>
          </p:nvSpPr>
          <p:spPr>
            <a:xfrm>
              <a:off x="5715000" y="3733920"/>
              <a:ext cx="12193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839440" cy="62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A)- The plasma membrane has a unique collection </a:t>
            </a:r>
            <a:r>
              <a:rPr b="0" lang="ar-EG" sz="2000" spc="-1" strike="noStrike" u="sng">
                <a:solidFill>
                  <a:srgbClr val="0000ff"/>
                </a:solidFill>
                <a:uFillTx/>
                <a:latin typeface="Arial"/>
                <a:cs typeface="Arial"/>
              </a:rPr>
              <a:t>تجمع مميَـز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of prote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two populations of membrane prote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490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eripheral prote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طرف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 not embedded in the lipid bilayer at all. Instead, they are loosely bounded to the surface of the protein, often connected to the other population of membrane prote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-4903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Integral prote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ُندَمج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ُتحِ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netrate the hydrophobic core of the lipid bilayer, often completely spanning the membran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transmembran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prote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2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they contact the core,                                                                    they ha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drophobic regio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with nonpolar amino acids, often                                                              coiled in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lpha hel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5920" indent="-56592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they are in contact with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queous environment, they have   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drophilic reg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f amino aci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75477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7, Page 14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The proteins in the plasma membrane may provide a variety of major cell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rcRect l="0" t="0" r="0" b="3991"/>
          <a:stretch/>
        </p:blipFill>
        <p:spPr>
          <a:xfrm>
            <a:off x="304920" y="990720"/>
            <a:ext cx="8534160" cy="5489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2743200" y="6415200"/>
            <a:ext cx="144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9, Page 14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7226280" y="6286680"/>
            <a:ext cx="1905120" cy="5331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D, Unit 1 ch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51920" y="1142640"/>
            <a:ext cx="891540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3f1b"/>
                </a:solidFill>
                <a:latin typeface="Arial"/>
                <a:ea typeface="Arial"/>
              </a:rPr>
              <a:t>The membrane plays the key role in cell-cell recog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-cell recognition is the ability of a cell to distinguish one type of neighbo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  <a:cs typeface="Arial"/>
              </a:rPr>
              <a:t>المجاو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 from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the basis for rejection of foreign cells by the immune sys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lls recognize other cells by recognizing the surface molecules, often carbohydrates, on the plasma membr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mbrane carbohydrates may be covalently bonded either to lipids, form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lycolipid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, to proteins, forming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glyco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our human blood groups (</a:t>
            </a:r>
            <a:r>
              <a:rPr b="1" lang="en-US" sz="2000" spc="-1" strike="noStrike">
                <a:solidFill>
                  <a:srgbClr val="f63f1b"/>
                </a:solidFill>
                <a:latin typeface="Arial"/>
                <a:ea typeface="Arial"/>
              </a:rPr>
              <a:t>A, B, AB, and 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differ in the external carbohydrates on red blood ce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)- Membrane carbohydrates are important for cell-cell recognition</a:t>
            </a:r>
            <a:endParaRPr b="0" lang="en-US" sz="2400" spc="-1" strike="noStrike">
              <a:solidFill>
                <a:srgbClr val="ffc247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01:39:32Z</dcterms:created>
  <dc:creator>Karl Miyajima</dc:creator>
  <dc:description/>
  <dc:language>en-US</dc:language>
  <cp:lastModifiedBy>Ahmed</cp:lastModifiedBy>
  <cp:lastPrinted>2001-01-06T03:20:03Z</cp:lastPrinted>
  <dcterms:modified xsi:type="dcterms:W3CDTF">2009-03-03T12:28:22Z</dcterms:modified>
  <cp:revision>268</cp:revision>
  <dc:subject/>
  <dc:title>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