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CB8-1FF8-474D-8A30-41D06457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338-216D-456B-AE35-AEAD35AB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7EE-B123-4B24-9E53-EB036E22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443-09EE-477B-AA11-0C0D2780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5FE-C2BC-4044-9CC8-C833AC7E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B14-F4CB-4968-9F5E-2A347BF7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A23-7D12-4BE1-98CD-8C62C7FC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26B-41F8-453F-90E7-435C1BBD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8CC-8E1C-4564-B806-CEE30A2B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F1B-FEB6-4042-8485-E4C74400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1E7-FDFD-4BC9-8FB2-9DDB5EA8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E3B-A88A-44F7-B117-5CDC14A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D228-5E92-407D-A411-76D8D0ECF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AAF0-A4EF-4406-870B-EB52FDA0E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8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31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8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erobic respi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relate to the structure of a mitochondr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Kreb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ycle synthesis 10%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ain synthesis 90%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7152-AE84-462F-8DBE-04C04AC7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ctron trans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in 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D0D-976F-45E1-9B60-7BD0863D9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7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7F71-A973-40E4-ACE1-8486DEE82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teps can be divided into two pha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2860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5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10" name="Freeform 8"/>
            <p:cNvSpPr/>
            <p:nvPr/>
          </p:nvSpPr>
          <p:spPr>
            <a:xfrm>
              <a:off x="2514600" y="5251320"/>
              <a:ext cx="1904760" cy="45684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4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US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20" name="Freeform 18"/>
            <p:cNvSpPr/>
            <p:nvPr/>
          </p:nvSpPr>
          <p:spPr>
            <a:xfrm>
              <a:off x="5867280" y="5775480"/>
              <a:ext cx="2133720" cy="609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ash</cp:lastModifiedBy>
  <dcterms:modified xsi:type="dcterms:W3CDTF">2013-01-09T20:23:03Z</dcterms:modified>
  <cp:revision>152</cp:revision>
  <dc:subject/>
  <dc:title>Slide 1</dc:title>
</cp:coreProperties>
</file>