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4D6-CA64-4879-B972-CB5F03CA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DF3-F440-44B6-9C1B-4277B754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5AE-0DAC-47D0-8EBB-398555EC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2FF-DAE5-44A8-9424-C85F3835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16C-B3A8-413D-813C-51549648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4ED-415D-471C-9A61-E7857EE4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84B-5C18-4D9E-9AC7-FDE91889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0A4-830C-45FF-AC8C-DF35E131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843-8496-48DA-8094-F0DED05A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6A0-72CC-4C2E-929F-075AC22B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FB9-A539-408E-9639-B8AAA44E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589-040F-40D0-81AC-82CA8EB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89E3-6458-4421-B6B8-458CF4D3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F12F-B89B-424A-984E-04C9F3D17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rcRect l="18590" t="8065" r="4048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8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31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8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erobic respi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relate to the structure of a mitochondr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Kreb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ycle synthesis 10%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ain synthesis 90%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70EE-D0A4-41B4-B0D6-D3A7907AE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ctron trans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in 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47F6-C7E8-4E3B-B9DA-2DFE6ECE4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7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72C2-9399-44FF-9ACA-2D905CFC1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teps can be divided into two pha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2860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950"/>
                            </p:stCondLst>
                            <p:childTnLst>
                              <p:par>
                                <p:cTn id="204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10" name="Freeform 8"/>
            <p:cNvSpPr/>
            <p:nvPr/>
          </p:nvSpPr>
          <p:spPr>
            <a:xfrm>
              <a:off x="2514600" y="5251320"/>
              <a:ext cx="1904760" cy="456840"/>
            </a:xfrm>
            <a:prstGeom prst="pie">
              <a:avLst/>
            </a:pr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US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4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US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20" name="Freeform 18"/>
            <p:cNvSpPr/>
            <p:nvPr/>
          </p:nvSpPr>
          <p:spPr>
            <a:xfrm>
              <a:off x="5867280" y="5775480"/>
              <a:ext cx="2133720" cy="609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8590" t="8065" r="4048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ash</cp:lastModifiedBy>
  <dcterms:modified xsi:type="dcterms:W3CDTF">2013-01-09T20:23:03Z</dcterms:modified>
  <cp:revision>152</cp:revision>
  <dc:subject/>
  <dc:title>Slide 1</dc:title>
</cp:coreProperties>
</file>