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9DCB-F806-4E52-8A81-00760827A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85B6-0364-466D-897A-3A60760A6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45F6-5A5A-449F-9B1C-C2631D647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5462-7DF5-4937-888B-071E882BF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8CC9-83FC-4A4D-95D5-F80392955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1D81-43C5-4FFD-870B-6E701480D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E17D-7E85-42D9-8199-8EBB94CA4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BB51-59BA-4384-9549-C40C7A7C5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8905-6B1A-4354-87E6-224229F7C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B998-6155-4627-BF7E-A9EC79C70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EF4F-C176-41EC-8D7C-98F9E7A0B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6FFA-A843-4DC3-949D-A0ACC5D3D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FD0D3-69BE-49F4-BEFC-5A504AA7E18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sumanasinc.com/webcontent/animations/content/cellularrespiration.html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D2830-5C97-4C5F-AAF4-C8B610FDB00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173160" y="1057320"/>
            <a:ext cx="7884720" cy="4893840"/>
            <a:chOff x="173160" y="1057320"/>
            <a:chExt cx="7884720" cy="4893840"/>
          </a:xfrm>
        </p:grpSpPr>
        <p:pic>
          <p:nvPicPr>
            <p:cNvPr id="43" name="Picture 4" descr=""/>
            <p:cNvPicPr/>
            <p:nvPr/>
          </p:nvPicPr>
          <p:blipFill>
            <a:blip r:embed="rId1">
              <a:lum contrast="24000"/>
            </a:blip>
            <a:srcRect l="0" t="0" r="0" b="6594"/>
            <a:stretch/>
          </p:blipFill>
          <p:spPr>
            <a:xfrm>
              <a:off x="798840" y="1461960"/>
              <a:ext cx="7259040" cy="448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Oval 5"/>
            <p:cNvSpPr/>
            <p:nvPr/>
          </p:nvSpPr>
          <p:spPr>
            <a:xfrm rot="18849000">
              <a:off x="569520" y="1572120"/>
              <a:ext cx="2317680" cy="2085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2568960" y="1864800"/>
              <a:ext cx="2145600" cy="42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Rectangle 7"/>
          <p:cNvSpPr/>
          <p:nvPr/>
        </p:nvSpPr>
        <p:spPr>
          <a:xfrm>
            <a:off x="0" y="0"/>
            <a:ext cx="9144000" cy="136836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729560" y="11160"/>
            <a:ext cx="1262160" cy="14367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0"/>
          <p:cNvSpPr/>
          <p:nvPr/>
        </p:nvSpPr>
        <p:spPr>
          <a:xfrm>
            <a:off x="2286000" y="289080"/>
            <a:ext cx="4952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LLULAR RESPIRATION:                                    HARVESTING CHEMICAL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838080" y="2257560"/>
            <a:ext cx="7696440" cy="37623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888840" y="1577880"/>
            <a:ext cx="7620120" cy="520560"/>
          </a:xfrm>
          <a:prstGeom prst="rect">
            <a:avLst/>
          </a:prstGeom>
          <a:solidFill>
            <a:srgbClr val="0000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ection B: The Process of Cellular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5"/>
          <p:cNvSpPr/>
          <p:nvPr/>
        </p:nvSpPr>
        <p:spPr>
          <a:xfrm>
            <a:off x="304920" y="624780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sumanasinc.com/webcontent/animations/content/cellularrespiratio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7" descr=""/>
          <p:cNvPicPr/>
          <p:nvPr/>
        </p:nvPicPr>
        <p:blipFill>
          <a:blip r:embed="rId4"/>
          <a:srcRect l="18590" t="8064" r="4054" b="0"/>
          <a:stretch/>
        </p:blipFill>
        <p:spPr>
          <a:xfrm>
            <a:off x="22320" y="42840"/>
            <a:ext cx="1209600" cy="13287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7" descr=""/>
          <p:cNvPicPr/>
          <p:nvPr/>
        </p:nvPicPr>
        <p:blipFill>
          <a:blip r:embed="rId1"/>
          <a:srcRect l="0" t="0" r="0" b="5857"/>
          <a:stretch/>
        </p:blipFill>
        <p:spPr>
          <a:xfrm>
            <a:off x="3886200" y="3635280"/>
            <a:ext cx="5183280" cy="276552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76320" y="1431720"/>
            <a:ext cx="8991360" cy="78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present,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yruv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nters the mitochondrion where enzymes of the Krebs cycle complete the oxidation of this organic fuel to 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 The Krebs cycle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completes the energy-yielding oxidation of organic molecules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 mitochondrial matrix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):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152280" y="2300400"/>
            <a:ext cx="8382240" cy="365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pyruvate enters the mitochondrion which modifies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pyruv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acetyl-Co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hich enters the Krebs cycle in the matri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carboxyl group is removed as 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pair of electrons is                                                                         transferred from the                                                                              remaining two-carbon                                                                             fragments to NA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to form                                                                         NAD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oxidized fragment,                                                                                       acetate, combines with                                                                             coenzyme A to form                                                                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acetyl-Co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1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308E6-4F4B-4E16-9BB6-3DBDE19C769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914400" y="31896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Section B: The Process of Cellular 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228600" y="1143000"/>
            <a:ext cx="876312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iration involves three st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buClr>
                <a:srgbClr val="ff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Glycolysi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arvests chemical energy by oxidizing glucose to pyruvate and produces about 5% of ATP (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in cytoplas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Krebs cyc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mpletes the energy-yielding oxidation of organic molecul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produces about 5% of AT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in mitochondrial matri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buClr>
                <a:srgbClr val="ff0000"/>
              </a:buClr>
              <a:buFont typeface="Arial"/>
              <a:buAutoNum type="arabicPeriod" startAt="3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lectron transpor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hain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synthe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P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produces about 90% of AT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inner mitochondrial membra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ellular respiration generates many ATP molecules. For each sugar molecule it oxidizes (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38 ATP molecule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CA406-7868-4B2F-8548-6D4A2157812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52280" y="1371600"/>
            <a:ext cx="5105520" cy="13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iration occurs in three metabolic stages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lycolysis, the Krebs cyc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and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ectron transport cha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oxidative phosphory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spiration involves glycolysis, the Krebs cycle, and electron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7733520" y="3962520"/>
            <a:ext cx="1406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9.6, Page 16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"/>
          <p:cNvPicPr/>
          <p:nvPr/>
        </p:nvPicPr>
        <p:blipFill>
          <a:blip r:embed="rId1"/>
          <a:srcRect l="0" t="0" r="0" b="4888"/>
          <a:stretch/>
        </p:blipFill>
        <p:spPr>
          <a:xfrm>
            <a:off x="5334120" y="1295280"/>
            <a:ext cx="3606840" cy="254340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sp>
        <p:nvSpPr>
          <p:cNvPr id="63" name="Rectangle 8"/>
          <p:cNvSpPr/>
          <p:nvPr/>
        </p:nvSpPr>
        <p:spPr>
          <a:xfrm>
            <a:off x="76320" y="2819520"/>
            <a:ext cx="5105160" cy="12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ycolysis occurs in the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ytoplas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t begins catabolism by breaking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gluco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to two molecules of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pyru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0"/>
          <p:cNvSpPr/>
          <p:nvPr/>
        </p:nvSpPr>
        <p:spPr>
          <a:xfrm>
            <a:off x="76320" y="4334040"/>
            <a:ext cx="8991360" cy="19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Krebs cycle occurs in the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mitochondrial matri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t degrades pyruvate to carbon diox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steps in glycolysis and the Krebs cycle transfer electrons from substrates to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NAD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forming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asses these electrons to the electron transport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2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35517-9DC1-464D-9CFC-377297E8337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369040" y="2514600"/>
            <a:ext cx="3774960" cy="426708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>
            <a:off x="76320" y="1203480"/>
            <a:ext cx="8458200" cy="17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cc"/>
                </a:solidFill>
                <a:uFillTx/>
                <a:latin typeface="Arial"/>
              </a:rPr>
              <a:t>I- Substrate-level phosphoryl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ATP is generated i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lycolysi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i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Krebs cycl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strate-level phosphoryl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osphate group is transferred  from an organic molecule (the substrate) to ADP,                                      forming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0%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TP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4 ATP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152280" y="5622840"/>
            <a:ext cx="5181840" cy="1050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ltimatel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8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produced per mole of glucose that is degraded to carbo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respi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0" y="3170160"/>
            <a:ext cx="5562720" cy="21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cc"/>
                </a:solidFill>
                <a:uFillTx/>
                <a:latin typeface="Arial"/>
              </a:rPr>
              <a:t>II- Oxidative phosphorylation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electrons passed along the chain, their energy stored in the mitochondrion in a form that can be used to synthesize the rest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90% of the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34 ATP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ia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Oxidative phosphoryl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1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2"/>
          <p:cNvSpPr/>
          <p:nvPr/>
        </p:nvSpPr>
        <p:spPr>
          <a:xfrm>
            <a:off x="2286000" y="2286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Phosphory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7" descr=""/>
          <p:cNvPicPr/>
          <p:nvPr/>
        </p:nvPicPr>
        <p:blipFill>
          <a:blip r:embed="rId1"/>
          <a:srcRect l="4082" t="0" r="4082" b="6251"/>
          <a:stretch/>
        </p:blipFill>
        <p:spPr>
          <a:xfrm>
            <a:off x="5334120" y="29718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75960" y="1441440"/>
            <a:ext cx="8839080" cy="55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68560" indent="-2509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uring glycolysis, glucose (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 six carbon-suga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is split into two molecules      (each is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hree-carbon suga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560" indent="-2509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se smaller sugars are oxidized and rearranged to form two molecules of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pyruvate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560" indent="-2509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ch of the 10 steps in glycolysis is catalyzed by a specific enzy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560" indent="-2509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se steps can be divided into two phas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1)- Energy investment phas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ستهلاك طاق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spcBef>
                <a:spcPts val="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P is consumed to provides activation                                                                                                         energy by phosphorylating glucose                                                                                                                  (this requires 2 ATP per glucos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2)- Energy payoff phas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نتاج طاق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P is produced by substrate-level                                                                                       phosphorylation and NAD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is reduced to                                                                                                  NAD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8560" indent="-250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4 AT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2NAD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re produced per                                                          gluco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560" indent="-250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the net yield from glycolysis is                                                                       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2 AT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2 NAD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er gluc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560" indent="-250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ygen is not required for glyco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1828800" y="91800"/>
            <a:ext cx="6934320" cy="76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- Glycolysis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litting glucose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): harvests chemical energy by oxidizing glucose to 2-pyruv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69343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Summary of Glycolysis (</a:t>
            </a:r>
            <a:r>
              <a:rPr b="1" lang="en-GB" sz="2000" spc="-1" strike="noStrike">
                <a:solidFill>
                  <a:srgbClr val="3333ff"/>
                </a:solidFill>
                <a:latin typeface="Arial"/>
              </a:rPr>
              <a:t>Splitting of glucose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)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457200" y="1219320"/>
            <a:ext cx="69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t is the process of breaking a 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glucos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nto 2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yruva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457200" y="16765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t is a source for some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NAD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18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occurs in the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CYTOSOL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(cytoplasm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228600" y="3519360"/>
            <a:ext cx="79246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)- Glucose is phosphorylated twice by adding 2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</a:t>
            </a:r>
            <a:br>
              <a:rPr sz="1800"/>
            </a:b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coming from 2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GB" sz="1800" spc="-1" strike="noStrike">
                <a:solidFill>
                  <a:srgbClr val="0000cc"/>
                </a:solidFill>
                <a:latin typeface="Arial"/>
              </a:rPr>
              <a:t>substrate-level-phosphorylatio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230400" y="3062160"/>
            <a:ext cx="438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A)- Energy investment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2594520" y="2438280"/>
            <a:ext cx="314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33cc"/>
                </a:solidFill>
                <a:uFillTx/>
                <a:latin typeface="Arial"/>
              </a:rPr>
              <a:t>It has two ph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228600" y="420516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)- Thus, Glucose (6-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 splits into two small suga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olecules (each with 3-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304920" y="59119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net yield of this process is the formation of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2 NAD</a:t>
            </a:r>
            <a:r>
              <a:rPr b="1" lang="en-GB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GB" sz="1800" spc="-1" strike="noStrike" u="sng">
                <a:solidFill>
                  <a:srgbClr val="0033cc"/>
                </a:solidFill>
                <a:uFillTx/>
                <a:latin typeface="Arial"/>
              </a:rPr>
              <a:t>,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2 ATP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2 pyruvat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molec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153720" y="4876920"/>
            <a:ext cx="378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B)- Energy pay-off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304920" y="5424480"/>
            <a:ext cx="830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re formed by adding 4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o 4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AD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molec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3"/>
          <p:cNvSpPr/>
          <p:nvPr/>
        </p:nvSpPr>
        <p:spPr>
          <a:xfrm>
            <a:off x="304920" y="1371600"/>
            <a:ext cx="8610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is the process of producing some of the remaining energy (ATP) fro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Pyruvat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lecules. It occurs mainly in </a:t>
            </a:r>
            <a:r>
              <a:rPr b="1" lang="en-GB" sz="2400" spc="-1" strike="noStrike" u="sng">
                <a:solidFill>
                  <a:srgbClr val="0033cc"/>
                </a:solidFill>
                <a:uFillTx/>
                <a:latin typeface="Arial"/>
              </a:rPr>
              <a:t>mitochondrial matrix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oxygen is presen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304920" y="257508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is the main source for preparing most of the cellular NAD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storing energy molecule),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nd for producing some more of the cellula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304920" y="3413160"/>
            <a:ext cx="37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includes two cycles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1752480" y="4191120"/>
            <a:ext cx="62485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2388" dir="7183193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cc"/>
                </a:solidFill>
                <a:latin typeface="Arial"/>
              </a:rPr>
              <a:t>Pre-Krebs cycle </a:t>
            </a:r>
            <a:r>
              <a:rPr b="0" lang="ar-EG" sz="2400" spc="-1" strike="noStrike">
                <a:solidFill>
                  <a:srgbClr val="ff0000"/>
                </a:solidFill>
                <a:latin typeface="Arial"/>
              </a:rPr>
              <a:t>المرحلة التحضير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1752480" y="5410080"/>
            <a:ext cx="62485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2388" dir="7183193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cc"/>
                </a:solidFill>
                <a:latin typeface="Arial"/>
              </a:rPr>
              <a:t>Krebs cyc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. The Krebs cycle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completes the energy-yielding oxidation of organic molecules (in mitochondrial matrix):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1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950"/>
                            </p:stCondLst>
                            <p:childTnLst>
                              <p:par>
                                <p:cTn id="219" nodeType="afterEffect" fill="hold" presetClass="entr" presetID="56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09320" y="228240"/>
            <a:ext cx="4419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cc"/>
                </a:solidFill>
                <a:uFillTx/>
                <a:latin typeface="Arial"/>
              </a:rPr>
              <a:t>A)- Pre-Krebs 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304920" y="1295280"/>
            <a:ext cx="8229600" cy="82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yruvate is converted into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acetyle-CoA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in the presence of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through 3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304920" y="2252520"/>
            <a:ext cx="7772400" cy="7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)-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=O</a:t>
            </a:r>
            <a:r>
              <a:rPr b="1" lang="en-GB" sz="4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group of pyruvate is released a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304920" y="279720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)- The remaining two-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fragments are oxidized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easing </a:t>
            </a:r>
            <a:r>
              <a:rPr b="0" i="1" lang="en-GB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e</a:t>
            </a:r>
            <a:r>
              <a:rPr b="0" lang="en-GB" sz="4000" spc="-1" strike="noStrike" baseline="30000">
                <a:solidFill>
                  <a:srgbClr val="0033cc"/>
                </a:solidFill>
                <a:latin typeface="Times New Roman"/>
                <a:ea typeface="Times New Roman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into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acetat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nd the resulting </a:t>
            </a:r>
            <a:r>
              <a:rPr b="1" i="1" lang="en-GB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e</a:t>
            </a:r>
            <a:r>
              <a:rPr b="1" lang="en-GB" sz="4000" spc="-1" strike="noStrike" baseline="30000">
                <a:solidFill>
                  <a:srgbClr val="0033cc"/>
                </a:solidFill>
                <a:latin typeface="Times New Roman"/>
                <a:ea typeface="Times New Roman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transform 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NAD</a:t>
            </a:r>
            <a:r>
              <a:rPr b="1" lang="en-GB" sz="2400" spc="-1" strike="noStrike" baseline="30000">
                <a:solidFill>
                  <a:srgbClr val="0033cc"/>
                </a:solidFill>
                <a:latin typeface="Arial"/>
              </a:rPr>
              <a:t>+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into 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NAD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304920" y="3746520"/>
            <a:ext cx="815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)- The coenzyme-A (</a:t>
            </a:r>
            <a:r>
              <a:rPr b="1" lang="en-GB" sz="2000" spc="-1" strike="noStrike">
                <a:solidFill>
                  <a:srgbClr val="cc0099"/>
                </a:solidFill>
                <a:latin typeface="Arial"/>
              </a:rPr>
              <a:t>Co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transform acetate compound into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 acetyle-</a:t>
            </a:r>
            <a:r>
              <a:rPr b="1" lang="en-GB" sz="2000" spc="-1" strike="noStrike">
                <a:solidFill>
                  <a:srgbClr val="cc00ff"/>
                </a:solidFill>
                <a:latin typeface="Arial"/>
              </a:rPr>
              <a:t>Co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which will be ready for Krebs Cycle for further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 oxid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7"/>
          <p:cNvGrpSpPr/>
          <p:nvPr/>
        </p:nvGrpSpPr>
        <p:grpSpPr>
          <a:xfrm>
            <a:off x="1828800" y="4905360"/>
            <a:ext cx="2590560" cy="802800"/>
            <a:chOff x="1828800" y="4905360"/>
            <a:chExt cx="2590560" cy="802800"/>
          </a:xfrm>
        </p:grpSpPr>
        <p:sp>
          <p:nvSpPr>
            <p:cNvPr id="106" name="Freeform 8"/>
            <p:cNvSpPr/>
            <p:nvPr/>
          </p:nvSpPr>
          <p:spPr>
            <a:xfrm>
              <a:off x="2514600" y="5251320"/>
              <a:ext cx="1904760" cy="456840"/>
            </a:xfrm>
            <a:custGeom>
              <a:avLst/>
              <a:gdLst>
                <a:gd name="textAreaLeft" fmla="*/ 0 w 1904760"/>
                <a:gd name="textAreaRight" fmla="*/ 1905120 w 190476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1200" h="288">
                  <a:moveTo>
                    <a:pt x="0" y="0"/>
                  </a:moveTo>
                  <a:cubicBezTo>
                    <a:pt x="188" y="144"/>
                    <a:pt x="376" y="288"/>
                    <a:pt x="576" y="288"/>
                  </a:cubicBezTo>
                  <a:cubicBezTo>
                    <a:pt x="776" y="288"/>
                    <a:pt x="1096" y="48"/>
                    <a:pt x="1200" y="0"/>
                  </a:cubicBezTo>
                </a:path>
              </a:pathLst>
            </a:custGeom>
            <a:noFill/>
            <a:ln w="38160">
              <a:solidFill>
                <a:srgbClr val="00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9"/>
            <p:cNvSpPr/>
            <p:nvPr/>
          </p:nvSpPr>
          <p:spPr>
            <a:xfrm>
              <a:off x="1828800" y="4905360"/>
              <a:ext cx="11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cc"/>
                  </a:solidFill>
                  <a:latin typeface="Arial"/>
                </a:rPr>
                <a:t>2 NAD</a:t>
              </a:r>
              <a:r>
                <a:rPr b="1" lang="en-GB" sz="3200" spc="-1" strike="noStrike" baseline="30000">
                  <a:solidFill>
                    <a:srgbClr val="0033cc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Text Box 10"/>
          <p:cNvSpPr/>
          <p:nvPr/>
        </p:nvSpPr>
        <p:spPr>
          <a:xfrm>
            <a:off x="3505320" y="484488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2 NAD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11"/>
          <p:cNvGrpSpPr/>
          <p:nvPr/>
        </p:nvGrpSpPr>
        <p:grpSpPr>
          <a:xfrm>
            <a:off x="228600" y="5505480"/>
            <a:ext cx="7238520" cy="714240"/>
            <a:chOff x="228600" y="5505480"/>
            <a:chExt cx="7238520" cy="714240"/>
          </a:xfrm>
        </p:grpSpPr>
        <p:sp>
          <p:nvSpPr>
            <p:cNvPr id="110" name="Text Box 12"/>
            <p:cNvSpPr/>
            <p:nvPr/>
          </p:nvSpPr>
          <p:spPr>
            <a:xfrm>
              <a:off x="228600" y="5521320"/>
              <a:ext cx="1652040" cy="459720"/>
            </a:xfrm>
            <a:prstGeom prst="rect">
              <a:avLst/>
            </a:prstGeom>
            <a:noFill/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rial"/>
                </a:rPr>
                <a:t>2Pyruv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13"/>
            <p:cNvSpPr/>
            <p:nvPr/>
          </p:nvSpPr>
          <p:spPr>
            <a:xfrm>
              <a:off x="5264280" y="5505480"/>
              <a:ext cx="2202840" cy="459720"/>
            </a:xfrm>
            <a:prstGeom prst="rect">
              <a:avLst/>
            </a:prstGeom>
            <a:noFill/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rial"/>
                </a:rPr>
                <a:t>2Acetyle-</a:t>
              </a:r>
              <a:r>
                <a:rPr b="1" lang="en-GB" sz="2400" spc="-1" strike="noStrike">
                  <a:solidFill>
                    <a:srgbClr val="cc00ff"/>
                  </a:solidFill>
                  <a:latin typeface="Arial"/>
                </a:rPr>
                <a:t>Co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4"/>
            <p:cNvSpPr/>
            <p:nvPr/>
          </p:nvSpPr>
          <p:spPr>
            <a:xfrm>
              <a:off x="1880640" y="5759280"/>
              <a:ext cx="33832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15"/>
            <p:cNvSpPr/>
            <p:nvPr/>
          </p:nvSpPr>
          <p:spPr>
            <a:xfrm>
              <a:off x="3061080" y="5699160"/>
              <a:ext cx="94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cc00ff"/>
                  </a:solidFill>
                  <a:latin typeface="Times New Roman"/>
                  <a:ea typeface="Times New Roman"/>
                </a:rPr>
                <a:t>Co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Rectangle 16"/>
          <p:cNvSpPr/>
          <p:nvPr/>
        </p:nvSpPr>
        <p:spPr>
          <a:xfrm>
            <a:off x="7440120" y="5530680"/>
            <a:ext cx="1619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+ CO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17"/>
          <p:cNvGrpSpPr/>
          <p:nvPr/>
        </p:nvGrpSpPr>
        <p:grpSpPr>
          <a:xfrm>
            <a:off x="4191120" y="5775480"/>
            <a:ext cx="3809880" cy="855720"/>
            <a:chOff x="4191120" y="5775480"/>
            <a:chExt cx="3809880" cy="855720"/>
          </a:xfrm>
        </p:grpSpPr>
        <p:sp>
          <p:nvSpPr>
            <p:cNvPr id="116" name="Freeform 18"/>
            <p:cNvSpPr/>
            <p:nvPr/>
          </p:nvSpPr>
          <p:spPr>
            <a:xfrm>
              <a:off x="5867280" y="5775480"/>
              <a:ext cx="2133720" cy="609480"/>
            </a:xfrm>
            <a:custGeom>
              <a:avLst/>
              <a:gdLst>
                <a:gd name="textAreaLeft" fmla="*/ 0 w 2133720"/>
                <a:gd name="textAreaRight" fmla="*/ 2134080 w 213372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344" h="384">
                  <a:moveTo>
                    <a:pt x="864" y="0"/>
                  </a:moveTo>
                  <a:cubicBezTo>
                    <a:pt x="1104" y="88"/>
                    <a:pt x="1344" y="176"/>
                    <a:pt x="1200" y="240"/>
                  </a:cubicBezTo>
                  <a:cubicBezTo>
                    <a:pt x="1056" y="304"/>
                    <a:pt x="200" y="360"/>
                    <a:pt x="0" y="384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19"/>
            <p:cNvSpPr/>
            <p:nvPr/>
          </p:nvSpPr>
          <p:spPr>
            <a:xfrm>
              <a:off x="4191120" y="6232320"/>
              <a:ext cx="167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Krebs Cyc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1143360" y="152280"/>
            <a:ext cx="351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cc"/>
                </a:solidFill>
                <a:latin typeface="Arial"/>
              </a:rPr>
              <a:t>B)- Krebs 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228600" y="1141560"/>
            <a:ext cx="464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t has eight steps starting with 2 </a:t>
            </a:r>
            <a:r>
              <a:rPr b="1" lang="en-GB" sz="1800" spc="-1" strike="noStrike">
                <a:solidFill>
                  <a:srgbClr val="0000cc"/>
                </a:solidFill>
                <a:latin typeface="Arial"/>
              </a:rPr>
              <a:t>acetyle-CoA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compunds. They are summarized as in Fig. 9.1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1752480" y="5272200"/>
            <a:ext cx="1676520" cy="1151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 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6 NAD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 FAD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8"/>
          <p:cNvGrpSpPr/>
          <p:nvPr/>
        </p:nvGrpSpPr>
        <p:grpSpPr>
          <a:xfrm>
            <a:off x="76320" y="5227560"/>
            <a:ext cx="1599840" cy="1311480"/>
            <a:chOff x="76320" y="5227560"/>
            <a:chExt cx="1599840" cy="1311480"/>
          </a:xfrm>
        </p:grpSpPr>
        <p:sp>
          <p:nvSpPr>
            <p:cNvPr id="124" name="AutoShape 9"/>
            <p:cNvSpPr/>
            <p:nvPr/>
          </p:nvSpPr>
          <p:spPr>
            <a:xfrm>
              <a:off x="1184040" y="5227560"/>
              <a:ext cx="492120" cy="1311480"/>
            </a:xfrm>
            <a:custGeom>
              <a:avLst/>
              <a:gdLst>
                <a:gd name="textAreaLeft" fmla="*/ 314640 w 492120"/>
                <a:gd name="textAreaRight" fmla="*/ 492480 w 492120"/>
                <a:gd name="textAreaTop" fmla="*/ 34200 h 1311480"/>
                <a:gd name="textAreaBottom" fmla="*/ 1277280 h 131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10"/>
            <p:cNvSpPr/>
            <p:nvPr/>
          </p:nvSpPr>
          <p:spPr>
            <a:xfrm>
              <a:off x="76320" y="5694120"/>
              <a:ext cx="141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11"/>
          <p:cNvGrpSpPr/>
          <p:nvPr/>
        </p:nvGrpSpPr>
        <p:grpSpPr>
          <a:xfrm>
            <a:off x="2048040" y="6294600"/>
            <a:ext cx="3972960" cy="565560"/>
            <a:chOff x="2048040" y="6294600"/>
            <a:chExt cx="3972960" cy="565560"/>
          </a:xfrm>
        </p:grpSpPr>
        <p:sp>
          <p:nvSpPr>
            <p:cNvPr id="127" name="Rectangle 12"/>
            <p:cNvSpPr/>
            <p:nvPr/>
          </p:nvSpPr>
          <p:spPr>
            <a:xfrm>
              <a:off x="2434320" y="6461280"/>
              <a:ext cx="358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F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lavin 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denine 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D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inucleoti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3"/>
            <p:cNvSpPr/>
            <p:nvPr/>
          </p:nvSpPr>
          <p:spPr>
            <a:xfrm>
              <a:off x="2048040" y="6294600"/>
              <a:ext cx="474840" cy="27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Text Box 22"/>
          <p:cNvSpPr/>
          <p:nvPr/>
        </p:nvSpPr>
        <p:spPr>
          <a:xfrm>
            <a:off x="152280" y="441972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the outcome of the two cycles is (for the 2 Acetyle-CoA molecule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0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9"/>
          <p:cNvGrpSpPr/>
          <p:nvPr/>
        </p:nvGrpSpPr>
        <p:grpSpPr>
          <a:xfrm>
            <a:off x="4702320" y="228600"/>
            <a:ext cx="4441680" cy="6019920"/>
            <a:chOff x="4702320" y="228600"/>
            <a:chExt cx="4441680" cy="6019920"/>
          </a:xfrm>
        </p:grpSpPr>
        <p:pic>
          <p:nvPicPr>
            <p:cNvPr id="133" name="Picture 15" descr=""/>
            <p:cNvPicPr/>
            <p:nvPr/>
          </p:nvPicPr>
          <p:blipFill>
            <a:blip r:embed="rId2"/>
            <a:srcRect l="0" t="0" r="0" b="4466"/>
            <a:stretch/>
          </p:blipFill>
          <p:spPr>
            <a:xfrm>
              <a:off x="4702320" y="228600"/>
              <a:ext cx="4441680" cy="601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AutoShape 17"/>
            <p:cNvSpPr/>
            <p:nvPr/>
          </p:nvSpPr>
          <p:spPr>
            <a:xfrm>
              <a:off x="7467480" y="1219320"/>
              <a:ext cx="304920" cy="144756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37440 h 1447560"/>
                <a:gd name="textAreaBottom" fmla="*/ 1410120 h 144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18"/>
            <p:cNvSpPr/>
            <p:nvPr/>
          </p:nvSpPr>
          <p:spPr>
            <a:xfrm>
              <a:off x="7620120" y="15238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cc"/>
                  </a:solidFill>
                  <a:latin typeface="Arial"/>
                </a:rPr>
                <a:t>Pre-Krebs Cyc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Rectangle 23"/>
          <p:cNvSpPr/>
          <p:nvPr/>
        </p:nvSpPr>
        <p:spPr>
          <a:xfrm>
            <a:off x="0" y="2197080"/>
            <a:ext cx="5334120" cy="22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cycle begins when acetate from each acetyl-CoA combines with oxaloacetate (4 C atoms) to form citrate (citric acid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ltimately, the oxaloacetate is recycled and the acetate is broken down to C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ch cycle produces one ATP by substrate-level phosphorylation,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three NAD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one FADH</a:t>
            </a:r>
            <a:r>
              <a:rPr b="1" lang="en-US" sz="16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another electron carrier)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per acetyl Co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5T20:15:58Z</dcterms:created>
  <dc:creator>User</dc:creator>
  <dc:description/>
  <dc:language>en-US</dc:language>
  <cp:lastModifiedBy>HP</cp:lastModifiedBy>
  <dcterms:modified xsi:type="dcterms:W3CDTF">2014-01-07T16:45:22Z</dcterms:modified>
  <cp:revision>15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345CD21A-EB1C-4D83-AC74-5924905D0726</vt:lpwstr>
  </property>
  <property fmtid="{D5CDD505-2E9C-101B-9397-08002B2CF9AE}" pid="3" name="ArticulatePath">
    <vt:lpwstr>Lecture 14</vt:lpwstr>
  </property>
</Properties>
</file>