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EB2-9E97-43A9-96FB-D4A83DDA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EBA-8E07-4008-9526-CD04840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E81-ABB4-4D44-997A-BC36BAA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D29-E601-4085-BB52-43EC147A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8D9-D67B-4B4E-BEE0-33AD8808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C84-8951-407D-B96E-6292A306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5FC-C451-4278-86EF-F03B05C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9C9-F1C5-4530-AE1F-3486431F3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AAB5-F3D7-4901-B2A7-F1BF7D4A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78F-D0D8-4759-8095-E08A329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760-DD1A-412C-A499-A8DF345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118-9DBA-4039-B926-9126C24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CF49-D36E-413C-B40D-A67DF5CBC6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sumanasinc.com/webcontent/animations/content/cellularrespiration.html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EA8D-1D0F-4924-8DBF-E63B8775E8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73160" y="1057320"/>
            <a:ext cx="7884720" cy="4893840"/>
            <a:chOff x="173160" y="1057320"/>
            <a:chExt cx="7884720" cy="4893840"/>
          </a:xfrm>
        </p:grpSpPr>
        <p:pic>
          <p:nvPicPr>
            <p:cNvPr id="43" name="Picture 4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798840" y="1461960"/>
              <a:ext cx="7259040" cy="44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Oval 5"/>
            <p:cNvSpPr/>
            <p:nvPr/>
          </p:nvSpPr>
          <p:spPr>
            <a:xfrm rot="18849000">
              <a:off x="569520" y="1572120"/>
              <a:ext cx="2317680" cy="208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2568960" y="1864800"/>
              <a:ext cx="214560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Rectangle 7"/>
          <p:cNvSpPr/>
          <p:nvPr/>
        </p:nvSpPr>
        <p:spPr>
          <a:xfrm>
            <a:off x="0" y="0"/>
            <a:ext cx="9144000" cy="13683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729560" y="11160"/>
            <a:ext cx="1262160" cy="1436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2286000" y="2890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ULAR RESPIRATION:                                    HARVESTING CHEMIC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838080" y="2257560"/>
            <a:ext cx="7696440" cy="3762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888840" y="1577880"/>
            <a:ext cx="7620120" cy="520560"/>
          </a:xfrm>
          <a:prstGeom prst="rect">
            <a:avLst/>
          </a:prstGeom>
          <a:solidFill>
            <a:srgbClr val="0000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tion B: The Process of 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304920" y="624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manasinc.com/webcontent/animations/content/cellularrespir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"/>
          <p:cNvPicPr/>
          <p:nvPr/>
        </p:nvPicPr>
        <p:blipFill>
          <a:blip r:embed="rId4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886200" y="36352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s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C36D-52DA-4A49-934A-CC30B314BC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914400" y="3189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ection B: The Process of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143000"/>
            <a:ext cx="87631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three 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and produces about 5% of ATP 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5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ai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produces about 90% of A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llular respiration generates many ATP molecules. For each sugar molecule it oxidiz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04E0-526F-4143-A5BC-07654BA72E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3" name="Rectangle 8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2A39-7D3F-48E8-8A18-CC4851D16D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369040" y="2514600"/>
            <a:ext cx="3774960" cy="4267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76320" y="1203480"/>
            <a:ext cx="845820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- Substrate-level phosphoryl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generat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rebs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ate group is transferred  from an organic molecule (the substrate) to ADP,                                      form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%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 AT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52280" y="5622840"/>
            <a:ext cx="5181840" cy="1050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3170160"/>
            <a:ext cx="556272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II- Oxidative phosphoryla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the res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4 AT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2286000" y="2286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hosphor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rcRect l="4082" t="0" r="4082" b="6251"/>
          <a:stretch/>
        </p:blipFill>
        <p:spPr>
          <a:xfrm>
            <a:off x="5334120" y="29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5960" y="1441440"/>
            <a:ext cx="8839080" cy="55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steps can be divided into two ph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                                   energy by phosphorylating glucose                                                                                                                  (this requires 2 ATP per gluco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                              phosphorylation and NAD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                                     NAD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560" indent="-250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ygen is not required for 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828800" y="91800"/>
            <a:ext cx="693432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 harvests chemical energy by oxidizing glucose to 2-pyru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Summary of Glycolysis (</a:t>
            </a:r>
            <a:r>
              <a:rPr b="1" lang="en-GB" sz="2000" spc="-1" strike="noStrike">
                <a:solidFill>
                  <a:srgbClr val="3333ff"/>
                </a:solidFill>
                <a:latin typeface="Arial"/>
              </a:rPr>
              <a:t>Splitting of glucos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121932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yruv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57200" y="1676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1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28600" y="351936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230400" y="3062160"/>
            <a:ext cx="43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94520" y="24382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228600" y="42051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04920" y="5911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net yield of this process is the formation of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18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ATP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15372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04920" y="5424480"/>
            <a:ext cx="83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371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(ATP)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oxygen is pres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04920" y="25750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1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09320" y="2282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04920" y="1295280"/>
            <a:ext cx="8229600" cy="8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04920" y="22525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04920" y="279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GB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4920" y="3746520"/>
            <a:ext cx="81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828800" y="4905360"/>
            <a:ext cx="2590560" cy="802800"/>
            <a:chOff x="1828800" y="4905360"/>
            <a:chExt cx="2590560" cy="802800"/>
          </a:xfrm>
        </p:grpSpPr>
        <p:sp>
          <p:nvSpPr>
            <p:cNvPr id="106" name="Freeform 8"/>
            <p:cNvSpPr/>
            <p:nvPr/>
          </p:nvSpPr>
          <p:spPr>
            <a:xfrm>
              <a:off x="2514600" y="5251320"/>
              <a:ext cx="1904760" cy="45684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1828800" y="49053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GB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0"/>
          <p:cNvSpPr/>
          <p:nvPr/>
        </p:nvSpPr>
        <p:spPr>
          <a:xfrm>
            <a:off x="3505320" y="4844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1"/>
          <p:cNvGrpSpPr/>
          <p:nvPr/>
        </p:nvGrpSpPr>
        <p:grpSpPr>
          <a:xfrm>
            <a:off x="228600" y="5505480"/>
            <a:ext cx="7238520" cy="714240"/>
            <a:chOff x="228600" y="5505480"/>
            <a:chExt cx="7238520" cy="714240"/>
          </a:xfrm>
        </p:grpSpPr>
        <p:sp>
          <p:nvSpPr>
            <p:cNvPr id="110" name="Text Box 12"/>
            <p:cNvSpPr/>
            <p:nvPr/>
          </p:nvSpPr>
          <p:spPr>
            <a:xfrm>
              <a:off x="228600" y="552132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3"/>
            <p:cNvSpPr/>
            <p:nvPr/>
          </p:nvSpPr>
          <p:spPr>
            <a:xfrm>
              <a:off x="5264280" y="550548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GB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>
              <a:off x="1880640" y="575928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5"/>
            <p:cNvSpPr/>
            <p:nvPr/>
          </p:nvSpPr>
          <p:spPr>
            <a:xfrm>
              <a:off x="3061080" y="569916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16"/>
          <p:cNvSpPr/>
          <p:nvPr/>
        </p:nvSpPr>
        <p:spPr>
          <a:xfrm>
            <a:off x="7440120" y="5530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7"/>
          <p:cNvGrpSpPr/>
          <p:nvPr/>
        </p:nvGrpSpPr>
        <p:grpSpPr>
          <a:xfrm>
            <a:off x="4191120" y="5775480"/>
            <a:ext cx="3809880" cy="855720"/>
            <a:chOff x="4191120" y="5775480"/>
            <a:chExt cx="3809880" cy="855720"/>
          </a:xfrm>
        </p:grpSpPr>
        <p:sp>
          <p:nvSpPr>
            <p:cNvPr id="116" name="Freeform 18"/>
            <p:cNvSpPr/>
            <p:nvPr/>
          </p:nvSpPr>
          <p:spPr>
            <a:xfrm>
              <a:off x="5867280" y="5775480"/>
              <a:ext cx="2133720" cy="6094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9"/>
            <p:cNvSpPr/>
            <p:nvPr/>
          </p:nvSpPr>
          <p:spPr>
            <a:xfrm>
              <a:off x="4191120" y="62323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3360" y="152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28600" y="114156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52480" y="527220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76320" y="5227560"/>
            <a:ext cx="1599840" cy="1311480"/>
            <a:chOff x="76320" y="5227560"/>
            <a:chExt cx="1599840" cy="1311480"/>
          </a:xfrm>
        </p:grpSpPr>
        <p:sp>
          <p:nvSpPr>
            <p:cNvPr id="124" name="AutoShape 9"/>
            <p:cNvSpPr/>
            <p:nvPr/>
          </p:nvSpPr>
          <p:spPr>
            <a:xfrm>
              <a:off x="1184040" y="5227560"/>
              <a:ext cx="492120" cy="131148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480"/>
                <a:gd name="textAreaBottom" fmla="*/ 1277280 h 131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0"/>
            <p:cNvSpPr/>
            <p:nvPr/>
          </p:nvSpPr>
          <p:spPr>
            <a:xfrm>
              <a:off x="76320" y="569412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1"/>
          <p:cNvGrpSpPr/>
          <p:nvPr/>
        </p:nvGrpSpPr>
        <p:grpSpPr>
          <a:xfrm>
            <a:off x="2048040" y="6294600"/>
            <a:ext cx="3972960" cy="565560"/>
            <a:chOff x="2048040" y="6294600"/>
            <a:chExt cx="3972960" cy="565560"/>
          </a:xfrm>
        </p:grpSpPr>
        <p:sp>
          <p:nvSpPr>
            <p:cNvPr id="127" name="Rectangle 12"/>
            <p:cNvSpPr/>
            <p:nvPr/>
          </p:nvSpPr>
          <p:spPr>
            <a:xfrm>
              <a:off x="2434320" y="646128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2048040" y="6294600"/>
              <a:ext cx="474840" cy="27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22"/>
          <p:cNvSpPr/>
          <p:nvPr/>
        </p:nvSpPr>
        <p:spPr>
          <a:xfrm>
            <a:off x="152280" y="44197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9"/>
          <p:cNvGrpSpPr/>
          <p:nvPr/>
        </p:nvGrpSpPr>
        <p:grpSpPr>
          <a:xfrm>
            <a:off x="4702320" y="228600"/>
            <a:ext cx="4441680" cy="6019920"/>
            <a:chOff x="4702320" y="228600"/>
            <a:chExt cx="4441680" cy="6019920"/>
          </a:xfrm>
        </p:grpSpPr>
        <p:pic>
          <p:nvPicPr>
            <p:cNvPr id="133" name="Picture 15" descr=""/>
            <p:cNvPicPr/>
            <p:nvPr/>
          </p:nvPicPr>
          <p:blipFill>
            <a:blip r:embed="rId2"/>
            <a:srcRect l="0" t="0" r="0" b="4466"/>
            <a:stretch/>
          </p:blipFill>
          <p:spPr>
            <a:xfrm>
              <a:off x="4702320" y="22860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7"/>
            <p:cNvSpPr/>
            <p:nvPr/>
          </p:nvSpPr>
          <p:spPr>
            <a:xfrm>
              <a:off x="7467480" y="12193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8"/>
            <p:cNvSpPr/>
            <p:nvPr/>
          </p:nvSpPr>
          <p:spPr>
            <a:xfrm>
              <a:off x="7620120" y="15238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23"/>
          <p:cNvSpPr/>
          <p:nvPr/>
        </p:nvSpPr>
        <p:spPr>
          <a:xfrm>
            <a:off x="0" y="219708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HP</cp:lastModifiedBy>
  <dcterms:modified xsi:type="dcterms:W3CDTF">2014-01-07T16:45:22Z</dcterms:modified>
  <cp:revision>1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45CD21A-EB1C-4D83-AC74-5924905D0726</vt:lpwstr>
  </property>
  <property fmtid="{D5CDD505-2E9C-101B-9397-08002B2CF9AE}" pid="3" name="ArticulatePath">
    <vt:lpwstr>Lecture 14</vt:lpwstr>
  </property>
</Properties>
</file>