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790-3309-4764-9302-B744CF3A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FF9-630C-4F63-B332-F9E9BCA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C54-303E-4D2F-8846-9410FBE3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180-5815-444F-B276-7F121DAC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02F-7C9C-42C4-A24D-471AFE3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C1C-BBBA-44A3-8217-E4FD5AFC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D6E-5A9C-43D7-8162-39EF74F1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9D6-521B-4933-9FF6-DCEE3C6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ABF-E2CF-445C-AEBF-3B22A100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4D3-D4DF-49BD-AC87-FCF464DC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ADF-6D80-4136-A25B-EF26B8DF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A99-8371-4CB7-B502-CFB57674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BB8-413E-440D-B64B-955B1FC915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62E4-D17E-4A36-B044-D98610186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764-4753-4FDE-A4DD-4A140924CC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894-CDBE-4797-8B93-7AAA31E831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6548-75C9-4FE4-8576-7DFB815FF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User</cp:lastModifiedBy>
  <dcterms:modified xsi:type="dcterms:W3CDTF">2014-01-04T04:51:07Z</dcterms:modified>
  <cp:revision>155</cp:revision>
  <dc:subject/>
  <dc:title>Slide 1</dc:title>
</cp:coreProperties>
</file>