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DD4-23D8-40B3-943C-FC9F5519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092-DD1F-4BFC-A037-F9F47FFF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8CA-BC89-4E1B-9042-8F581FA6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651-A1BF-4748-B7FB-F95EDB98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66E-6918-413C-9716-AD7D15CE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C13-F46D-4BCF-92B4-33E91043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A86-50EA-4BE6-8B64-33778E4E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434-469D-4F9A-AD4F-97D7E37E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196-2361-4C38-B56E-67549937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8CF-716D-41F7-86F1-863C523E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2E8-E32F-497D-BCCA-09F750B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7BA-6C36-4BC5-BF29-A6065D1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C602-DFB6-4047-A23B-E83808C769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2D1C-9219-4A48-86B6-B3101CED97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677E-880D-4F1D-B9AE-45C039A70E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6CB8-7DE0-4EE5-8F5D-A88AE77EDF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241D-8A2B-42CA-9540-698C5113C6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teps can be divided into two pha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User</cp:lastModifiedBy>
  <dcterms:modified xsi:type="dcterms:W3CDTF">2014-01-04T04:51:07Z</dcterms:modified>
  <cp:revision>155</cp:revision>
  <dc:subject/>
  <dc:title>Slide 1</dc:title>
</cp:coreProperties>
</file>