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EF7-AEC7-47AD-BBEF-7400BB07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31A-02DB-4963-BE94-D9466FB6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2114-0F48-4EC6-883A-56CAF07C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D0B-842F-4FD4-A8FD-99F0C7EC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10B0-BD5B-4FCD-B2E8-BACC1B60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C0DB-D6B5-41F2-B739-0C88C68D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DA40-CB38-46D2-B4AE-2D71048F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AA37-A7D1-434D-AEED-A76434EC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7236-2860-4810-820E-F644353E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4C8E-EB1D-4DF1-B9AB-55AF819A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C3B0-9C61-4DE7-9078-4E8133A8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CE0-3403-437E-BCEA-06470108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BA6F-9C4A-4E88-A6A3-7EF7880C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F718-822E-4223-ACE7-DEE6ED8D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A530-BAB4-4F30-883B-0D0B26E5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D795-2E64-4B81-BB2C-D3A9752F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0180-FBF3-49B4-9C34-E72210D0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0E60C-7CF0-4E0A-BA86-A995B640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5763F-148E-4B44-A7AB-C14BC465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5DAF5-ACAF-4649-9302-F86AB1F3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F4645-CEDB-4DC4-B2BF-5084A204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72CB2-057F-4296-86B4-A411D4F3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B93-20AF-4E2F-AE02-07EC0464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FA370-61DB-49F8-A984-16921BEA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38511-6F42-4090-BB86-BB617B10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52B7-D99F-4CC7-B3CE-DD04C6EA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8E62A-C1D4-4C53-902F-560AC45F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A855E-0215-42E7-BF48-CD4DE37E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5D145-3C36-4212-9A83-6D0D0987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1EC71-B214-4786-AF18-A42DAE15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0C466-D0D6-44D3-A793-1BC5253C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DA652-E8FC-40BB-9A47-380FAEEF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F14A-7E9F-445A-AA63-1168A738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35B-AD7A-4A8C-8DBB-7CA70EBF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CEE5A-D23F-405F-9FDF-406A4E8B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6FB1-7F6C-4447-8FE1-5AE2EB5E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57F8D-5687-4F15-893C-CC044FC6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85D0F-326D-4544-96ED-95934039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1631B-9940-4CD7-8ECD-1C5DDCFC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B753-6A06-45A0-8432-59437573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F1812-E77D-4E76-955A-7645D040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2D5FC-EB10-4B31-8378-0B8D636C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0E3C-1056-4CFC-9058-72C57FF8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7AC-C32A-4F86-9F1B-F415F1F9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974-77E9-40AB-8748-14C7609C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B33-464A-47F3-B545-C5D4E1FE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C85-4376-41CF-BA35-1DBD0937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0FD-E3C4-48B7-8CD8-2FDFC8AF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E859-A7F3-4745-B5DF-FDD63FFC751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B4C3-22AC-4F06-ABBD-CF49975D966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BF20-3FCF-4D93-940B-E80911E97E8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F0C4-2331-495A-8C54-1F80BE111FC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1"/>
          <p:cNvGrpSpPr/>
          <p:nvPr/>
        </p:nvGrpSpPr>
        <p:grpSpPr>
          <a:xfrm>
            <a:off x="4284720" y="1452600"/>
            <a:ext cx="4824360" cy="5146560"/>
            <a:chOff x="4284720" y="1452600"/>
            <a:chExt cx="4824360" cy="5146560"/>
          </a:xfrm>
        </p:grpSpPr>
        <p:pic>
          <p:nvPicPr>
            <p:cNvPr id="290" name="Picture 22" descr="kingdoms"/>
            <p:cNvPicPr/>
            <p:nvPr/>
          </p:nvPicPr>
          <p:blipFill>
            <a:blip r:embed="rId1"/>
            <a:stretch/>
          </p:blipFill>
          <p:spPr>
            <a:xfrm>
              <a:off x="4284720" y="2277720"/>
              <a:ext cx="4824360" cy="36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3"/>
            <p:cNvSpPr/>
            <p:nvPr/>
          </p:nvSpPr>
          <p:spPr>
            <a:xfrm>
              <a:off x="7165080" y="145260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 flipH="1">
              <a:off x="5419080" y="1865160"/>
              <a:ext cx="2548800" cy="75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 flipH="1">
              <a:off x="6894000" y="1865160"/>
              <a:ext cx="1073880" cy="618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 flipH="1">
              <a:off x="6894000" y="1865160"/>
              <a:ext cx="1073880" cy="206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 flipH="1">
              <a:off x="7902000" y="1865160"/>
              <a:ext cx="6624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>
              <a:off x="4546080" y="5167440"/>
              <a:ext cx="53568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8036280" y="5237280"/>
              <a:ext cx="53820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6761160" y="1521000"/>
              <a:ext cx="53532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5820120" y="620028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 flipV="1">
              <a:off x="6693120" y="5443200"/>
              <a:ext cx="134172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 flipH="1" flipV="1">
              <a:off x="4946760" y="5513040"/>
              <a:ext cx="1745640" cy="82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82640" y="14256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4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78920" y="2649240"/>
            <a:ext cx="42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ive-kingdom system of classification, the eukaryotes were distributed among four kingdoms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tis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ta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g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mali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are eukaryotes and thus are much more complex than the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eukaryotes were unicellul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and multi-cellular animals originated from protis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Line 34"/>
          <p:cNvSpPr/>
          <p:nvPr/>
        </p:nvSpPr>
        <p:spPr>
          <a:xfrm>
            <a:off x="46368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214200" y="1257480"/>
            <a:ext cx="47865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- Kingdom Protist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ولي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ukaryotic uni-/multi-cellular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250920" y="1530360"/>
            <a:ext cx="6769080" cy="4925880"/>
          </a:xfrm>
          <a:prstGeom prst="rect">
            <a:avLst/>
          </a:prstGeom>
          <a:ln w="0">
            <a:noFill/>
          </a:ln>
        </p:spPr>
      </p:pic>
      <p:pic>
        <p:nvPicPr>
          <p:cNvPr id="352" name="Sporozoit.WMV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45600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3" name="Text Box 13"/>
          <p:cNvSpPr/>
          <p:nvPr/>
        </p:nvSpPr>
        <p:spPr>
          <a:xfrm>
            <a:off x="6000840" y="609480"/>
            <a:ext cx="30970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Kingdom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:       Prot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ubkingdom: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Phylum:        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2- </a:t>
            </a: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Subphylum:   Spor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Plasmodium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بلازموديوم الملاري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179280" y="871560"/>
            <a:ext cx="4897440" cy="459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Subphylum:  Sporozoa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بوغ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62080" y="184464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طور المعد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1187280" y="2963880"/>
            <a:ext cx="86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جرثوم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3276720" y="580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بيض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2600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9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6760" y="1203120"/>
            <a:ext cx="84250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iliophora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هدبيات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Protists use cili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أهداب</a:t>
            </a:r>
            <a:r>
              <a:rPr b="0" lang="ar-SA" sz="1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7120" y="2307960"/>
            <a:ext cx="83822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Ciliophora (ciliates), a diverse protist group, is named for their use of cilia to move and f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st ciliates live in fresh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ir cilia coordinate mov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ciliates are completely covered by rows of cilia, whereas others have cilia clustered into fewer row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specific arrangement of cilia adapts the ciliates for their lifesty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8"/>
          <p:cNvGrpSpPr/>
          <p:nvPr/>
        </p:nvGrpSpPr>
        <p:grpSpPr>
          <a:xfrm>
            <a:off x="3708360" y="2271600"/>
            <a:ext cx="5329440" cy="4470480"/>
            <a:chOff x="3708360" y="2271600"/>
            <a:chExt cx="5329440" cy="4470480"/>
          </a:xfrm>
        </p:grpSpPr>
        <p:pic>
          <p:nvPicPr>
            <p:cNvPr id="362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3708360" y="2271600"/>
              <a:ext cx="5329440" cy="44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2"/>
            <p:cNvSpPr/>
            <p:nvPr/>
          </p:nvSpPr>
          <p:spPr>
            <a:xfrm>
              <a:off x="5618160" y="2620800"/>
              <a:ext cx="11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أهدا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5724360" y="2990880"/>
              <a:ext cx="1152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غذ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>
              <a:off x="5651640" y="35002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ميزاب الف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5651640" y="451944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صغ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6"/>
            <p:cNvSpPr/>
            <p:nvPr/>
          </p:nvSpPr>
          <p:spPr>
            <a:xfrm>
              <a:off x="5718240" y="50068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كب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508720" y="59500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6776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Subphylum: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Ciliophora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شعيبة الهدبيات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7640" y="1109160"/>
            <a:ext cx="8713800" cy="125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10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has cilia along the oral groov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يزاب الف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draw in foo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يبلع الغذ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at are engulfed by phagocytosis, 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d expe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يُخر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ccumulated water from the contractile vacuol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جوة المنقبض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1" name="Paramecium.avi" descr=""/>
          <p:cNvPicPr/>
          <p:nvPr/>
        </p:nvPicPr>
        <p:blipFill>
          <a:blip r:embed="rId2"/>
          <a:stretch/>
        </p:blipFill>
        <p:spPr>
          <a:xfrm>
            <a:off x="250920" y="2889360"/>
            <a:ext cx="360036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Line 11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1600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50560" y="1268280"/>
            <a:ext cx="8458200" cy="39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ha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two types of nuclei, a large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acronucleu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usually several tiny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icronuclei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Paramecium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lly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inary fission of the macronucleus, rather than mitotic divi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icronuclei (with between 1 and 80 copies) are required for sexual processes that generate genetic vari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835280" y="18900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aramec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4.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arcodin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سركودينا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rotists use pseudopodia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قدام الكاذب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 and feed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353440" cy="344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arcodina are protists use pseudopodia, cellular extensions, to move and often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heterotrophs that actively feed on bacteria and other proti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ther species are symbiotic, including some human parasi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are all unicellular and use                                                                   pseudopodia to move and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Amoeba.wmv" descr=""/>
          <p:cNvPicPr/>
          <p:nvPr/>
        </p:nvPicPr>
        <p:blipFill>
          <a:blip r:embed="rId1"/>
          <a:stretch/>
        </p:blipFill>
        <p:spPr>
          <a:xfrm>
            <a:off x="5834160" y="407196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379" name="Line 5"/>
          <p:cNvSpPr/>
          <p:nvPr/>
        </p:nvSpPr>
        <p:spPr>
          <a:xfrm>
            <a:off x="250920" y="1052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69920" y="4437000"/>
            <a:ext cx="468936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eboid movement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ركة الأميب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curs by changes in microtubules and microfilaments in the cytoskele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podia activity is directed toward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8120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24000" y="1318680"/>
            <a:ext cx="8496000" cy="47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inhabit freshwater and marine environ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ay also be abundant in soi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free-living heterotroph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are important parasit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include  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Entamoeba histolytic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hich                                             causes amoeboid dysentery                          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دوسنتار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um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organisms spread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contaminated drinking                                                     water, food, and eating utensi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25092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1"/>
          <a:stretch/>
        </p:blipFill>
        <p:spPr>
          <a:xfrm>
            <a:off x="5143680" y="2638440"/>
            <a:ext cx="37861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8000" y="1217520"/>
            <a:ext cx="864216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unicellular eukaryot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anging from uni-celled microscopic members, simple multi-cellular forms, and complex giants like seaweed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شائش البحر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Group 13"/>
          <p:cNvGrpSpPr/>
          <p:nvPr/>
        </p:nvGrpSpPr>
        <p:grpSpPr>
          <a:xfrm>
            <a:off x="4067280" y="2565360"/>
            <a:ext cx="4952520" cy="3257640"/>
            <a:chOff x="4067280" y="2565360"/>
            <a:chExt cx="4952520" cy="3257640"/>
          </a:xfrm>
        </p:grpSpPr>
        <p:pic>
          <p:nvPicPr>
            <p:cNvPr id="308" name="Picture 7" descr=""/>
            <p:cNvPicPr/>
            <p:nvPr/>
          </p:nvPicPr>
          <p:blipFill>
            <a:blip r:embed="rId1"/>
            <a:stretch/>
          </p:blipFill>
          <p:spPr>
            <a:xfrm>
              <a:off x="4067280" y="2565360"/>
              <a:ext cx="2514240" cy="16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"/>
            <p:cNvPicPr/>
            <p:nvPr/>
          </p:nvPicPr>
          <p:blipFill>
            <a:blip r:embed="rId2"/>
            <a:srcRect l="0" t="4362" r="6061" b="0"/>
            <a:stretch/>
          </p:blipFill>
          <p:spPr>
            <a:xfrm>
              <a:off x="6657840" y="2584440"/>
              <a:ext cx="23619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9" descr=""/>
            <p:cNvPicPr/>
            <p:nvPr/>
          </p:nvPicPr>
          <p:blipFill>
            <a:blip r:embed="rId3"/>
            <a:stretch/>
          </p:blipFill>
          <p:spPr>
            <a:xfrm>
              <a:off x="4082760" y="4217760"/>
              <a:ext cx="2485800" cy="16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0" descr=""/>
            <p:cNvPicPr/>
            <p:nvPr/>
          </p:nvPicPr>
          <p:blipFill>
            <a:blip r:embed="rId4"/>
            <a:stretch/>
          </p:blipFill>
          <p:spPr>
            <a:xfrm>
              <a:off x="6657840" y="4217760"/>
              <a:ext cx="236196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Rectangle 17"/>
          <p:cNvSpPr/>
          <p:nvPr/>
        </p:nvSpPr>
        <p:spPr>
          <a:xfrm>
            <a:off x="108000" y="2716200"/>
            <a:ext cx="4105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,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t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is used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rm for a great diversity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kingd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60,000 known protists are unicellular, but some are colonial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عمرات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thers multi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rotists 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صلة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534960" y="765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78920" y="1447560"/>
            <a:ext cx="8642520" cy="414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- Nutri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غذ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robic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ئية التنف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mitochondria for cellular respi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toaut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chloropla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other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ter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bsorb organic molecules or ingest larger food parti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w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x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bining photosynthesis and heterotrophic nutr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may include photosynthetic species, heterotrophic species, and mixotrophic spec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46368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755640" y="1159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aracters of Protist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صفات الأول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50920" y="1052640"/>
            <a:ext cx="8229600" cy="371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Movement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حرك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t protists move with flagell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سوا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cili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هدا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uring some time in their life cyc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eukaryotic flagella are not homologous to those of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eukaryotic flagella are extensions of the cytoplasm with a support of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9 + 2 microtubul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re shorter and more numerous than flagell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nd flagella move the cell with rhythmic power strokes, analogous to the oars of a boa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79280" y="4724280"/>
            <a:ext cx="8713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)- Reproduc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كاثر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Reproduction and life cycles are highly varied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متنوع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ong prot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tosis occurs in almost all prot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Some protists are asexual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جنس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Others are primarily asexual but can also reproduce sexually occasion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3496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24000" y="1099800"/>
            <a:ext cx="84312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F)- Importance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الأهمي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any protists are symbion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تطفل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at inhabit the body fluids, tissues, or cells of hos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عائل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se symbiotic relationships span the continuum from mutualism to parasit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rasitic protists are important pathogens of animal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مرضات للحيوا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including those that cause potentially fatal diseases in huma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94920" y="1066680"/>
            <a:ext cx="7993080" cy="61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)- Example of Protist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                   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وضع التقسي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:       Protis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مملكة (عويلم) 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Phylum:         Protozo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شعبة</a:t>
            </a:r>
            <a:r>
              <a:rPr b="0" lang="ar-SA" sz="2000" spc="-1" strike="noStrike">
                <a:solidFill>
                  <a:srgbClr val="f63f1b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شعبة (شعيبة) السوط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xample: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400" spc="-1" strike="noStrike">
                <a:solidFill>
                  <a:srgbClr val="0000ff"/>
                </a:solidFill>
                <a:latin typeface="Constantia"/>
              </a:rPr>
              <a:t>Euglen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يوجلين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 singl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ed mixotrophic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تعدد الغذاء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ist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use chloroplasts to undergo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hotosynthesi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f light is availabl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live as a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heterotro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by absorbing organic nutrients from the environ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produce asexually by “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times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ys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547640" y="115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 (e.g.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uglena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2"/>
          <p:cNvGrpSpPr/>
          <p:nvPr/>
        </p:nvGrpSpPr>
        <p:grpSpPr>
          <a:xfrm>
            <a:off x="1717560" y="1285920"/>
            <a:ext cx="7283520" cy="4773600"/>
            <a:chOff x="1717560" y="1285920"/>
            <a:chExt cx="7283520" cy="4773600"/>
          </a:xfrm>
        </p:grpSpPr>
        <p:pic>
          <p:nvPicPr>
            <p:cNvPr id="329" name="Picture 4" descr=""/>
            <p:cNvPicPr/>
            <p:nvPr/>
          </p:nvPicPr>
          <p:blipFill>
            <a:blip r:embed="rId1"/>
            <a:srcRect l="0" t="0" r="0" b="3758"/>
            <a:stretch/>
          </p:blipFill>
          <p:spPr>
            <a:xfrm>
              <a:off x="1717560" y="1285920"/>
              <a:ext cx="728352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11"/>
            <p:cNvSpPr/>
            <p:nvPr/>
          </p:nvSpPr>
          <p:spPr>
            <a:xfrm>
              <a:off x="5551200" y="1307160"/>
              <a:ext cx="76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سو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7780680" y="2279160"/>
              <a:ext cx="111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مستشعر ضوئ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7571880" y="356940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فجوة 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7035840" y="435564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لاستيدة خضرا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6318000" y="562896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حبيبا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3948480" y="389664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4086720" y="43765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غشاء البلاز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3632040" y="50749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أشرطة بروتين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877080" y="11937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53496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4478400" y="274176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بقعة عين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Euglina.avi" descr=""/>
          <p:cNvPicPr/>
          <p:nvPr/>
        </p:nvPicPr>
        <p:blipFill>
          <a:blip r:embed="rId2"/>
          <a:stretch/>
        </p:blipFill>
        <p:spPr>
          <a:xfrm>
            <a:off x="0" y="4267080"/>
            <a:ext cx="345456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23"/>
          <p:cNvSpPr/>
          <p:nvPr/>
        </p:nvSpPr>
        <p:spPr>
          <a:xfrm>
            <a:off x="108000" y="542880"/>
            <a:ext cx="8915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Protists use flagella (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lagellates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or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4167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4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alibri"/>
              </a:rPr>
              <a:t>2-</a:t>
            </a:r>
            <a:r>
              <a:rPr b="1" i="1" lang="en-US" sz="3300" spc="-1" strike="noStrike">
                <a:solidFill>
                  <a:srgbClr val="0000ff"/>
                </a:solidFill>
                <a:latin typeface="Calibri"/>
              </a:rPr>
              <a:t> Trypanosoma</a:t>
            </a: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تريبانوسوما</a:t>
            </a:r>
            <a:r>
              <a:rPr b="0" i="1" lang="ar-SA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5840">
              <a:lnSpc>
                <a:spcPct val="7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Trypanosoma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: is symbiotic and include pathogenic parasites.                            causes African sleeping sicknes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</a:rPr>
              <a:t>Systematic Posi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:       Protis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Phylum:        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200" spc="-1" strike="noStrike">
                <a:solidFill>
                  <a:srgbClr val="0000ff"/>
                </a:solidFill>
                <a:latin typeface="Constantia"/>
              </a:rPr>
              <a:t>Trypanosoma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t is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pathogenic parasi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auses African sleeping sickne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نوم الأفريقي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5" name="Trypanosoma.wmv" descr=""/>
          <p:cNvPicPr/>
          <p:nvPr/>
        </p:nvPicPr>
        <p:blipFill>
          <a:blip r:embed="rId1"/>
          <a:stretch/>
        </p:blipFill>
        <p:spPr>
          <a:xfrm>
            <a:off x="5286240" y="4000680"/>
            <a:ext cx="3143520" cy="235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5219640" y="1204920"/>
            <a:ext cx="3167280" cy="250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7" name="Line 5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8440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976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. Parasitic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otists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picomplexans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معقدة القم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24000" y="12679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l apicomplexans are parasites of animals and some cause serious human diseas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parasites are tiny infectious cel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خلايا صغيرة ممرض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sporozoites) with a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complex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of organelles specialized for penetrat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ختراق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host cells and tissues at th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apex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مة</a:t>
            </a:r>
            <a:r>
              <a:rPr b="1" i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of the sporozoite cel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apicomplexans have life cycles with both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 and often require two or more different host species for comple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Plasmod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, the parasite that causes malaria, spends part of its life in mosquitoes and part in huma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400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0:15Z</dcterms:modified>
  <cp:revision>179</cp:revision>
  <dc:subject/>
  <dc:title>Nerve activates contraction</dc:title>
</cp:coreProperties>
</file>