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887-75FA-49F5-BA8F-F1104177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E5F-A62F-4BB8-8B53-2ABAA65D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A83-EB11-4390-B5A2-6FCA069D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6C6-7996-4C33-891A-87CE02FB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2002-68C7-4EEB-B108-7B95C02B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E8CA-7DEE-4625-AAFB-AB91AEBF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9D5D-D4D1-41F7-B0C6-01803F6E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E927-1EC7-4CC0-8E6A-AB44F226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0179-FE8A-46B2-A13C-13234154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A3FD-2E6D-43D7-A057-6876AAE7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D83B-192D-44AF-9DEF-B8A84517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27E-40E5-46F3-9C8A-5A04FC2C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915E-A444-43F6-8535-706D6511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6459-69A1-4CC5-94D9-C431A540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C20F-38B3-434D-BCCC-AD556AA3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A0C3-16B3-432A-8F72-A4ACF4AC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9235-50FC-4DDE-B31C-889E3B55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6DAC-AB3A-4BD9-9546-D53E565A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FFAD-B6B1-4876-91D9-8BCC92D8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F9AE-5B3C-4372-9ADD-5768588B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9D60-2BC3-4DD7-913A-808F7FB0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23CC-BB8D-452B-961B-2DB869C8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123-E204-42E4-85E5-BFF167C5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0B8AC-ADC0-4544-A181-35CE9415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545B-105A-4AF9-9DF1-782FD283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BBF7-2B26-4EA1-B4FA-3E27162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A8FC-017D-4ACE-A003-0A8E0BD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13579-156B-47FB-AD1C-B20EBA54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3BEB-DF45-4F68-AE09-45A21F94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4FAA-273F-4F4B-ACDB-AC7F9FBF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BF68B-24F5-476B-9643-085349B4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DAB9-F08F-44D4-8D29-C77DA26B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6E71B-347E-4C96-851B-77EE1031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9592-5BAE-4067-AEAF-1D34430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2431-DBE0-4072-B2D5-98815EB5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AA8F-0614-4D88-A9AA-3906DAA6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1353-3DC4-4038-9A4C-95F7E495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29D23-D038-411E-B2F3-2594054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1427E-D914-411E-AB84-E5D61F51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D8B6-B204-4C90-AB71-3CEC84B0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5F868-3C78-49AF-AC9B-37618F98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D0225-C010-4974-A151-3FF880B6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C257-30B2-4BD8-901D-66541CDA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47F-895B-467F-9935-670D0CB6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D85-8DC8-4A18-9853-E14E5351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956-11F7-4E8E-83FF-52BE80DE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E9A-F49F-4026-BC55-02FF0582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681-1ECF-45F7-9088-B34F01D8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AC05-B3AC-4269-9BCF-69EA554CFD2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6525-4656-477E-A321-AAB66A7D6AF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7678-5DEC-4D49-A171-0389C5C2F8F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73B8-1F63-4F14-ADE8-FCB2C703DB1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284720" y="1452600"/>
            <a:ext cx="4824360" cy="5146560"/>
            <a:chOff x="4284720" y="1452600"/>
            <a:chExt cx="4824360" cy="514656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284720" y="2277720"/>
              <a:ext cx="482436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165080" y="14526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419080" y="1865160"/>
              <a:ext cx="2548800" cy="75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6894000" y="1865160"/>
              <a:ext cx="1073880" cy="61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6894000" y="1865160"/>
              <a:ext cx="1073880" cy="206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02000" y="1865160"/>
              <a:ext cx="6624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4546080" y="5167440"/>
              <a:ext cx="53568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8036280" y="5237280"/>
              <a:ext cx="53820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761160" y="1521000"/>
              <a:ext cx="53532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5820120" y="620028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6693120" y="5443200"/>
              <a:ext cx="134172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4946760" y="5513040"/>
              <a:ext cx="1745640" cy="82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4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78920" y="2649240"/>
            <a:ext cx="42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ive-kingdom system of classification, the eukaryotes were distributed among four kingdom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i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g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are eukaryotes and thus are much more complex than the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ukaryotes were unicellul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and multi-cellular animals originated from protis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46368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214200" y="1257480"/>
            <a:ext cx="47865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- Kingdom Protist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ولي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ukaryotic uni-/multi-cellula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50920" y="1530360"/>
            <a:ext cx="6769080" cy="4925880"/>
          </a:xfrm>
          <a:prstGeom prst="rect">
            <a:avLst/>
          </a:prstGeom>
          <a:ln w="0">
            <a:noFill/>
          </a:ln>
        </p:spPr>
      </p:pic>
      <p:pic>
        <p:nvPicPr>
          <p:cNvPr id="352" name="Sporozoit.WMV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5600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Text Box 13"/>
          <p:cNvSpPr/>
          <p:nvPr/>
        </p:nvSpPr>
        <p:spPr>
          <a:xfrm>
            <a:off x="6000840" y="609480"/>
            <a:ext cx="3097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Kingdom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:       Prot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ubkingdom: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Phylum:        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2- </a:t>
            </a: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Subphylum:   Spor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Plasmodium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بلازموديوم الملار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79280" y="871560"/>
            <a:ext cx="4897440" cy="459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Subphylum:  Sporozoa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بوغ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62080" y="184464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طور المعد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187280" y="2963880"/>
            <a:ext cx="8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جرثو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76720" y="580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بيض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26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6760" y="1203120"/>
            <a:ext cx="84250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iliophora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هدبي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Protists use cili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أهداب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2307960"/>
            <a:ext cx="83822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iliophora (ciliates), a diverse protist group, is named for their use of cilia to move and f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ir cilia coordinate mo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ciliates are completely covered by rows of cilia, whereas others have cilia clustered into fewer r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pecific arrangement of cilia adapts the ciliates for their lifesty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8"/>
          <p:cNvGrpSpPr/>
          <p:nvPr/>
        </p:nvGrpSpPr>
        <p:grpSpPr>
          <a:xfrm>
            <a:off x="3708360" y="2271600"/>
            <a:ext cx="5329440" cy="4470480"/>
            <a:chOff x="3708360" y="2271600"/>
            <a:chExt cx="5329440" cy="447048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3708360" y="2271600"/>
              <a:ext cx="5329440" cy="44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2"/>
            <p:cNvSpPr/>
            <p:nvPr/>
          </p:nvSpPr>
          <p:spPr>
            <a:xfrm>
              <a:off x="5618160" y="262080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5724360" y="2990880"/>
              <a:ext cx="115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5651640" y="35002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5651640" y="451944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>
              <a:off x="5718240" y="50068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508720" y="59500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677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Subphylum: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Ciliophora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شعيبة الهدبيات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640" y="1109160"/>
            <a:ext cx="8713800" cy="125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10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يزاب الف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يبلع الغذ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at are engulfed by phagocytosis, 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d expe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يُخر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جوة المنقبض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aramecium.avi" descr=""/>
          <p:cNvPicPr/>
          <p:nvPr/>
        </p:nvPicPr>
        <p:blipFill>
          <a:blip r:embed="rId2"/>
          <a:stretch/>
        </p:blipFill>
        <p:spPr>
          <a:xfrm>
            <a:off x="250920" y="288936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Line 11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16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1268280"/>
            <a:ext cx="845820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usually several tiny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icronuclei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arameciu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lly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icronuclei (with between 1 and 80 copies) are required for sexual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835280" y="189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ramec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arcodin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ركودين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rotists use pseudopodia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قدام الكاذ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 and feed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34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rcodina are protists use pseudopodia, cellular extensions, to move and often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heterotrophs that actively feed on bacteria and other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species are symbiotic, including some human parasi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                                                                  pseudopodia to move and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Amoeba.wmv" descr=""/>
          <p:cNvPicPr/>
          <p:nvPr/>
        </p:nvPicPr>
        <p:blipFill>
          <a:blip r:embed="rId1"/>
          <a:stretch/>
        </p:blipFill>
        <p:spPr>
          <a:xfrm>
            <a:off x="5834160" y="407196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379" name="Line 5"/>
          <p:cNvSpPr/>
          <p:nvPr/>
        </p:nvSpPr>
        <p:spPr>
          <a:xfrm>
            <a:off x="250920" y="1052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69920" y="4437000"/>
            <a:ext cx="46893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eboid movement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ركة الأميب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812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4000" y="1318680"/>
            <a:ext cx="8496000" cy="47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inhabit freshwater and marine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ay also be abundant in soi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are important parasit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include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Entamoeba histolytic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hich                                             causes amoeboid dysentery                   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contaminated drinking                                                    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5092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5143680" y="2638440"/>
            <a:ext cx="3786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8000" y="1217520"/>
            <a:ext cx="86421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nicellular eukaryot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anging from uni-celled microscopic members, simple multi-cellular forms, and complex giants like seaweed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شائش البح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4067280" y="2565360"/>
            <a:ext cx="4952520" cy="3257640"/>
            <a:chOff x="4067280" y="2565360"/>
            <a:chExt cx="4952520" cy="3257640"/>
          </a:xfrm>
        </p:grpSpPr>
        <p:pic>
          <p:nvPicPr>
            <p:cNvPr id="308" name="Picture 7" descr=""/>
            <p:cNvPicPr/>
            <p:nvPr/>
          </p:nvPicPr>
          <p:blipFill>
            <a:blip r:embed="rId1"/>
            <a:stretch/>
          </p:blipFill>
          <p:spPr>
            <a:xfrm>
              <a:off x="4067280" y="2565360"/>
              <a:ext cx="2514240" cy="16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57840" y="2584440"/>
              <a:ext cx="23619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9" descr=""/>
            <p:cNvPicPr/>
            <p:nvPr/>
          </p:nvPicPr>
          <p:blipFill>
            <a:blip r:embed="rId3"/>
            <a:stretch/>
          </p:blipFill>
          <p:spPr>
            <a:xfrm>
              <a:off x="4082760" y="4217760"/>
              <a:ext cx="248580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0" descr=""/>
            <p:cNvPicPr/>
            <p:nvPr/>
          </p:nvPicPr>
          <p:blipFill>
            <a:blip r:embed="rId4"/>
            <a:stretch/>
          </p:blipFill>
          <p:spPr>
            <a:xfrm>
              <a:off x="6657840" y="4217760"/>
              <a:ext cx="236196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Rectangle 17"/>
          <p:cNvSpPr/>
          <p:nvPr/>
        </p:nvSpPr>
        <p:spPr>
          <a:xfrm>
            <a:off x="108000" y="2716200"/>
            <a:ext cx="4105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us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 for a great diversity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kingd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60,000 known protists are unicellular, but some are colonial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عمرات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s multi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rotists 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ص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34960" y="765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1447560"/>
            <a:ext cx="8642520" cy="41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- Nutri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غذ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bic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ئية التنف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mitochondria for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aut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chloropla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other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bsorb organic molecules or ingest larger food parti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x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bining photosynthesis and heterotrophic nutr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may include photosynthetic species, heterotrophic species, and mixotrophic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6368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55640" y="115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aracters of Protist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صفات الأول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0920" y="1052640"/>
            <a:ext cx="8229600" cy="371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Movement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t protists move with flagell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سوا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cil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هدا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eukaryotic flagella are extensions of the cytoplasm with a support of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9 + 2 microtubul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79280" y="4724280"/>
            <a:ext cx="8713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- Reproduc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كاثر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Reproduction and life cycles are highly varied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متنوع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ng pro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Some protists are asexual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جنس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3496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4000" y="1099800"/>
            <a:ext cx="84312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F)- Importanc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لأهم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ny protists are symbio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تطفل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at inhabit the body fluids, tissues, or cells of hos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عائ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rasitic protists are important pathogens of anima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مرضات للحيوا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4920" y="1066680"/>
            <a:ext cx="7993080" cy="61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)- Example of Protis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وضع التقسي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:       Protis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مملكة (عويلم) 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Phylum:         Protozo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شعبة</a:t>
            </a:r>
            <a:r>
              <a:rPr b="0" lang="ar-SA" sz="2000" spc="-1" strike="noStrike">
                <a:solidFill>
                  <a:srgbClr val="f63f1b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شعبة (شعيبة) السوط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xample: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400" spc="-1" strike="noStrike">
                <a:solidFill>
                  <a:srgbClr val="0000ff"/>
                </a:solidFill>
                <a:latin typeface="Constantia"/>
              </a:rPr>
              <a:t>Eugle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يوجلين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 sing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ed mixotrophic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تعدد الغذاء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is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f light is availab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live as a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547640" y="115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 (e.g.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glen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2"/>
          <p:cNvGrpSpPr/>
          <p:nvPr/>
        </p:nvGrpSpPr>
        <p:grpSpPr>
          <a:xfrm>
            <a:off x="1717560" y="1285920"/>
            <a:ext cx="7283520" cy="4773600"/>
            <a:chOff x="1717560" y="1285920"/>
            <a:chExt cx="7283520" cy="477360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1717560" y="1285920"/>
              <a:ext cx="728352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1"/>
            <p:cNvSpPr/>
            <p:nvPr/>
          </p:nvSpPr>
          <p:spPr>
            <a:xfrm>
              <a:off x="5551200" y="130716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سو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780680" y="2279160"/>
              <a:ext cx="111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مستشعر ضوئ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7571880" y="356940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فجوة 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7035840" y="435564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لاستيدة خضرا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6318000" y="562896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حبيبا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948480" y="389664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86720" y="43765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غشاء البلاز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632040" y="50749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أشرطة بروتي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877080" y="119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53496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478400" y="27417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بقعة عي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Euglina.avi" descr=""/>
          <p:cNvPicPr/>
          <p:nvPr/>
        </p:nvPicPr>
        <p:blipFill>
          <a:blip r:embed="rId2"/>
          <a:stretch/>
        </p:blipFill>
        <p:spPr>
          <a:xfrm>
            <a:off x="0" y="4267080"/>
            <a:ext cx="3454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23"/>
          <p:cNvSpPr/>
          <p:nvPr/>
        </p:nvSpPr>
        <p:spPr>
          <a:xfrm>
            <a:off x="108000" y="542880"/>
            <a:ext cx="8915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Protists use flagella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lagellates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167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1" i="1" lang="en-US" sz="3300" spc="-1" strike="noStrike">
                <a:solidFill>
                  <a:srgbClr val="0000ff"/>
                </a:solidFill>
                <a:latin typeface="Calibri"/>
              </a:rPr>
              <a:t> Trypanosoma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تريبانوسوما</a:t>
            </a:r>
            <a:r>
              <a:rPr b="0" i="1" lang="ar-SA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5840">
              <a:lnSpc>
                <a:spcPct val="7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Trypanosoma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: is symbiotic and include pathogenic parasites.                            causes African sleeping sicknes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Systematic Posi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:       Protis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Phylum:        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athogenic parasi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auses African sleeping sickn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نوم الأفريقي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5" name="Trypanosoma.wmv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314352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219640" y="1204920"/>
            <a:ext cx="3167280" cy="25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Line 5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844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97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 Parasitic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otists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icomplexans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قدة القم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4000" y="1267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 apicomplexans are parasites of animals and some cause serious human diseas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parasites are tiny infectious cel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صغيرة ممرض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porozoites) with a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of organelles specialized for penetrat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ختراق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ost cells and tissues at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pex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مة</a:t>
            </a:r>
            <a:r>
              <a:rPr b="1" i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of the sporozoit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apicomplexans have life cycles with both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 and often require two or more different host species for comple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lasmod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, the parasite that causes malaria, spends part of its life in mosquitoes and part in huma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400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0:15Z</dcterms:modified>
  <cp:revision>179</cp:revision>
  <dc:subject/>
  <dc:title>Nerve activates contraction</dc:title>
</cp:coreProperties>
</file>