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F37-DFB9-45EA-83A5-31E3A205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AA8-3895-4EA6-91FC-620B6B7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28-CDD3-4809-8AA4-8013316E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6BF-E3CD-4F37-8B0A-510F4E76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2C74-A6C3-481E-B807-9FB6C5D9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268C-BF80-4AB5-A5A9-863CF3CA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B1AC-69AC-4DD8-8329-AD701F5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F83-4A2F-46D8-B55D-B86EDEBF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623-8C6E-4A88-9F4C-6D580A8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C63C-5205-4FD9-8324-479B34E6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681C-DB66-4329-979C-7A97CB6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1DA-ACCF-4207-9F00-C6CE8C31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502D-B15F-4408-B374-1580A9D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8C4E-3A1E-4815-9BD1-A0CBEB0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473-3A4A-46A4-8AE0-2EC1FFA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42A8-DF64-4F3E-8371-2BA0714B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8362-A388-4F83-948D-35AA65F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7DC4-75C2-4B5F-B99B-81F5E40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69D9-0617-4BDA-8A62-9B87D9F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B2E7-568B-4DCE-A3C7-979EAA8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2253-F34B-44DD-9518-2A6CD73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1A55-31B4-460F-8385-1FC6662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162-BB3A-4D7B-AFD4-6B93640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7B31-E3A7-4AC3-AF4B-407A86FF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F9FC-DC4F-4ED2-AA15-1C77F85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D7E6-5CAC-40E8-AF4F-0CEDE02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E9F4-4060-4D3B-9348-B0B706E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6AC9-2C01-430B-BB8F-15B7E870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9505-CD99-4CBF-BE63-CF29EA4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C2F3-375E-42C7-BDF3-6DC45573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8E76-D9D4-4508-AB1B-FCEF67C6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9C9A-7015-4A43-8186-1EDF294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1BA9-BD9C-44DA-94CC-9E27C88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04C-8243-4E51-AEB6-10C21608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AB84-6ED1-4F49-B547-E2879F0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76EA-87E4-4350-853D-44F21C0F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0472-0416-4AA2-A8F3-E12C03F7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BDF4-7F4E-4725-AC6E-5B28D789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F5B2-580A-431E-8D98-13A1002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0C82-3835-43C3-9DC7-3DE9700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66A1-48B2-44D3-865A-CBDA8D5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8FF5-D16C-4B8D-9E27-DA64BA0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71C13-C721-4447-AAB7-E417C399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1ED-DCFC-4A4C-AF50-26E5AC79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213-0BC4-45C4-BF36-FC29E30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3EF-B94D-4419-A1B7-3BA64A3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976-15C0-4484-AEDE-A909B8C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617-B2B5-4707-88E3-0C939FA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62E-156F-46D3-9DEA-CE8F9AA596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F73-8C1D-4563-B1EA-DBE6C501E6F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537-F31D-4666-AE19-0C485C851F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2020-1B7B-40C5-9413-4F5C9F43D3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964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5:05Z</dcterms:modified>
  <cp:revision>179</cp:revision>
  <dc:subject/>
  <dc:title>Nerve activates contraction</dc:title>
</cp:coreProperties>
</file>