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A85-20A0-4F21-B516-E040D141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C30-9C31-4406-AF4E-250F35A3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F4E-F95E-423B-84CA-C27B92F7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3A6-8663-48AB-B0EB-2DD35A21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AE39-F086-42FC-8099-42C3440B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6CDF-95DD-486C-ABD7-A3EC1A21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CDE9-7766-4264-A6E6-F36DCC38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8034-B699-4F42-9CC1-B25AEB53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CCFA-A2E1-4A95-B148-D0CB7F90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7B1A-7712-4D09-90FD-8E1E1A33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4A05-BDFA-480E-8C9C-37A286F1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55D-2A4E-4AC1-B8D0-83A8C381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FDA5-165C-480C-B21F-0B60CBAC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C4A7-DD88-454C-9C36-23116C35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84C8-5A9F-4A5F-A1B0-E3F953F2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5EA-906C-432E-A21C-2A872397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CE06-41E8-4FED-9582-C748BA3E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7A6D-1B40-470E-B5B0-5089909C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85093-B787-40BF-A289-82EA9853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4779-BC83-4BD7-857C-A5B8EA0F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1400-C00B-4EC3-A73C-F7ED7E89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A6B3-BE1E-420E-87B8-FA1F4300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0B0-DFA6-41DF-B331-DC367B06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B348-D600-4BEF-99A8-6CF989ED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D0C8-5934-43A3-95BE-B4750F3F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78270-A3AC-47FE-8CAE-D1746D97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2D10-8DFA-4EE4-B0F7-D507F1D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045D-A94A-4164-A8B9-D501A845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D908-1F75-4262-BD36-A73DDBD4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D7B3A-7812-43CB-ADC2-14CDD446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6CBA3-1A64-48AB-B94D-7768B0F6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96A25-AB0E-4B28-B212-A289CAF5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2593B-ED78-489C-8263-2E9535B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EB3-E02B-40E7-83DC-7A73A598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5FCA-E75B-4419-A8C8-5C961BFE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47F5D-938B-4618-A55F-801FF54B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6C3C-870C-4C63-8964-EE4AA511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EE38-ED76-417F-8837-5F5321C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C7238-4DB4-4BB6-81B6-FA10DAE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F52E4-76B3-4CAB-8D81-FDA02AE2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A35F-B067-4E00-B192-8B67BA5B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C6A8-B00E-4491-879A-851F24EF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E7F4A-509E-482F-9F20-2F6DE2A6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ED3-98E0-40A4-831D-3829F383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4BC-7405-45FD-B9EF-F92236BD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70F-488A-4436-8F92-3D87E07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A92-31DA-4714-BDAF-360376BF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7E1-8EBE-4689-9D57-4CF6F1C5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D55E-C02E-44C9-95C2-65FBFD6F6CF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9FFE-2C5D-445D-BA6C-2E3DC2DC5EE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5D95-879D-45F5-93A5-334FC2E3063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7DBB-6210-40C4-8F76-555FD1D021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4284720" y="1452600"/>
            <a:ext cx="4824360" cy="5146560"/>
            <a:chOff x="4284720" y="1452600"/>
            <a:chExt cx="4824360" cy="5146560"/>
          </a:xfrm>
        </p:grpSpPr>
        <p:pic>
          <p:nvPicPr>
            <p:cNvPr id="290" name="Picture 22" descr="kingdoms"/>
            <p:cNvPicPr/>
            <p:nvPr/>
          </p:nvPicPr>
          <p:blipFill>
            <a:blip r:embed="rId1"/>
            <a:stretch/>
          </p:blipFill>
          <p:spPr>
            <a:xfrm>
              <a:off x="4284720" y="2277720"/>
              <a:ext cx="4824360" cy="36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3"/>
            <p:cNvSpPr/>
            <p:nvPr/>
          </p:nvSpPr>
          <p:spPr>
            <a:xfrm>
              <a:off x="7165080" y="14526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ukary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4"/>
            <p:cNvSpPr/>
            <p:nvPr/>
          </p:nvSpPr>
          <p:spPr>
            <a:xfrm flipH="1">
              <a:off x="5419080" y="1865160"/>
              <a:ext cx="2548800" cy="75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5"/>
            <p:cNvSpPr/>
            <p:nvPr/>
          </p:nvSpPr>
          <p:spPr>
            <a:xfrm flipH="1">
              <a:off x="6894000" y="1865160"/>
              <a:ext cx="1073880" cy="618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6"/>
            <p:cNvSpPr/>
            <p:nvPr/>
          </p:nvSpPr>
          <p:spPr>
            <a:xfrm flipH="1">
              <a:off x="6894000" y="1865160"/>
              <a:ext cx="1073880" cy="206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 flipH="1">
              <a:off x="7902000" y="1865160"/>
              <a:ext cx="6624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8"/>
            <p:cNvSpPr/>
            <p:nvPr/>
          </p:nvSpPr>
          <p:spPr>
            <a:xfrm>
              <a:off x="4546080" y="5167440"/>
              <a:ext cx="53568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29"/>
            <p:cNvSpPr/>
            <p:nvPr/>
          </p:nvSpPr>
          <p:spPr>
            <a:xfrm>
              <a:off x="8036280" y="5237280"/>
              <a:ext cx="53964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0"/>
            <p:cNvSpPr/>
            <p:nvPr/>
          </p:nvSpPr>
          <p:spPr>
            <a:xfrm>
              <a:off x="6761160" y="1521000"/>
              <a:ext cx="535320" cy="34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5820120" y="620028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 flipV="1">
              <a:off x="6693120" y="5443200"/>
              <a:ext cx="1341720" cy="89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 flipH="1" flipV="1">
              <a:off x="4946760" y="5513040"/>
              <a:ext cx="1745640" cy="82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2640" y="142560"/>
            <a:ext cx="5532480" cy="5619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cture 14: Animal Classification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78920" y="2649240"/>
            <a:ext cx="42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ive-kingdom system of classification, the eukaryotes were distributed among four kingdom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tis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g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mal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are eukaryotes and thus are much more complex than the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eukaryotes were unicellul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and multi-cellular animals originated from protis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Line 34"/>
          <p:cNvSpPr/>
          <p:nvPr/>
        </p:nvSpPr>
        <p:spPr>
          <a:xfrm>
            <a:off x="46368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214200" y="1257480"/>
            <a:ext cx="4786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- Kingdom Protista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وليات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ukaryotic uni-/multi-cellula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50920" y="1530360"/>
            <a:ext cx="6769080" cy="4925880"/>
          </a:xfrm>
          <a:prstGeom prst="rect">
            <a:avLst/>
          </a:prstGeom>
          <a:ln w="0">
            <a:noFill/>
          </a:ln>
        </p:spPr>
      </p:pic>
      <p:pic>
        <p:nvPicPr>
          <p:cNvPr id="352" name="Sporozoit.WMV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560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Text Box 13"/>
          <p:cNvSpPr/>
          <p:nvPr/>
        </p:nvSpPr>
        <p:spPr>
          <a:xfrm>
            <a:off x="6000840" y="609480"/>
            <a:ext cx="30970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Kingdom</a:t>
            </a: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:       Prot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Subkingdom: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</a:rPr>
              <a:t>Phylum:         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3f1b"/>
                </a:solidFill>
                <a:latin typeface="Times New Roman"/>
                <a:ea typeface="Arial"/>
              </a:rPr>
              <a:t>2- </a:t>
            </a:r>
            <a:r>
              <a:rPr b="1" lang="en-GB" sz="2000" spc="-1" strike="noStrike">
                <a:solidFill>
                  <a:srgbClr val="f63f1b"/>
                </a:solidFill>
                <a:latin typeface="Times New Roman"/>
              </a:rPr>
              <a:t>Subphylum:   Spor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Plasmodium</a:t>
            </a:r>
            <a:r>
              <a:rPr b="1" i="1" lang="en-GB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بلازموديوم الملار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79280" y="871560"/>
            <a:ext cx="4897440" cy="459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Subphylum:  Sporozoa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ajalla UI"/>
              </a:rPr>
              <a:t>البوغ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62080" y="184464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طور المعد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187280" y="2963880"/>
            <a:ext cx="86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جرثوم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3276720" y="580536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حويصلات البيض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6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9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6760" y="1203120"/>
            <a:ext cx="84250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Ciliophora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هدبيات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Protists use cili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أهداب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7120" y="2307960"/>
            <a:ext cx="83822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Ciliophora (ciliates), a diverse protist group, is named for their use of cilia to move and f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 ciliates live in freshw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ir cilia coordinate mov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ciliates are completely covered by rows of cilia, whereas others have cilia clustered into fewer r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pecific arrangement of cilia adapts the ciliates for their lifesty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8"/>
          <p:cNvGrpSpPr/>
          <p:nvPr/>
        </p:nvGrpSpPr>
        <p:grpSpPr>
          <a:xfrm>
            <a:off x="3708360" y="2271600"/>
            <a:ext cx="5329440" cy="4470480"/>
            <a:chOff x="3708360" y="2271600"/>
            <a:chExt cx="5329440" cy="4470480"/>
          </a:xfrm>
        </p:grpSpPr>
        <p:pic>
          <p:nvPicPr>
            <p:cNvPr id="362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3708360" y="2271600"/>
              <a:ext cx="5329440" cy="447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2"/>
            <p:cNvSpPr/>
            <p:nvPr/>
          </p:nvSpPr>
          <p:spPr>
            <a:xfrm>
              <a:off x="5618160" y="262080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أهدا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5724360" y="2990880"/>
              <a:ext cx="115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غذائ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5651640" y="35002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ميزاب الف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5651640" y="451944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صغ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6"/>
            <p:cNvSpPr/>
            <p:nvPr/>
          </p:nvSpPr>
          <p:spPr>
            <a:xfrm>
              <a:off x="5718240" y="50068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 الكبير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508720" y="595008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فجوة ال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677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Subphylum: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Ciliophora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شعيبة الهدبيات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7640" y="1109160"/>
            <a:ext cx="8713800" cy="125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10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: has cilia along the oral groove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ميزاب الف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raw in food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يبلع الغذاء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at are engulfed by phagocytosis, 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nd expe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ويُخرج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ccumulated water from the contractile vacuole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فجوة المنقبضة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aramecium.avi" descr=""/>
          <p:cNvPicPr/>
          <p:nvPr/>
        </p:nvPicPr>
        <p:blipFill>
          <a:blip r:embed="rId2"/>
          <a:stretch/>
        </p:blipFill>
        <p:spPr>
          <a:xfrm>
            <a:off x="250920" y="288936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2" name="Line 11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16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1268280"/>
            <a:ext cx="845820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ff"/>
                </a:solidFill>
                <a:latin typeface="Constantia"/>
              </a:rPr>
              <a:t>Paramec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ha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two types of nuclei, a large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acronucleu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usually several tiny </a:t>
            </a:r>
            <a:r>
              <a:rPr b="1" lang="en-US" sz="2600" spc="-1" strike="noStrike">
                <a:solidFill>
                  <a:srgbClr val="f63f1b"/>
                </a:solidFill>
                <a:latin typeface="Constantia"/>
              </a:rPr>
              <a:t>micronuclei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Paramecium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generally reproduce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by binary fission of the macronucleus, rather than mitotic divi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micronuclei (with between 1 and 80 copies) are required for sexual processes that generate genetic vari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835280" y="189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amec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4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Subphylum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arcodina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سركودين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rotists use pseudopodia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أقدام الكاذب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or movement and feed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4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rcodina are protists use pseudopodia, cellular extensions, to move and often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heterotrophs that actively feed on bacteria and other proti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5000"/>
              </a:lnSpc>
              <a:spcBef>
                <a:spcPts val="7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species are symbiotic, including some human parasi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are all unicellular and use                                                                   pseudopodia to move and to f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Amoeba.wmv" descr=""/>
          <p:cNvPicPr/>
          <p:nvPr/>
        </p:nvPicPr>
        <p:blipFill>
          <a:blip r:embed="rId1"/>
          <a:stretch/>
        </p:blipFill>
        <p:spPr>
          <a:xfrm>
            <a:off x="5834160" y="407196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379" name="Line 5"/>
          <p:cNvSpPr/>
          <p:nvPr/>
        </p:nvSpPr>
        <p:spPr>
          <a:xfrm>
            <a:off x="250920" y="1052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69920" y="4437000"/>
            <a:ext cx="468936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eboid movement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حركة الأميب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by changes in microtubules and microfilaments in the cytoskele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9933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podia activity is directed towar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8120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24000" y="1318680"/>
            <a:ext cx="8496000" cy="47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oebas inhabit freshwater and marine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y may also be abundant in soil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ost species are free-living heterotroph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are important parasit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include         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Entamoeba histolytic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hich                                             causes amoeboid dysentery                         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دوسنتاري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huma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se organisms sprea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contaminated drinking                                                     water, food, and eating utensi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5092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5143680" y="2638440"/>
            <a:ext cx="37861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8000" y="1217520"/>
            <a:ext cx="864216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unicellular eukaryo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anging from uni-celled microscopic members, simple multi-cellular forms, and complex giants like seaweeds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شائش البحر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Group 13"/>
          <p:cNvGrpSpPr/>
          <p:nvPr/>
        </p:nvGrpSpPr>
        <p:grpSpPr>
          <a:xfrm>
            <a:off x="4067280" y="2565360"/>
            <a:ext cx="4952520" cy="3257640"/>
            <a:chOff x="4067280" y="2565360"/>
            <a:chExt cx="4952520" cy="3257640"/>
          </a:xfrm>
        </p:grpSpPr>
        <p:pic>
          <p:nvPicPr>
            <p:cNvPr id="308" name="Picture 7" descr=""/>
            <p:cNvPicPr/>
            <p:nvPr/>
          </p:nvPicPr>
          <p:blipFill>
            <a:blip r:embed="rId1"/>
            <a:stretch/>
          </p:blipFill>
          <p:spPr>
            <a:xfrm>
              <a:off x="4067280" y="2565360"/>
              <a:ext cx="2514240" cy="16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57840" y="2584440"/>
              <a:ext cx="23619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9" descr=""/>
            <p:cNvPicPr/>
            <p:nvPr/>
          </p:nvPicPr>
          <p:blipFill>
            <a:blip r:embed="rId3"/>
            <a:stretch/>
          </p:blipFill>
          <p:spPr>
            <a:xfrm>
              <a:off x="4082760" y="4217760"/>
              <a:ext cx="2485800" cy="16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0" descr=""/>
            <p:cNvPicPr/>
            <p:nvPr/>
          </p:nvPicPr>
          <p:blipFill>
            <a:blip r:embed="rId4"/>
            <a:stretch/>
          </p:blipFill>
          <p:spPr>
            <a:xfrm>
              <a:off x="6657840" y="4217760"/>
              <a:ext cx="236196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Rectangle 17"/>
          <p:cNvSpPr/>
          <p:nvPr/>
        </p:nvSpPr>
        <p:spPr>
          <a:xfrm>
            <a:off x="108000" y="2716200"/>
            <a:ext cx="4105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s us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 for a great diversity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kingd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60,000 known protists are unicellular, but some are colonial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عمرات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s multi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protists 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s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صلة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34960" y="765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8920" y="1447560"/>
            <a:ext cx="8642520" cy="41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)- Nutri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غذ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bic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ئية التنفس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mitochondria for cellular respi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tist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aut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chloroplas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 others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bsorb organic molecules or ingest larger food partic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w ar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xotrop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bining photosynthesis and heterotrophic nutr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ists may include photosynthetic species, heterotrophic species, and mixotrophic spec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6368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55640" y="115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aracters of Protist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ial"/>
              </a:rPr>
              <a:t>صفات الأولي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0920" y="1052640"/>
            <a:ext cx="8229600" cy="371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)- Movement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ost protists move with flagell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سواط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cilia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لأهداب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 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eukaryotic flagella are extensions of the cytoplasm with a support of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9 + 2 microtubule system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79280" y="4724280"/>
            <a:ext cx="8713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)- Reproduction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التكاثر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Reproduction and life cycles are highly varied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متنوع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ong pro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Some protists are asexual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Arial"/>
              </a:rPr>
              <a:t>لاجنسي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3496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4000" y="1099800"/>
            <a:ext cx="84312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F)- Importanc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لأهم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ny protists are symbion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تطفلة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at inhabit the body fluids, tissues, or cells of host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عائل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ome parasitic protists are important pathogens of animals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ممرضات للحيوان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68360" y="115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94920" y="1066680"/>
            <a:ext cx="7993080" cy="61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G)- Example of Protist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Systematic Position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وضع التقسيمي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:       Protist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مملكة (عويلم) 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US" sz="2400" spc="-1" strike="noStrike">
                <a:solidFill>
                  <a:srgbClr val="f63f1b"/>
                </a:solidFill>
                <a:latin typeface="Constantia"/>
              </a:rPr>
              <a:t>Phylum:         Protozoa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شعبة</a:t>
            </a:r>
            <a:r>
              <a:rPr b="0" lang="ar-SA" sz="2000" spc="-1" strike="noStrike">
                <a:solidFill>
                  <a:srgbClr val="f63f1b"/>
                </a:solidFill>
                <a:latin typeface="Constantia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أوليات الحيوانية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               </a:t>
            </a:r>
            <a:r>
              <a:rPr b="1" lang="en-GB" sz="24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تحت شعبة (شعيبة) السوطيات</a:t>
            </a:r>
            <a:r>
              <a:rPr b="1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onstantia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  <a:ea typeface="Arial"/>
              </a:rPr>
              <a:t>            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example: </a:t>
            </a:r>
            <a:r>
              <a:rPr b="1" lang="en-GB" sz="24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400" spc="-1" strike="noStrike">
                <a:solidFill>
                  <a:srgbClr val="0000ff"/>
                </a:solidFill>
                <a:latin typeface="Constantia"/>
              </a:rPr>
              <a:t>Euglena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Arial"/>
              </a:rPr>
              <a:t>اليوجلينا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a singl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elled mixotrophic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متعدد الغذاء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rotis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can use chloroplasts to undergo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photosynthesi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if light is availab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or live as a 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heterotroph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by absorbing organic nutrients from the environm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roduce asexually by “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binary fission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ometimes 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form resistant cells (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cysts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) that can survive harsh condi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60804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547640" y="1159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tists (e.g. 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glen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2"/>
          <p:cNvGrpSpPr/>
          <p:nvPr/>
        </p:nvGrpSpPr>
        <p:grpSpPr>
          <a:xfrm>
            <a:off x="1717560" y="1285920"/>
            <a:ext cx="7283520" cy="4773600"/>
            <a:chOff x="1717560" y="1285920"/>
            <a:chExt cx="7283520" cy="4773600"/>
          </a:xfrm>
        </p:grpSpPr>
        <p:pic>
          <p:nvPicPr>
            <p:cNvPr id="329" name="Picture 4" descr=""/>
            <p:cNvPicPr/>
            <p:nvPr/>
          </p:nvPicPr>
          <p:blipFill>
            <a:blip r:embed="rId1"/>
            <a:srcRect l="0" t="0" r="0" b="3758"/>
            <a:stretch/>
          </p:blipFill>
          <p:spPr>
            <a:xfrm>
              <a:off x="1717560" y="1285920"/>
              <a:ext cx="728352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11"/>
            <p:cNvSpPr/>
            <p:nvPr/>
          </p:nvSpPr>
          <p:spPr>
            <a:xfrm>
              <a:off x="5551200" y="130716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سو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7780680" y="2279160"/>
              <a:ext cx="111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مستشعر ضوئ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7571880" y="356940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فجوة منقبض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7035840" y="435564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بلاستيدة خضرا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6318000" y="562896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حبيبا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948480" y="3896640"/>
              <a:ext cx="111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نوا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4086720" y="4376520"/>
              <a:ext cx="1112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الغشاء البلازم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3632040" y="5074920"/>
              <a:ext cx="111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ff"/>
                  </a:solidFill>
                  <a:latin typeface="Times New Roman"/>
                  <a:cs typeface="Arial"/>
                </a:rPr>
                <a:t>أشرطة بروتيني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877080" y="119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534960" y="9810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4478400" y="274176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بقعة عي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Euglina.avi" descr=""/>
          <p:cNvPicPr/>
          <p:nvPr/>
        </p:nvPicPr>
        <p:blipFill>
          <a:blip r:embed="rId2"/>
          <a:stretch/>
        </p:blipFill>
        <p:spPr>
          <a:xfrm>
            <a:off x="0" y="4267080"/>
            <a:ext cx="34545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23"/>
          <p:cNvSpPr/>
          <p:nvPr/>
        </p:nvSpPr>
        <p:spPr>
          <a:xfrm>
            <a:off x="108000" y="542880"/>
            <a:ext cx="8915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Protists use flagella (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lagellates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16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2-</a:t>
            </a:r>
            <a:r>
              <a:rPr b="1" i="1" lang="en-US" sz="3300" spc="-1" strike="noStrike">
                <a:solidFill>
                  <a:srgbClr val="0000ff"/>
                </a:solidFill>
                <a:latin typeface="Calibri"/>
              </a:rPr>
              <a:t> Trypanosoma</a:t>
            </a:r>
            <a:r>
              <a:rPr b="0" lang="ar-SA" sz="1900" spc="-1" strike="noStrike">
                <a:solidFill>
                  <a:srgbClr val="000000"/>
                </a:solidFill>
                <a:latin typeface="Calibri"/>
                <a:cs typeface="Arial"/>
              </a:rPr>
              <a:t>التريبانوسوما</a:t>
            </a:r>
            <a:r>
              <a:rPr b="0" i="1" lang="ar-SA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5840">
              <a:lnSpc>
                <a:spcPct val="7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Constantia"/>
              </a:rPr>
              <a:t>Trypanosoma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 : is symbiotic and include pathogenic parasites.                            causes African sleeping sicknes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Systematic Posi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Kingdom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:       Protis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ubkingdom: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Phylum:         Protozo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63f1b"/>
                </a:solidFill>
                <a:latin typeface="Constantia"/>
              </a:rPr>
              <a:t>Subphylum:   Mastigopho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i="1" lang="en-GB" sz="2200" spc="-1" strike="noStrike">
                <a:solidFill>
                  <a:srgbClr val="0000ff"/>
                </a:solidFill>
                <a:latin typeface="Constantia"/>
              </a:rPr>
              <a:t>Trypanosoma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It is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pathogenic parasi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15840">
              <a:lnSpc>
                <a:spcPct val="7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causes African sleeping sickne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700" spc="-1" strike="noStrike">
                <a:solidFill>
                  <a:srgbClr val="000000"/>
                </a:solidFill>
                <a:latin typeface="Constantia"/>
                <a:cs typeface="Arial"/>
              </a:rPr>
              <a:t>مرض النوم الأفريقي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5" name="Trypanosoma.wmv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314352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5219640" y="1204920"/>
            <a:ext cx="3167280" cy="250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7" name="Line 5"/>
          <p:cNvSpPr/>
          <p:nvPr/>
        </p:nvSpPr>
        <p:spPr>
          <a:xfrm>
            <a:off x="324000" y="90792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844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976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8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Parasitic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rotists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icomplexans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معقدة القم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24000" y="1267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l apicomplexans are parasites of animals and some cause serious human diseas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parasites are tiny infectious cells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خلايا صغيرة ممرضة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porozoites) with a </a:t>
            </a: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complex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of organelles specialized for penetrating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اختراق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ost cells and tissues at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pex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rial"/>
              </a:rPr>
              <a:t>قمة</a:t>
            </a:r>
            <a:r>
              <a:rPr b="1" i="1" lang="ar-SA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of the sporozoite cell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ost apicomplexans have life cycles with both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1" lang="en-US" sz="2200" spc="-1" strike="noStrike">
                <a:solidFill>
                  <a:srgbClr val="f63f1b"/>
                </a:solidFill>
                <a:latin typeface="Constantia"/>
              </a:rPr>
              <a:t>asexual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stages and often require two or more different host species for comple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Plasmodiu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, the parasite that causes malaria, spends part of its life in mosquitoes and part in huma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4000" y="8366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User</cp:lastModifiedBy>
  <cp:lastPrinted>2001-01-06T03:20:03Z</cp:lastPrinted>
  <dcterms:modified xsi:type="dcterms:W3CDTF">2015-03-11T03:35:05Z</dcterms:modified>
  <cp:revision>179</cp:revision>
  <dc:subject/>
  <dc:title>Nerve activates contraction</dc:title>
</cp:coreProperties>
</file>