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EE1-154F-453B-8CC5-FBCE2333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F88-4655-49D4-8557-E47ED6B6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FD0-6A36-4F28-A513-3D04B7AB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FE4-5309-4D9C-8552-213D4E62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0285-A7C2-4DE8-AF23-E864E390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3AF5-08E1-4973-8935-FB82265D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D9E2-C9AB-4D7A-ACF5-B7510276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5B08-0E2C-47F1-AEDE-EB3B659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9452-3A13-4C2A-A58A-35E678AD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997D-4BFC-42B1-8BAE-1900FC59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824B-2B2E-4F3A-885B-678DCCB1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788-3662-4768-8387-4E1734AB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7DEC-5209-433E-B1F1-BCBA181B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DCC1-D7F4-47FB-B425-36BB605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14AA-DD1A-4C3D-9392-3947279D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77A3-8B3D-44F5-84F4-AA713327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F300-738D-4A26-96A3-E3D51143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E5E6-E731-49B1-90A9-ABE7D779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3684-6969-4B01-B43B-1D8DCDA2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D847-FFED-4BE6-8ACB-68980DC0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4EFF-4FA9-4B9B-824A-EA0579DF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31D4-3D24-48E4-AD13-0CCCD1F9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82E-220A-4A4A-80C1-DEA86033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4154-DD55-49B6-8434-AE604E41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B851-A533-4F82-AD87-894A0581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DFB9-52E1-4169-8ADC-EA11CF2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C31F-A7E3-4AA3-996D-F8E35EE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3738-F167-423E-AE1D-A81AA8E5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64CC-B4B7-46E0-9602-084879E2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F567-8825-4D10-92E8-CD195142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B72B-C95B-40F3-B0EA-C39929A3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1156-F979-473F-A0B3-C48A7710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02FA-CDF2-4840-8BA5-365DABD4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908-C839-433E-BACB-4539433C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8DF3-5A38-40CB-BE07-27FE27E8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CB29-3BBD-48F7-BB9C-657EF93C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022BB-9ED9-4110-BB95-D5A20894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0900-DB2B-4B1B-B952-921DD502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CC74-B903-4320-AAC7-99D87B7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41883-B817-4B9D-A6B8-F897335D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5BBE2-E552-4F76-A7CF-B26CA8D3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9B8ED-5DB2-4CD6-BEB6-B1BB5256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91AC-368A-4A3C-98ED-22CF360C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651-D6D0-4756-A327-B8E1B795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410-A714-45E1-ADED-808FAD70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76C-2EC2-4B21-A496-5B38FB9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907-639E-4138-B5AD-1E36EC0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E3C-07D1-453E-B6A0-2061E1CD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76E9-3FA0-4812-B32B-801C3845BC8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12BA-9F5E-4984-8ADE-9E232392A0A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4B9F-C250-432F-994D-3FBCF1E077D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FEEB-7B8D-42B9-998B-36B60E4BEF0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789440" y="1916280"/>
            <a:ext cx="4246560" cy="5231520"/>
            <a:chOff x="4789440" y="1916280"/>
            <a:chExt cx="4246560" cy="523152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789440" y="2723760"/>
              <a:ext cx="424656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205040" y="1916280"/>
              <a:ext cx="167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Constantia"/>
                  <a:ea typeface="Arial"/>
                </a:rPr>
                <a:t>Eukaryo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788080" y="2345040"/>
              <a:ext cx="2243520" cy="64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7086240" y="2345040"/>
              <a:ext cx="945000" cy="548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7086240" y="2345040"/>
              <a:ext cx="945000" cy="18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73280" y="2345040"/>
              <a:ext cx="58320" cy="64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5726880" y="5684040"/>
              <a:ext cx="471240" cy="31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7741440" y="5583600"/>
              <a:ext cx="476280" cy="31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801120" y="1946880"/>
              <a:ext cx="471240" cy="31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6216480" y="6383520"/>
              <a:ext cx="181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Constantia"/>
                  <a:ea typeface="Arial"/>
                </a:rPr>
                <a:t>Prokaryo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7086600" y="5875920"/>
              <a:ext cx="763920" cy="532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6109560" y="5998680"/>
              <a:ext cx="100008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 txBox="1"/>
          <p:nvPr/>
        </p:nvSpPr>
        <p:spPr>
          <a:xfrm>
            <a:off x="108000" y="1981080"/>
            <a:ext cx="4681440" cy="51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In the five kingdoms of classification, eukaryotes were distributed among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ou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kingdoms: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rotist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ungi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lanta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nimali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Protists are eukaryotes and thus are much more complex than the prokaryot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ost of the known Protists are unicellular, but some are colonial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ستعمرات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nd others multi-cellula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any Protists form resistant cells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cysts)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حوصل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hat can survive in harsh condition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108000" y="1341360"/>
            <a:ext cx="7432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Second: Kingdom of Protista 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  <a:cs typeface="Majalla UI"/>
              </a:rPr>
              <a:t>مملكة الطلائعي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130320" y="380880"/>
            <a:ext cx="8858160" cy="11293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1" lang="en-US" sz="3400" spc="-1" strike="noStrike">
                <a:solidFill>
                  <a:srgbClr val="ff0000"/>
                </a:solidFill>
                <a:latin typeface="Constantia"/>
              </a:rPr>
              <a:t>: Kingdoms of Living Organis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152280" y="1125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07640" y="1267920"/>
            <a:ext cx="62643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ystematic Posi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ingdom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lum:         Sarcodia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لحم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moeba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يب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5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Amoeba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يب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8" descr="http://thumbs.dreamstime.com/z/structure-amoeba-proteus-unicellular-animal-pseudopods-lives-fresh-saltwater-anatomy-vector-diagram-34406447.jpg"/>
          <p:cNvPicPr/>
          <p:nvPr/>
        </p:nvPicPr>
        <p:blipFill>
          <a:blip r:embed="rId1"/>
          <a:srcRect l="0" t="12155" r="0" b="8562"/>
          <a:stretch/>
        </p:blipFill>
        <p:spPr>
          <a:xfrm>
            <a:off x="4932360" y="3819600"/>
            <a:ext cx="4103640" cy="29224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"/>
          <p:cNvSpPr/>
          <p:nvPr/>
        </p:nvSpPr>
        <p:spPr>
          <a:xfrm>
            <a:off x="108000" y="3825720"/>
            <a:ext cx="489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pseudopodi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قدام الكاذب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move and to f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oid movemen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حركة الأميب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" descr="http://www.arcella.nl/sites/default/files/platenvanamoeben/Amoeba-proteus-BB-n%3D42-um-400-um-3.jpg"/>
          <p:cNvPicPr/>
          <p:nvPr/>
        </p:nvPicPr>
        <p:blipFill>
          <a:blip r:embed="rId2"/>
          <a:stretch/>
        </p:blipFill>
        <p:spPr>
          <a:xfrm>
            <a:off x="6216480" y="1052640"/>
            <a:ext cx="27482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08000" y="404640"/>
            <a:ext cx="8856720" cy="40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as inhabit freshwater, marine environments and so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re important parasites. These include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Entamoeb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histolytica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cause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moeboid dysente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contaminated drinking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7640" y="1179360"/>
            <a:ext cx="8807400" cy="599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Nutri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تغذ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ome Protists a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hotoautotro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with chloroplasts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heterotroph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mixotro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Movemen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حرك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ost Protists move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lagell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ci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uring some time in their life cy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3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Reprodu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تكاث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osis occurs in almost all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tists are asexual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لاجنسياً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haracters of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07640" y="1052280"/>
            <a:ext cx="88074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Calibri"/>
              </a:rPr>
              <a:t>1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Euglena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يوجلينا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ضع التقسي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Mastig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سوط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Euglena s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f light is available or live as a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 that can survive in harsh conditio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Examples of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2"/>
          <p:cNvGrpSpPr/>
          <p:nvPr/>
        </p:nvGrpSpPr>
        <p:grpSpPr>
          <a:xfrm>
            <a:off x="468360" y="1123920"/>
            <a:ext cx="8230680" cy="5400360"/>
            <a:chOff x="468360" y="1123920"/>
            <a:chExt cx="8230680" cy="5400360"/>
          </a:xfrm>
        </p:grpSpPr>
        <p:pic>
          <p:nvPicPr>
            <p:cNvPr id="313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468360" y="1196640"/>
              <a:ext cx="823068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11"/>
            <p:cNvSpPr/>
            <p:nvPr/>
          </p:nvSpPr>
          <p:spPr>
            <a:xfrm>
              <a:off x="4800960" y="1123920"/>
              <a:ext cx="86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سو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3"/>
            <p:cNvSpPr/>
            <p:nvPr/>
          </p:nvSpPr>
          <p:spPr>
            <a:xfrm>
              <a:off x="7320240" y="2203920"/>
              <a:ext cx="126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مستشعر ضوئ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14"/>
            <p:cNvSpPr/>
            <p:nvPr/>
          </p:nvSpPr>
          <p:spPr>
            <a:xfrm>
              <a:off x="7200360" y="3643920"/>
              <a:ext cx="125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فجوة منقبض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6372360" y="4543200"/>
              <a:ext cx="14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بلاستيدة خضرا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6"/>
            <p:cNvSpPr/>
            <p:nvPr/>
          </p:nvSpPr>
          <p:spPr>
            <a:xfrm>
              <a:off x="5667120" y="6020280"/>
              <a:ext cx="12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حبيبا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2989440" y="4110480"/>
              <a:ext cx="12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نوا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3145680" y="4759560"/>
              <a:ext cx="125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غشاء البلازم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2631960" y="5516640"/>
              <a:ext cx="125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أشرطة بروتين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Text Box 12"/>
          <p:cNvSpPr/>
          <p:nvPr/>
        </p:nvSpPr>
        <p:spPr>
          <a:xfrm>
            <a:off x="3995640" y="24922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بقعة عين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ريبانوسوم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08000" y="1052640"/>
            <a:ext cx="880740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Mastig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سوط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Trypanosoma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t is pathogenic para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uses African slee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ickne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النوم الأفريق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427640" y="3089160"/>
            <a:ext cx="4608360" cy="36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lasmodium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ازمودي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08000" y="1284120"/>
            <a:ext cx="8807400" cy="34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Sporozoa (Apicomplexa)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بوغ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Plasmodium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لازموديوم الملار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odium, the parasite that causes malaria, spends part of     its life in mosquitoes and part in hum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1763640" y="88920"/>
            <a:ext cx="5904000" cy="6707160"/>
            <a:chOff x="1763640" y="88920"/>
            <a:chExt cx="5904000" cy="6707160"/>
          </a:xfrm>
        </p:grpSpPr>
        <p:pic>
          <p:nvPicPr>
            <p:cNvPr id="333" name="Picture 6" descr=""/>
            <p:cNvPicPr/>
            <p:nvPr/>
          </p:nvPicPr>
          <p:blipFill>
            <a:blip r:embed="rId1"/>
            <a:srcRect l="0" t="0" r="38275" b="3000"/>
            <a:stretch/>
          </p:blipFill>
          <p:spPr>
            <a:xfrm>
              <a:off x="1763640" y="88920"/>
              <a:ext cx="5688360" cy="670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5"/>
            <p:cNvSpPr/>
            <p:nvPr/>
          </p:nvSpPr>
          <p:spPr>
            <a:xfrm>
              <a:off x="1908000" y="477720"/>
              <a:ext cx="1152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الطور </a:t>
              </a: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معد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6"/>
            <p:cNvSpPr/>
            <p:nvPr/>
          </p:nvSpPr>
          <p:spPr>
            <a:xfrm>
              <a:off x="2771280" y="2277000"/>
              <a:ext cx="16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ويصلات الجرثوم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7"/>
            <p:cNvSpPr/>
            <p:nvPr/>
          </p:nvSpPr>
          <p:spPr>
            <a:xfrm>
              <a:off x="5866920" y="5970960"/>
              <a:ext cx="180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ويصلات البيض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7640" y="1268280"/>
            <a:ext cx="8381880" cy="49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     Cili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هدب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Paramecium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اميسيو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iliophora (ciliates) is named for their use of cilia to move and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spcBef>
                <a:spcPts val="6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زاب الف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بلع الغذاء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phagocytosis, and expel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ويُخرج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جوة المنقبض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aramecium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اميسي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18"/>
          <p:cNvGrpSpPr/>
          <p:nvPr/>
        </p:nvGrpSpPr>
        <p:grpSpPr>
          <a:xfrm>
            <a:off x="1835280" y="2271600"/>
            <a:ext cx="5473080" cy="4460040"/>
            <a:chOff x="1835280" y="2271600"/>
            <a:chExt cx="5473080" cy="4460040"/>
          </a:xfrm>
        </p:grpSpPr>
        <p:pic>
          <p:nvPicPr>
            <p:cNvPr id="341" name="Picture 4" descr=""/>
            <p:cNvPicPr/>
            <p:nvPr/>
          </p:nvPicPr>
          <p:blipFill>
            <a:blip r:embed="rId1"/>
            <a:srcRect l="0" t="0" r="0" b="10913"/>
            <a:stretch/>
          </p:blipFill>
          <p:spPr>
            <a:xfrm>
              <a:off x="1835280" y="2271600"/>
              <a:ext cx="5473080" cy="43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2"/>
            <p:cNvSpPr/>
            <p:nvPr/>
          </p:nvSpPr>
          <p:spPr>
            <a:xfrm>
              <a:off x="3796560" y="2645280"/>
              <a:ext cx="118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3905640" y="3042000"/>
              <a:ext cx="118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4"/>
            <p:cNvSpPr/>
            <p:nvPr/>
          </p:nvSpPr>
          <p:spPr>
            <a:xfrm>
              <a:off x="3830760" y="358740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5"/>
            <p:cNvSpPr/>
            <p:nvPr/>
          </p:nvSpPr>
          <p:spPr>
            <a:xfrm>
              <a:off x="3830760" y="467928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6"/>
            <p:cNvSpPr/>
            <p:nvPr/>
          </p:nvSpPr>
          <p:spPr>
            <a:xfrm>
              <a:off x="3899160" y="520128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7"/>
            <p:cNvSpPr/>
            <p:nvPr/>
          </p:nvSpPr>
          <p:spPr>
            <a:xfrm>
              <a:off x="3684240" y="621144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 txBox="1"/>
          <p:nvPr/>
        </p:nvSpPr>
        <p:spPr>
          <a:xfrm>
            <a:off x="108000" y="333360"/>
            <a:ext cx="88567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a tiny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icronucl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rally reproduc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icronucleus is required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0-24T14:02:30Z</dcterms:modified>
  <cp:revision>256</cp:revision>
  <dc:subject/>
  <dc:title>Nerve activates contraction</dc:title>
</cp:coreProperties>
</file>