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11A-25BF-4223-9053-5F9FD1BA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B8C-DF6D-4107-AD1F-EA6F8884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C79-314C-4315-A0D0-1F722BA9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EE7-7F21-46AD-B822-543A408A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AE96-5B8B-4B6D-BFF2-4F38297E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913B-C676-411D-8245-BA15BD03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0FC4-F2EC-49A4-B55D-BF8BD63B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D93E-0473-43EE-B679-0E722311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CB5B-9182-4120-ADD8-536B7711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9EB-F9CF-47D2-8219-9AD12585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B44E-63BE-4E49-9F6C-B16E5228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C1A-D36E-420C-AEE7-31E21E9A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6FFD-5DF6-4C10-9319-559550CF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86AC-8397-4A66-9A79-A88836F3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CC35-4644-468B-B6F7-531A3046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9FB0-1521-4544-AD3C-AC9BC244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F745-CDF9-40A0-84E2-BF04D0F4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2BA5-1D5A-4380-885A-1C106B71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203F-BFD4-488B-9ABC-10F0F6D8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6B11B-9DE1-4EF4-99F4-9E379EDB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94B4-CE53-4156-B25F-F7860518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F68E-F3AE-4351-BD1B-04281647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0F0-E354-44AB-91F8-4F3E27EF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A1C20-9370-4049-84D5-BDC56F44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08ECD-1FEC-4BEB-8CBA-C1015D9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4774-103E-4B64-9C42-F3A0A097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A28A-C5D5-4044-BA6F-5CE9A3B5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9937-4900-4E39-A2CC-42397191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EEE3-E888-4A83-BE25-44179358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A949-D15D-4D46-A791-6443E911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3FE1B-836D-47DE-B13A-19C19F26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91D18-E371-4CC7-BC62-294BD902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ECF81-4668-48F6-B8E0-6CF6B654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57E-33CA-4461-AE8D-43EA9956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D645-ABCB-4E73-BB0B-64A3BD6A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CBCC0-ECFC-44F9-A744-BC88A16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38C1-7895-47A0-A076-82DB5810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117B6-EB71-4BB4-99B2-BCAA5E66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7D11-6A83-4EFB-9DF8-FE0273E5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ACC7-B456-4676-B22C-AED4DF1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72F0-99C4-4DA3-821F-E80DAA77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9B43-D1B9-460F-A934-3ED4B080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3BBB5-BF1D-41F8-8E20-349402C4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61D-8720-4633-AD39-D6AEDC6E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D3C-9AD3-47EF-AD2F-D4FFD822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723-F2BF-4B0C-BB2A-4890B083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70A-DC88-4222-8496-B09FBA79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9B9-A01B-4531-B0F2-256986A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38D9-A69F-453F-B749-1BE40BB8B39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10D4-DC76-494E-8D6A-B6881A1F2F2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CBA8-EE60-4A89-B814-8E3B6FE260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A14-292F-4C8A-BC7E-E1168173B5F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789440" y="1916280"/>
            <a:ext cx="4246560" cy="5231520"/>
            <a:chOff x="4789440" y="1916280"/>
            <a:chExt cx="4246560" cy="523152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789440" y="2723760"/>
              <a:ext cx="424656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205040" y="1916280"/>
              <a:ext cx="167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Constantia"/>
                  <a:ea typeface="Arial"/>
                </a:rPr>
                <a:t>Eukaryo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788080" y="2345040"/>
              <a:ext cx="2243520" cy="640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7086240" y="2345040"/>
              <a:ext cx="945000" cy="548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7086240" y="2345040"/>
              <a:ext cx="945000" cy="18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73280" y="2345040"/>
              <a:ext cx="58320" cy="640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5726880" y="5684040"/>
              <a:ext cx="471240" cy="317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7741440" y="5583600"/>
              <a:ext cx="476280" cy="31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801120" y="1946880"/>
              <a:ext cx="471240" cy="31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6216480" y="6383520"/>
              <a:ext cx="181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Constantia"/>
                  <a:ea typeface="Arial"/>
                </a:rPr>
                <a:t>Prokaryo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7086600" y="5875920"/>
              <a:ext cx="763920" cy="532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6109560" y="5998680"/>
              <a:ext cx="100008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 txBox="1"/>
          <p:nvPr/>
        </p:nvSpPr>
        <p:spPr>
          <a:xfrm>
            <a:off x="108000" y="1981080"/>
            <a:ext cx="4681440" cy="51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In the five kingdoms of classification, eukaryotes were distributed among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ou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kingdoms: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rotist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ungi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lanta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and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nimali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Protists are eukaryotes and thus are much more complex than the prokaryot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ost of the known Protists are unicellular, but some are colonial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ستعمرات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nd others multi-cellula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any Protists form resistant cells (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cysts)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حوصل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hat can survive in harsh condition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 Box 35"/>
          <p:cNvSpPr/>
          <p:nvPr/>
        </p:nvSpPr>
        <p:spPr>
          <a:xfrm>
            <a:off x="108000" y="1341360"/>
            <a:ext cx="7432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Second: Kingdom of Protista 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  <a:cs typeface="Majalla UI"/>
              </a:rPr>
              <a:t>مملكة الطلائعي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130320" y="380880"/>
            <a:ext cx="8858160" cy="11293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1" lang="en-US" sz="3400" spc="-1" strike="noStrike">
                <a:solidFill>
                  <a:srgbClr val="ff0000"/>
                </a:solidFill>
                <a:latin typeface="Constantia"/>
              </a:rPr>
              <a:t>: Kingdoms of Living Organis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152280" y="1125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07640" y="1267920"/>
            <a:ext cx="626436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ystematic Posi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ingdom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lum:         Sarcodia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لحم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moeba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يب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5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Amoeba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يب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8" descr="http://thumbs.dreamstime.com/z/structure-amoeba-proteus-unicellular-animal-pseudopods-lives-fresh-saltwater-anatomy-vector-diagram-34406447.jpg"/>
          <p:cNvPicPr/>
          <p:nvPr/>
        </p:nvPicPr>
        <p:blipFill>
          <a:blip r:embed="rId1"/>
          <a:srcRect l="0" t="12155" r="0" b="8562"/>
          <a:stretch/>
        </p:blipFill>
        <p:spPr>
          <a:xfrm>
            <a:off x="4932360" y="3819600"/>
            <a:ext cx="4103640" cy="29224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"/>
          <p:cNvSpPr/>
          <p:nvPr/>
        </p:nvSpPr>
        <p:spPr>
          <a:xfrm>
            <a:off x="108000" y="3825720"/>
            <a:ext cx="489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pseudopodi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قدام الكاذب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move and to f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oid movemen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حركة الأميب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0" descr="http://www.arcella.nl/sites/default/files/platenvanamoeben/Amoeba-proteus-BB-n%3D42-um-400-um-3.jpg"/>
          <p:cNvPicPr/>
          <p:nvPr/>
        </p:nvPicPr>
        <p:blipFill>
          <a:blip r:embed="rId2"/>
          <a:stretch/>
        </p:blipFill>
        <p:spPr>
          <a:xfrm>
            <a:off x="6216480" y="1052640"/>
            <a:ext cx="27482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08000" y="404640"/>
            <a:ext cx="8856720" cy="40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as inhabit freshwater, marine environments and so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are important parasites. These include 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Entamoeb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histolytica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cause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moeboid dysentery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contaminated drinking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7640" y="1179360"/>
            <a:ext cx="8807400" cy="599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Nutri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تغذ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ome Protists a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hotoautotro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with chloroplasts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heterotroph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mixotro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Movemen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حرك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ost Protists move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lagell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ci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uring some time in their life cy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3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Reprodu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تكاث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osis occurs in almost all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tists are asexual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لاجنسياً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haracters of Pro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07640" y="1052280"/>
            <a:ext cx="88074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Calibri"/>
              </a:rPr>
              <a:t>1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Euglena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يوجلينا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ضع التقسي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Mastig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سوط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Euglena s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f light is available or live as a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 that can survive in harsh conditio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Examples of Pro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2"/>
          <p:cNvGrpSpPr/>
          <p:nvPr/>
        </p:nvGrpSpPr>
        <p:grpSpPr>
          <a:xfrm>
            <a:off x="468360" y="1123920"/>
            <a:ext cx="8230680" cy="5400360"/>
            <a:chOff x="468360" y="1123920"/>
            <a:chExt cx="8230680" cy="5400360"/>
          </a:xfrm>
        </p:grpSpPr>
        <p:pic>
          <p:nvPicPr>
            <p:cNvPr id="313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468360" y="1196640"/>
              <a:ext cx="823068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11"/>
            <p:cNvSpPr/>
            <p:nvPr/>
          </p:nvSpPr>
          <p:spPr>
            <a:xfrm>
              <a:off x="4800960" y="1123920"/>
              <a:ext cx="86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سو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3"/>
            <p:cNvSpPr/>
            <p:nvPr/>
          </p:nvSpPr>
          <p:spPr>
            <a:xfrm>
              <a:off x="7320240" y="2203920"/>
              <a:ext cx="126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مستشعر ضوئ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14"/>
            <p:cNvSpPr/>
            <p:nvPr/>
          </p:nvSpPr>
          <p:spPr>
            <a:xfrm>
              <a:off x="7200360" y="3643920"/>
              <a:ext cx="125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فجوة منقبض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5"/>
            <p:cNvSpPr/>
            <p:nvPr/>
          </p:nvSpPr>
          <p:spPr>
            <a:xfrm>
              <a:off x="6372360" y="4543200"/>
              <a:ext cx="14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بلاستيدة خضرا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6"/>
            <p:cNvSpPr/>
            <p:nvPr/>
          </p:nvSpPr>
          <p:spPr>
            <a:xfrm>
              <a:off x="5667120" y="6020280"/>
              <a:ext cx="12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حبيبا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2989440" y="4110480"/>
              <a:ext cx="12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نوا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3145680" y="4759560"/>
              <a:ext cx="125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غشاء البلازم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2631960" y="5516640"/>
              <a:ext cx="125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أشرطة بروتين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Text Box 12"/>
          <p:cNvSpPr/>
          <p:nvPr/>
        </p:nvSpPr>
        <p:spPr>
          <a:xfrm>
            <a:off x="3995640" y="24922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بقعة عين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ريبانوسوم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08000" y="1052640"/>
            <a:ext cx="880740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Mastig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سوط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Trypanosoma 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t is pathogenic para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uses African slee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ickne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النوم الأفريق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427640" y="3089160"/>
            <a:ext cx="4608360" cy="36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lasmodium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لازمودي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08000" y="1284120"/>
            <a:ext cx="8807400" cy="34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Sporozoa (Apicomplexa)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بوغ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Plasmodium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لازموديوم الملار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odium, the parasite that causes malaria, spends part of     its life in mosquitoes and part in hum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1763640" y="88920"/>
            <a:ext cx="5904000" cy="6707160"/>
            <a:chOff x="1763640" y="88920"/>
            <a:chExt cx="5904000" cy="6707160"/>
          </a:xfrm>
        </p:grpSpPr>
        <p:pic>
          <p:nvPicPr>
            <p:cNvPr id="333" name="Picture 6" descr=""/>
            <p:cNvPicPr/>
            <p:nvPr/>
          </p:nvPicPr>
          <p:blipFill>
            <a:blip r:embed="rId1"/>
            <a:srcRect l="0" t="0" r="38275" b="3000"/>
            <a:stretch/>
          </p:blipFill>
          <p:spPr>
            <a:xfrm>
              <a:off x="1763640" y="88920"/>
              <a:ext cx="5688360" cy="670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5"/>
            <p:cNvSpPr/>
            <p:nvPr/>
          </p:nvSpPr>
          <p:spPr>
            <a:xfrm>
              <a:off x="1908000" y="477720"/>
              <a:ext cx="1152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الطور </a:t>
              </a: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معد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6"/>
            <p:cNvSpPr/>
            <p:nvPr/>
          </p:nvSpPr>
          <p:spPr>
            <a:xfrm>
              <a:off x="2771280" y="2277000"/>
              <a:ext cx="16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ويصلات الجرثوم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7"/>
            <p:cNvSpPr/>
            <p:nvPr/>
          </p:nvSpPr>
          <p:spPr>
            <a:xfrm>
              <a:off x="5866920" y="5970960"/>
              <a:ext cx="180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ويصلات البيض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7640" y="1268280"/>
            <a:ext cx="8381880" cy="49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     Cili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هدب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Paramecium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راميسيو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iliophora (ciliates) is named for their use of cilia to move and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spcBef>
                <a:spcPts val="6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زاب الف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بلع الغذاء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phagocytosis, and expel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ويُخرج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جوة المنقبض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aramecium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راميسي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18"/>
          <p:cNvGrpSpPr/>
          <p:nvPr/>
        </p:nvGrpSpPr>
        <p:grpSpPr>
          <a:xfrm>
            <a:off x="1835280" y="2271600"/>
            <a:ext cx="5473080" cy="4460040"/>
            <a:chOff x="1835280" y="2271600"/>
            <a:chExt cx="5473080" cy="4460040"/>
          </a:xfrm>
        </p:grpSpPr>
        <p:pic>
          <p:nvPicPr>
            <p:cNvPr id="341" name="Picture 4" descr=""/>
            <p:cNvPicPr/>
            <p:nvPr/>
          </p:nvPicPr>
          <p:blipFill>
            <a:blip r:embed="rId1"/>
            <a:srcRect l="0" t="0" r="0" b="10913"/>
            <a:stretch/>
          </p:blipFill>
          <p:spPr>
            <a:xfrm>
              <a:off x="1835280" y="2271600"/>
              <a:ext cx="5473080" cy="43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2"/>
            <p:cNvSpPr/>
            <p:nvPr/>
          </p:nvSpPr>
          <p:spPr>
            <a:xfrm>
              <a:off x="3796560" y="2645280"/>
              <a:ext cx="118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3905640" y="3042000"/>
              <a:ext cx="118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4"/>
            <p:cNvSpPr/>
            <p:nvPr/>
          </p:nvSpPr>
          <p:spPr>
            <a:xfrm>
              <a:off x="3830760" y="358740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5"/>
            <p:cNvSpPr/>
            <p:nvPr/>
          </p:nvSpPr>
          <p:spPr>
            <a:xfrm>
              <a:off x="3830760" y="467928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6"/>
            <p:cNvSpPr/>
            <p:nvPr/>
          </p:nvSpPr>
          <p:spPr>
            <a:xfrm>
              <a:off x="3899160" y="520128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7"/>
            <p:cNvSpPr/>
            <p:nvPr/>
          </p:nvSpPr>
          <p:spPr>
            <a:xfrm>
              <a:off x="3684240" y="621144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 txBox="1"/>
          <p:nvPr/>
        </p:nvSpPr>
        <p:spPr>
          <a:xfrm>
            <a:off x="108000" y="333360"/>
            <a:ext cx="88567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a tiny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icronucl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rally reproduc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icronucleus is required f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0-24T14:02:30Z</dcterms:modified>
  <cp:revision>256</cp:revision>
  <dc:subject/>
  <dc:title>Nerve activates contraction</dc:title>
</cp:coreProperties>
</file>