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B21C-A52D-46F4-8A61-64C8481E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32E-CF5C-4DAE-9A62-43FD062F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70C-BEE4-449E-B121-57B5361C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AB1-7878-4CD9-A9EE-7CF1B983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9FA7-5AE7-43ED-A5EC-744D3A66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DCC8-6F53-47A0-BAF8-E0CE2FC3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8AC9-077A-4C73-8FD4-DA7B325C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341F-C84A-4B58-A040-FE4E5368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8189-033C-4E45-808A-BB800336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EAFE-080C-42E3-9346-657CE8CC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CE2F-DBEB-457D-A83E-8F3F5224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453-86C8-4AEC-B122-48D7F805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D9C6-3A2C-43FC-A36E-13600A1B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B49C-B59E-4D0A-8E37-94FA91CF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9AB0-3236-46FA-B35B-B7D70056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24EC-52E9-42FE-B715-6737481C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4E36-893D-40DD-87CD-3C4D50BA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80260-E697-4B3C-AF96-DF1F418B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0F09D-3764-4991-8C11-8FB2B12E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B659-7C76-472F-BB6A-FD9BEDA0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F30CB-4C70-4BA9-98F5-DF19EF56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C5C5-D9D4-46A1-A0C9-20A71BD7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765-9062-4A73-BD5D-5043A469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112C6-8DF1-439A-9757-048A2DF4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5EA0-35C3-4FD8-BA87-7357A212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10906-F93D-4BC6-94D7-A64A1F85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9835E-E348-4ACB-A520-D1C4617D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9E395-28D4-43D8-84E4-78A66AB3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3C3B3-3989-4332-9DD0-C468293E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115D6-2C48-4407-87B9-EDA84CCE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0F1BB-94BD-47BA-BB1B-C97BB6B1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DABB-161B-4E58-8421-B02F496C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A3BB4-FD5C-4447-ADC3-9FFFD382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3FF-ADC6-4844-854F-E9B59600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A5CD8-AA4C-4B04-A677-FE60882F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87503-308A-4C6F-9E58-05ACE458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C7CE9-4777-451D-A718-D569AADE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E95A6-4C44-4CF0-AD7D-FCE3584F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182B7-8679-4B6F-9FC8-5DEC84D5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3E8BC-87B4-47A6-BBC5-A8DD8776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63218-371F-4672-93C5-A2773177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A11C5-9E7F-4942-B564-3D072BD3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BDBD9-1716-4396-8381-0E594B66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E31-F125-4FF4-B5B3-04E19505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C27-4E1A-4D9A-A64F-E9A80085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A338-4D50-495A-BA81-DB2CFBD2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51E-A4AF-4A81-87BC-BA7E0494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191-CED8-4C03-97B5-AA6C3B82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D42E-C0BB-4576-816B-856B302C936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5923-B001-4CFB-B69F-BC2E04B9314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2597-4AFC-4D0F-B4DA-73210713E0F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3407-8711-4CF3-82DB-7FB6D1791F3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1"/>
          <p:cNvGrpSpPr/>
          <p:nvPr/>
        </p:nvGrpSpPr>
        <p:grpSpPr>
          <a:xfrm>
            <a:off x="4789440" y="1916280"/>
            <a:ext cx="4246560" cy="5231520"/>
            <a:chOff x="4789440" y="1916280"/>
            <a:chExt cx="4246560" cy="5231520"/>
          </a:xfrm>
        </p:grpSpPr>
        <p:pic>
          <p:nvPicPr>
            <p:cNvPr id="290" name="Picture 22" descr="kingdoms"/>
            <p:cNvPicPr/>
            <p:nvPr/>
          </p:nvPicPr>
          <p:blipFill>
            <a:blip r:embed="rId1"/>
            <a:stretch/>
          </p:blipFill>
          <p:spPr>
            <a:xfrm>
              <a:off x="4789440" y="2723760"/>
              <a:ext cx="4246560" cy="33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3"/>
            <p:cNvSpPr/>
            <p:nvPr/>
          </p:nvSpPr>
          <p:spPr>
            <a:xfrm>
              <a:off x="7205040" y="1916280"/>
              <a:ext cx="167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Constantia"/>
                  <a:ea typeface="Arial"/>
                </a:rPr>
                <a:t>Eukaryo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 flipH="1">
              <a:off x="5788080" y="2345040"/>
              <a:ext cx="2243520" cy="640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 flipH="1">
              <a:off x="7086240" y="2345040"/>
              <a:ext cx="945000" cy="548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 flipH="1">
              <a:off x="7086240" y="2345040"/>
              <a:ext cx="945000" cy="18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 flipH="1">
              <a:off x="7973280" y="2345040"/>
              <a:ext cx="58320" cy="640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>
              <a:off x="5726880" y="5684040"/>
              <a:ext cx="471240" cy="317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7741440" y="5583600"/>
              <a:ext cx="476280" cy="31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6801120" y="1946880"/>
              <a:ext cx="471240" cy="31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6216480" y="6383520"/>
              <a:ext cx="181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Constantia"/>
                  <a:ea typeface="Arial"/>
                </a:rPr>
                <a:t>Prokaryo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 flipV="1">
              <a:off x="7086600" y="5875920"/>
              <a:ext cx="763920" cy="532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 flipH="1" flipV="1">
              <a:off x="6109560" y="5998680"/>
              <a:ext cx="1000080" cy="40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 txBox="1"/>
          <p:nvPr/>
        </p:nvSpPr>
        <p:spPr>
          <a:xfrm>
            <a:off x="108000" y="1981080"/>
            <a:ext cx="4681440" cy="51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In the five kingdoms of classification, eukaryotes were distributed among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fou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kingdoms: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rotist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Fungi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lanta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and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Animali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Protists are eukaryotes and thus are much more complex than the prokaryot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ost of the known Protists are unicellular, but some are colonial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ستعمرات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and others multi-cellular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any Protists form resistant cells (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cysts)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حوصل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that can survive in harsh condition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Text Box 35"/>
          <p:cNvSpPr/>
          <p:nvPr/>
        </p:nvSpPr>
        <p:spPr>
          <a:xfrm>
            <a:off x="108000" y="1341360"/>
            <a:ext cx="7432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Second: Kingdom of Protista </a:t>
            </a:r>
            <a:r>
              <a:rPr b="1" lang="ar-SA" sz="2200" spc="-1" strike="noStrike">
                <a:solidFill>
                  <a:srgbClr val="ff0000"/>
                </a:solidFill>
                <a:latin typeface="Times New Roman"/>
                <a:cs typeface="Majalla UI"/>
              </a:rPr>
              <a:t>مملكة الطلائعي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130320" y="380880"/>
            <a:ext cx="8858160" cy="112932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14</a:t>
            </a:r>
            <a:r>
              <a:rPr b="1" lang="en-US" sz="3400" spc="-1" strike="noStrike">
                <a:solidFill>
                  <a:srgbClr val="ff0000"/>
                </a:solidFill>
                <a:latin typeface="Constantia"/>
              </a:rPr>
              <a:t>: Kingdoms of Living Organis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152280" y="1125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07640" y="1267920"/>
            <a:ext cx="626436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Systematic Posi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ingdom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lum:         Sarcodia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لحم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moeba sp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ميب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5-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Amoeba </a:t>
            </a: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ميب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8" descr="http://thumbs.dreamstime.com/z/structure-amoeba-proteus-unicellular-animal-pseudopods-lives-fresh-saltwater-anatomy-vector-diagram-34406447.jpg"/>
          <p:cNvPicPr/>
          <p:nvPr/>
        </p:nvPicPr>
        <p:blipFill>
          <a:blip r:embed="rId1"/>
          <a:srcRect l="0" t="12155" r="0" b="8562"/>
          <a:stretch/>
        </p:blipFill>
        <p:spPr>
          <a:xfrm>
            <a:off x="4932360" y="3819600"/>
            <a:ext cx="4103640" cy="292248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"/>
          <p:cNvSpPr/>
          <p:nvPr/>
        </p:nvSpPr>
        <p:spPr>
          <a:xfrm>
            <a:off x="108000" y="3825720"/>
            <a:ext cx="489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oebas are all unicellular and use pseudopodi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قدام الكاذب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move and to f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oeboid movement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Arial"/>
              </a:rPr>
              <a:t>الحركة الأميبي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curs by changes in microtubules and microfilaments in the cytoskele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0" descr="http://www.arcella.nl/sites/default/files/platenvanamoeben/Amoeba-proteus-BB-n%3D42-um-400-um-3.jpg"/>
          <p:cNvPicPr/>
          <p:nvPr/>
        </p:nvPicPr>
        <p:blipFill>
          <a:blip r:embed="rId2"/>
          <a:stretch/>
        </p:blipFill>
        <p:spPr>
          <a:xfrm>
            <a:off x="6216480" y="1052640"/>
            <a:ext cx="27482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08000" y="404640"/>
            <a:ext cx="8856720" cy="40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seudopodia activity is directed toward fo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oebas inhabit freshwater, marine environments and so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species are free-living heterotroph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are important parasites. These include </a:t>
            </a:r>
            <a:r>
              <a:rPr b="0" i="1" lang="en-US" sz="2400" spc="-1" strike="noStrike">
                <a:solidFill>
                  <a:srgbClr val="ff0000"/>
                </a:solidFill>
                <a:latin typeface="Constantia"/>
              </a:rPr>
              <a:t>Entamoeba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nstantia"/>
              </a:rPr>
              <a:t>histolytica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causes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moeboid dysentery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دوسنتاريا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hum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organisms sprea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contaminated drinking water, food, and eating utensi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7640" y="1179360"/>
            <a:ext cx="8807400" cy="599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1)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Nutritio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تغذي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Some Protists ar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photoautotroph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with chloroplasts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heterotroph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mixotroph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2)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Movement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حرك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Most Protists move with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flagell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o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cili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uring some time in their life cy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3)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Reproduc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Times New Roman"/>
              </a:rPr>
              <a:t>التكاث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osis occurs in almost all Proti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otists are asexual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Majalla UI"/>
              </a:rPr>
              <a:t>لاجنسياً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Characters of Pro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07640" y="1052280"/>
            <a:ext cx="88074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Calibri"/>
              </a:rPr>
              <a:t>1-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Constantia"/>
              </a:rPr>
              <a:t>Euglena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Constantia"/>
                <a:cs typeface="Majalla UI"/>
              </a:rPr>
              <a:t>اليوجلينا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وضع التقسيم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hylum:    Mastigophor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سوط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0" i="1" lang="en-GB" sz="2400" spc="-1" strike="noStrike">
                <a:solidFill>
                  <a:srgbClr val="0000ff"/>
                </a:solidFill>
                <a:latin typeface="Constantia"/>
              </a:rPr>
              <a:t>Euglena s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n use chloroplasts to undergo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photosynthesi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f light is available or live as a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heterotroph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by absorbing organic nutrients from the environ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roduce asexually by “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time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orm resistant cells (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yst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) that can survive in harsh condition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Examples of Pro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2"/>
          <p:cNvGrpSpPr/>
          <p:nvPr/>
        </p:nvGrpSpPr>
        <p:grpSpPr>
          <a:xfrm>
            <a:off x="468360" y="1123920"/>
            <a:ext cx="8230680" cy="5400360"/>
            <a:chOff x="468360" y="1123920"/>
            <a:chExt cx="8230680" cy="5400360"/>
          </a:xfrm>
        </p:grpSpPr>
        <p:pic>
          <p:nvPicPr>
            <p:cNvPr id="313" name="Picture 4" descr=""/>
            <p:cNvPicPr/>
            <p:nvPr/>
          </p:nvPicPr>
          <p:blipFill>
            <a:blip r:embed="rId1"/>
            <a:srcRect l="0" t="0" r="0" b="3758"/>
            <a:stretch/>
          </p:blipFill>
          <p:spPr>
            <a:xfrm>
              <a:off x="468360" y="1196640"/>
              <a:ext cx="8230680" cy="53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11"/>
            <p:cNvSpPr/>
            <p:nvPr/>
          </p:nvSpPr>
          <p:spPr>
            <a:xfrm>
              <a:off x="4800960" y="1123920"/>
              <a:ext cx="86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سو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3"/>
            <p:cNvSpPr/>
            <p:nvPr/>
          </p:nvSpPr>
          <p:spPr>
            <a:xfrm>
              <a:off x="7320240" y="2203920"/>
              <a:ext cx="126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مستشعر ضوئي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14"/>
            <p:cNvSpPr/>
            <p:nvPr/>
          </p:nvSpPr>
          <p:spPr>
            <a:xfrm>
              <a:off x="7200360" y="3643920"/>
              <a:ext cx="125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فجوة منقبض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15"/>
            <p:cNvSpPr/>
            <p:nvPr/>
          </p:nvSpPr>
          <p:spPr>
            <a:xfrm>
              <a:off x="6372360" y="4543200"/>
              <a:ext cx="14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بلاستيدة خضرا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16"/>
            <p:cNvSpPr/>
            <p:nvPr/>
          </p:nvSpPr>
          <p:spPr>
            <a:xfrm>
              <a:off x="5667120" y="6020280"/>
              <a:ext cx="12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حبيبا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2989440" y="4110480"/>
              <a:ext cx="12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نوا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3145680" y="4759560"/>
              <a:ext cx="125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غشاء البلازمي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2631960" y="5516640"/>
              <a:ext cx="125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أشرطة بروتيني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Text Box 12"/>
          <p:cNvSpPr/>
          <p:nvPr/>
        </p:nvSpPr>
        <p:spPr>
          <a:xfrm>
            <a:off x="3995640" y="24922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بقعة عين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-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Trypanosoma </a:t>
            </a: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ريبانوسوم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108000" y="1052640"/>
            <a:ext cx="880740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hylum:    Mastigophor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سوط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0" i="1" lang="en-GB" sz="2400" spc="-1" strike="noStrike">
                <a:solidFill>
                  <a:srgbClr val="0000ff"/>
                </a:solidFill>
                <a:latin typeface="Constantia"/>
              </a:rPr>
              <a:t>Trypanosoma 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t is pathogenic para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uses African slee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icknes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رض النوم الأفريق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4427640" y="3089160"/>
            <a:ext cx="4608360" cy="36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-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Plasmodium </a:t>
            </a: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لازموديو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108000" y="1284120"/>
            <a:ext cx="8807400" cy="34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hylum:    Sporozoa (Apicomplexa)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بوغ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0" i="1" lang="en-GB" sz="2400" spc="-1" strike="noStrike">
                <a:solidFill>
                  <a:srgbClr val="0000ff"/>
                </a:solidFill>
                <a:latin typeface="Constantia"/>
              </a:rPr>
              <a:t>Plasmodium sp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لازموديوم الملار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modium, the parasite that causes malaria, spends part of     its life in mosquitoes and part in hum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1"/>
          <p:cNvGrpSpPr/>
          <p:nvPr/>
        </p:nvGrpSpPr>
        <p:grpSpPr>
          <a:xfrm>
            <a:off x="1763640" y="88920"/>
            <a:ext cx="5904000" cy="6707160"/>
            <a:chOff x="1763640" y="88920"/>
            <a:chExt cx="5904000" cy="6707160"/>
          </a:xfrm>
        </p:grpSpPr>
        <p:pic>
          <p:nvPicPr>
            <p:cNvPr id="333" name="Picture 6" descr=""/>
            <p:cNvPicPr/>
            <p:nvPr/>
          </p:nvPicPr>
          <p:blipFill>
            <a:blip r:embed="rId1"/>
            <a:srcRect l="0" t="0" r="38275" b="3000"/>
            <a:stretch/>
          </p:blipFill>
          <p:spPr>
            <a:xfrm>
              <a:off x="1763640" y="88920"/>
              <a:ext cx="5688360" cy="670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15"/>
            <p:cNvSpPr/>
            <p:nvPr/>
          </p:nvSpPr>
          <p:spPr>
            <a:xfrm>
              <a:off x="1908000" y="477720"/>
              <a:ext cx="1152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الطور </a:t>
              </a: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معدي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6"/>
            <p:cNvSpPr/>
            <p:nvPr/>
          </p:nvSpPr>
          <p:spPr>
            <a:xfrm>
              <a:off x="2771280" y="2277000"/>
              <a:ext cx="16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حويصلات الجرثومي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7"/>
            <p:cNvSpPr/>
            <p:nvPr/>
          </p:nvSpPr>
          <p:spPr>
            <a:xfrm>
              <a:off x="5866920" y="5970960"/>
              <a:ext cx="180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حويصلات البيضي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07640" y="1268280"/>
            <a:ext cx="8381880" cy="49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gdo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      Protist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طلائع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kingdom: Protozoa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تحت مملكة الأول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hylum:         Ciliophor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هدب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0" i="1" lang="en-GB" sz="2400" spc="-1" strike="noStrike">
                <a:solidFill>
                  <a:srgbClr val="0000ff"/>
                </a:solidFill>
                <a:latin typeface="Constantia"/>
              </a:rPr>
              <a:t>Paramecium sp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راميسيو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iliophora (ciliates) is named for their use of cilia to move and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ciliates live in fresh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spcBef>
                <a:spcPts val="601"/>
              </a:spcBef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has cilia along the oral groove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يزاب الفم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in food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يبلع الغذاء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phagocytosis, and expel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ويُخرج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umulated water from the contractile vacuole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فجوة المنقبض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4-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Paramecium </a:t>
            </a:r>
            <a:r>
              <a:rPr b="1" lang="ar-SA" sz="3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راميسيو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18"/>
          <p:cNvGrpSpPr/>
          <p:nvPr/>
        </p:nvGrpSpPr>
        <p:grpSpPr>
          <a:xfrm>
            <a:off x="1835280" y="2271600"/>
            <a:ext cx="5473080" cy="4460040"/>
            <a:chOff x="1835280" y="2271600"/>
            <a:chExt cx="5473080" cy="4460040"/>
          </a:xfrm>
        </p:grpSpPr>
        <p:pic>
          <p:nvPicPr>
            <p:cNvPr id="341" name="Picture 4" descr=""/>
            <p:cNvPicPr/>
            <p:nvPr/>
          </p:nvPicPr>
          <p:blipFill>
            <a:blip r:embed="rId1"/>
            <a:srcRect l="0" t="0" r="0" b="10913"/>
            <a:stretch/>
          </p:blipFill>
          <p:spPr>
            <a:xfrm>
              <a:off x="1835280" y="2271600"/>
              <a:ext cx="5473080" cy="43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12"/>
            <p:cNvSpPr/>
            <p:nvPr/>
          </p:nvSpPr>
          <p:spPr>
            <a:xfrm>
              <a:off x="3796560" y="2645280"/>
              <a:ext cx="118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أهدا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3"/>
            <p:cNvSpPr/>
            <p:nvPr/>
          </p:nvSpPr>
          <p:spPr>
            <a:xfrm>
              <a:off x="3905640" y="3042000"/>
              <a:ext cx="118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غذ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4"/>
            <p:cNvSpPr/>
            <p:nvPr/>
          </p:nvSpPr>
          <p:spPr>
            <a:xfrm>
              <a:off x="3830760" y="3587400"/>
              <a:ext cx="118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ميزاب الف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5"/>
            <p:cNvSpPr/>
            <p:nvPr/>
          </p:nvSpPr>
          <p:spPr>
            <a:xfrm>
              <a:off x="3830760" y="4679280"/>
              <a:ext cx="118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صغ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6"/>
            <p:cNvSpPr/>
            <p:nvPr/>
          </p:nvSpPr>
          <p:spPr>
            <a:xfrm>
              <a:off x="3899160" y="5201280"/>
              <a:ext cx="118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كب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7"/>
            <p:cNvSpPr/>
            <p:nvPr/>
          </p:nvSpPr>
          <p:spPr>
            <a:xfrm>
              <a:off x="3684240" y="6211440"/>
              <a:ext cx="118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 txBox="1"/>
          <p:nvPr/>
        </p:nvSpPr>
        <p:spPr>
          <a:xfrm>
            <a:off x="108000" y="333360"/>
            <a:ext cx="88567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wo types of nuclei, a large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macronucle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a tiny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micronucle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erally reproduce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y binary fission of the macronucleus, rather than mitotic divi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icronucleus is required fo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rocesses that generate genetic vari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0-24T14:02:30Z</dcterms:modified>
  <cp:revision>256</cp:revision>
  <dc:subject/>
  <dc:title>Nerve activates contraction</dc:title>
</cp:coreProperties>
</file>