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A5B-292C-4432-BE33-FACCCBF4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91F-77DB-434D-A28F-FDF988E5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7B2-9FAE-4FCA-8665-B0608D7A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83B-4FE6-439B-8A2F-42DBAE91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76A9-0FE5-4C84-8079-D7B750B0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7ECD-505B-499F-A3E2-09044DC6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DACE-4F1E-43EA-851A-86C27376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87E6-017D-4B00-A189-7F9653D7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E685-F7A5-4326-A9BF-E99D035B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F603-9CDC-4061-883E-0EEF5BDB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7229-78F2-4B8D-90C5-9200611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4B7-0D58-4074-8B7B-80310BBD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6049-FCEF-4E66-B11C-EE6424A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019F-4507-4380-BE90-4445879F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447-43D2-42C0-B179-DBA29786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541D-228C-4C76-8AB5-A08A3C5A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D4EB-1117-4024-BA05-34F2D649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917A-3F42-4174-8449-A4450CC7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43B1-3E86-4E7D-894E-CB2FF69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9BCA-46E5-4024-A1A9-8CD20EE7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15A50-8BE3-4A11-A89B-A162FD5B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FAF5-3228-466A-8940-29940806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690-DC33-4506-A46F-444A8917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FCDC-90C8-4C5F-A65A-4D5FD375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794BE-EE2C-40DA-B32A-1164787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FF07-C6D6-4E5F-9016-F51B1394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8092-A638-4F3E-BC55-EC2AABA9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723D-BF50-4D28-B5E9-DCB87073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430A-FD4E-421C-95E8-258FAB42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8845-CF19-4E4F-8339-201BFD59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A9D7-AF97-4235-A9C8-8A102214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B4F05-893F-49C9-9B94-0471DF05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905A-C6A5-4D19-84B0-CD27F375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5EA-B85A-4D1A-80E0-EBE5EDA0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8ABC-D6F6-4F3B-B3C8-27BCAE59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5625-3BF5-45BF-BFA2-4AB212B0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6B3C-B136-4406-B123-BB06B282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90860-537E-4669-9F8C-DC339577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4DDF3-6CDF-4E5D-8A28-3DA93BCC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D433-236D-4420-94DB-A5C0D685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3C16-A3DC-4E77-A12A-671E9696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F5FE-7045-4C7E-8D03-CD726CF0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7C339-3FAA-4EA7-BDFD-BBC0F2BD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9BC-1DC1-48DB-A88D-30A722EC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35F-EC5E-45E0-A849-D4CB1B0C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BB6-472B-4F36-868D-A00825AD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516-E7C6-43BE-9E61-C839A0F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27D-09AC-4269-A232-20099D21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ECAF-F54E-483A-BB3D-D2EF8627790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D57D-699C-46CF-BE0F-10550E84B57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1D6E-5F07-4033-BA9A-D583C85DD8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6DE-3687-4CB6-9AC3-FD5C6F12F35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789440" y="1916280"/>
            <a:ext cx="4246560" cy="5231520"/>
            <a:chOff x="4789440" y="1916280"/>
            <a:chExt cx="4246560" cy="523152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789440" y="2723760"/>
              <a:ext cx="424656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205040" y="1916280"/>
              <a:ext cx="167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Constantia"/>
                  <a:ea typeface="Arial"/>
                </a:rPr>
                <a:t>Eukaryo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788080" y="2345040"/>
              <a:ext cx="2243520" cy="64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7086240" y="2345040"/>
              <a:ext cx="945000" cy="548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7086240" y="2345040"/>
              <a:ext cx="945000" cy="18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73280" y="2345040"/>
              <a:ext cx="58320" cy="64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5726880" y="5684040"/>
              <a:ext cx="471240" cy="31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7741440" y="5583600"/>
              <a:ext cx="476280" cy="31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801120" y="1946880"/>
              <a:ext cx="471240" cy="31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6216480" y="6383520"/>
              <a:ext cx="181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Constantia"/>
                  <a:ea typeface="Arial"/>
                </a:rPr>
                <a:t>Prokaryo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7086600" y="5875920"/>
              <a:ext cx="763920" cy="532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6109560" y="5998680"/>
              <a:ext cx="100008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 txBox="1"/>
          <p:nvPr/>
        </p:nvSpPr>
        <p:spPr>
          <a:xfrm>
            <a:off x="108000" y="1981080"/>
            <a:ext cx="4681440" cy="51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In the five kingdoms of classification, eukaryotes were distributed among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ou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kingdoms: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rotist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ungi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lanta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nimali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Protists are eukaryotes and thus are much more complex than the prokaryot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ost of the known Protists are unicellular, but some are colonial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ستعمرات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nd others multi-cellula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any Protists form resistant cells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cysts)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حوصل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hat can survive in harsh condition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108000" y="1341360"/>
            <a:ext cx="7432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Second: Kingdom of Protista 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  <a:cs typeface="Majalla UI"/>
              </a:rPr>
              <a:t>مملكة الطلائعي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130320" y="380880"/>
            <a:ext cx="8858160" cy="11293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1" lang="en-US" sz="3400" spc="-1" strike="noStrike">
                <a:solidFill>
                  <a:srgbClr val="ff0000"/>
                </a:solidFill>
                <a:latin typeface="Constantia"/>
              </a:rPr>
              <a:t>: Kingdoms of Living Organis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152280" y="1125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07640" y="1267920"/>
            <a:ext cx="62643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ystematic Posi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ingdom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lum:         Sarcodia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لحم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moeba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يب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5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Amoeba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يب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8" descr="http://thumbs.dreamstime.com/z/structure-amoeba-proteus-unicellular-animal-pseudopods-lives-fresh-saltwater-anatomy-vector-diagram-34406447.jpg"/>
          <p:cNvPicPr/>
          <p:nvPr/>
        </p:nvPicPr>
        <p:blipFill>
          <a:blip r:embed="rId1"/>
          <a:srcRect l="0" t="12155" r="0" b="8562"/>
          <a:stretch/>
        </p:blipFill>
        <p:spPr>
          <a:xfrm>
            <a:off x="4932360" y="3819600"/>
            <a:ext cx="4103640" cy="29224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"/>
          <p:cNvSpPr/>
          <p:nvPr/>
        </p:nvSpPr>
        <p:spPr>
          <a:xfrm>
            <a:off x="108000" y="3825720"/>
            <a:ext cx="489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pseudopodi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قدام الكاذب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move and to f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oid movemen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حركة الأميب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" descr="http://www.arcella.nl/sites/default/files/platenvanamoeben/Amoeba-proteus-BB-n%3D42-um-400-um-3.jpg"/>
          <p:cNvPicPr/>
          <p:nvPr/>
        </p:nvPicPr>
        <p:blipFill>
          <a:blip r:embed="rId2"/>
          <a:stretch/>
        </p:blipFill>
        <p:spPr>
          <a:xfrm>
            <a:off x="6216480" y="1052640"/>
            <a:ext cx="27482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08000" y="404640"/>
            <a:ext cx="8856720" cy="40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as inhabit freshwater, marine environments and so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re important parasites. These include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Entamoeb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histolytica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cause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moeboid dysente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contaminated drinking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7640" y="1179360"/>
            <a:ext cx="8807400" cy="599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Nutri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تغذ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ome Protists a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hotoautotro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with chloroplasts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heterotroph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mixotro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Movemen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حرك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ost Protists move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lagell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ci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uring some time in their life cy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3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Reprodu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تكاث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osis occurs in almost all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tists are asexual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لاجنسياً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haracters of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07640" y="1052280"/>
            <a:ext cx="88074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Calibri"/>
              </a:rPr>
              <a:t>1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Euglena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يوجلينا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ضع التقسي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Mastig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سوط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Euglena s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f light is available or live as a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 that can survive in harsh conditio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Examples of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2"/>
          <p:cNvGrpSpPr/>
          <p:nvPr/>
        </p:nvGrpSpPr>
        <p:grpSpPr>
          <a:xfrm>
            <a:off x="468360" y="1123920"/>
            <a:ext cx="8230680" cy="5400360"/>
            <a:chOff x="468360" y="1123920"/>
            <a:chExt cx="8230680" cy="5400360"/>
          </a:xfrm>
        </p:grpSpPr>
        <p:pic>
          <p:nvPicPr>
            <p:cNvPr id="313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468360" y="1196640"/>
              <a:ext cx="823068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11"/>
            <p:cNvSpPr/>
            <p:nvPr/>
          </p:nvSpPr>
          <p:spPr>
            <a:xfrm>
              <a:off x="4800960" y="1123920"/>
              <a:ext cx="86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سو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3"/>
            <p:cNvSpPr/>
            <p:nvPr/>
          </p:nvSpPr>
          <p:spPr>
            <a:xfrm>
              <a:off x="7320240" y="2203920"/>
              <a:ext cx="126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مستشعر ضوئ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14"/>
            <p:cNvSpPr/>
            <p:nvPr/>
          </p:nvSpPr>
          <p:spPr>
            <a:xfrm>
              <a:off x="7200360" y="3643920"/>
              <a:ext cx="125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فجوة منقبض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6372360" y="4543200"/>
              <a:ext cx="14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بلاستيدة خضرا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6"/>
            <p:cNvSpPr/>
            <p:nvPr/>
          </p:nvSpPr>
          <p:spPr>
            <a:xfrm>
              <a:off x="5667120" y="6020280"/>
              <a:ext cx="12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حبيبا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2989440" y="4110480"/>
              <a:ext cx="12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نوا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3145680" y="4759560"/>
              <a:ext cx="125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غشاء البلازم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2631960" y="5516640"/>
              <a:ext cx="125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أشرطة بروتين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Text Box 12"/>
          <p:cNvSpPr/>
          <p:nvPr/>
        </p:nvSpPr>
        <p:spPr>
          <a:xfrm>
            <a:off x="3995640" y="24922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بقعة عين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ريبانوسوم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08000" y="1052640"/>
            <a:ext cx="880740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Mastig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سوط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Trypanosoma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t is pathogenic para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uses African slee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ickne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النوم الأفريق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427640" y="3089160"/>
            <a:ext cx="4608360" cy="36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lasmodium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ازمودي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08000" y="1284120"/>
            <a:ext cx="8807400" cy="34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Sporozoa (Apicomplexa)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بوغ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Plasmodium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لازموديوم الملار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odium, the parasite that causes malaria, spends part of     its life in mosquitoes and part in hum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1763640" y="88920"/>
            <a:ext cx="5904000" cy="6707160"/>
            <a:chOff x="1763640" y="88920"/>
            <a:chExt cx="5904000" cy="6707160"/>
          </a:xfrm>
        </p:grpSpPr>
        <p:pic>
          <p:nvPicPr>
            <p:cNvPr id="333" name="Picture 6" descr=""/>
            <p:cNvPicPr/>
            <p:nvPr/>
          </p:nvPicPr>
          <p:blipFill>
            <a:blip r:embed="rId1"/>
            <a:srcRect l="0" t="0" r="38275" b="3000"/>
            <a:stretch/>
          </p:blipFill>
          <p:spPr>
            <a:xfrm>
              <a:off x="1763640" y="88920"/>
              <a:ext cx="5688360" cy="670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5"/>
            <p:cNvSpPr/>
            <p:nvPr/>
          </p:nvSpPr>
          <p:spPr>
            <a:xfrm>
              <a:off x="1908000" y="477720"/>
              <a:ext cx="1152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الطور </a:t>
              </a: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معد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6"/>
            <p:cNvSpPr/>
            <p:nvPr/>
          </p:nvSpPr>
          <p:spPr>
            <a:xfrm>
              <a:off x="2771280" y="2277000"/>
              <a:ext cx="16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ويصلات الجرثوم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7"/>
            <p:cNvSpPr/>
            <p:nvPr/>
          </p:nvSpPr>
          <p:spPr>
            <a:xfrm>
              <a:off x="5866920" y="5970960"/>
              <a:ext cx="180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ويصلات البيض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7640" y="1268280"/>
            <a:ext cx="8381880" cy="49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     Cili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هدب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Paramecium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اميسيو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iliophora (ciliates) is named for their use of cilia to move and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spcBef>
                <a:spcPts val="6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زاب الف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بلع الغذاء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phagocytosis, and expel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ويُخرج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جوة المنقبض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aramecium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اميسي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18"/>
          <p:cNvGrpSpPr/>
          <p:nvPr/>
        </p:nvGrpSpPr>
        <p:grpSpPr>
          <a:xfrm>
            <a:off x="1835280" y="2271600"/>
            <a:ext cx="5473080" cy="4460040"/>
            <a:chOff x="1835280" y="2271600"/>
            <a:chExt cx="5473080" cy="4460040"/>
          </a:xfrm>
        </p:grpSpPr>
        <p:pic>
          <p:nvPicPr>
            <p:cNvPr id="341" name="Picture 4" descr=""/>
            <p:cNvPicPr/>
            <p:nvPr/>
          </p:nvPicPr>
          <p:blipFill>
            <a:blip r:embed="rId1"/>
            <a:srcRect l="0" t="0" r="0" b="10913"/>
            <a:stretch/>
          </p:blipFill>
          <p:spPr>
            <a:xfrm>
              <a:off x="1835280" y="2271600"/>
              <a:ext cx="5473080" cy="43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2"/>
            <p:cNvSpPr/>
            <p:nvPr/>
          </p:nvSpPr>
          <p:spPr>
            <a:xfrm>
              <a:off x="3796560" y="2645280"/>
              <a:ext cx="118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3905640" y="3042000"/>
              <a:ext cx="118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4"/>
            <p:cNvSpPr/>
            <p:nvPr/>
          </p:nvSpPr>
          <p:spPr>
            <a:xfrm>
              <a:off x="3830760" y="358740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5"/>
            <p:cNvSpPr/>
            <p:nvPr/>
          </p:nvSpPr>
          <p:spPr>
            <a:xfrm>
              <a:off x="3830760" y="467928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6"/>
            <p:cNvSpPr/>
            <p:nvPr/>
          </p:nvSpPr>
          <p:spPr>
            <a:xfrm>
              <a:off x="3899160" y="520128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7"/>
            <p:cNvSpPr/>
            <p:nvPr/>
          </p:nvSpPr>
          <p:spPr>
            <a:xfrm>
              <a:off x="3684240" y="621144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 txBox="1"/>
          <p:nvPr/>
        </p:nvSpPr>
        <p:spPr>
          <a:xfrm>
            <a:off x="108000" y="333360"/>
            <a:ext cx="88567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a tiny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icronucl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rally reproduc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icronucleus is required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0-24T14:02:30Z</dcterms:modified>
  <cp:revision>256</cp:revision>
  <dc:subject/>
  <dc:title>Nerve activates contraction</dc:title>
</cp:coreProperties>
</file>