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C3E-8EF3-4869-83BC-935E81D5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5E6-F41F-4CAD-BD8D-B8BC5D98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72B-9C60-465E-9B42-EF9E149A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837-5ABA-4912-912E-A10E41DA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B8CD-C856-4A7F-9CCA-CBEB2F62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965C-18A9-4A42-A9AE-B8FCD81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9519-FBFD-4C50-B64A-5ADBE678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2E08-4FF4-4D29-B92B-D909446C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ECF5-8CC4-4540-9603-FF064936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4970-4EF6-465C-A3A8-1BCC99C3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FDB5-F80A-437B-BD5D-582BC5B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985-D94B-409B-969A-AC4AC7B5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998C-2F57-43E3-82FD-82922A2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0DCE-A038-45A4-AC65-7267314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250-0660-4257-9F4A-DB440EA5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C26-2DB6-4A60-8323-97E83C64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174E-5C00-41B1-8925-C4244B5C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7855-9C71-45CF-8907-AF8B9F6B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9967-2594-4C7C-AD2F-C8AF6FB5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9792-7BE8-485E-8D93-156853DB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C9C6-DE3F-4173-B994-C657CA75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55CD-90B1-4D7F-A9DE-F5A75E8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3AA-53A3-42A9-A03D-58D7D97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FBFB-D808-459A-B11C-0EA283E0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DAF0-610F-4A25-A124-AF9DDBA1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E7A8-94B2-4629-BBA7-02EBDB75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6FEE-174D-4EB9-8C97-7062B13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E808-34BF-45B1-8F69-5BFAB974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B3D4-2210-4547-A5E8-B78A902D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5617-424F-4E72-9BE9-20A1F628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2E63-4BA1-4DA7-BFFF-2AF23A8F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F3E5-AF9D-4CB7-91C1-2AE68B1C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40EC-AD9C-4B98-91F8-262CD5D1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186-5351-4DD4-9CBF-C0F5B262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72D9-2507-4B5D-881D-5AB76CC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E19C-D477-4631-A271-A68BEC87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AB37-987E-4E76-9216-9C944FE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0270-F254-4872-8DF4-FC931E9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3FCD-52E1-402B-B473-7B37741C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EF3B-7026-4C13-B59F-3DCABFE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3D4C-4BD2-4500-A55E-D9DB8DD5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0C311-55E0-4B68-B2B7-327016A2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1A2C-D3D2-4514-8018-727415C3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4EE-32E7-4B2A-8C8F-820B1F96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8F0-D653-49FC-9C0B-8A969490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035-A473-41C7-ABD2-BFF484C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62A-5E15-459B-87D8-57561096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27B-7818-4532-818E-69DBAC2A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1109-6568-443A-AA94-980A1A215C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5A6C-ACDB-4870-940A-4A4B4B9792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F04D-6DA2-40BE-B901-6ECF1E4951D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EB0A-6F3E-4982-B2AB-31A7AF7406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820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0:15Z</dcterms:modified>
  <cp:revision>179</cp:revision>
  <dc:subject/>
  <dc:title>Nerve activates contraction</dc:title>
</cp:coreProperties>
</file>