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51D-A065-4032-8416-FC5AC5AE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2B6-E33E-4193-B801-09279F0F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DFF-9332-4EDD-9339-BB50C95C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67F-DA23-469D-980C-F650B9A2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84DF-F271-4863-992B-2047618F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9063-A521-41A8-9F8B-32361A56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373E-2CB6-4DBB-B07B-62D41862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2612-0362-4287-B885-ECF939C4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4E43-7139-498B-9D4E-77A9E650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28CB-F15C-4D68-B5B1-31A1E0AC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0A59-4910-4912-AAFB-852B4D70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A03-39C0-4306-88B5-C62852BB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3FB6-85DD-4C7B-ABCF-6EC27951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77A5-E951-46D5-979C-279C39AF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151F-3C25-4B48-B4A1-BBB8799A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38C3-3585-4B94-92B9-ADED53C7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F68E-D26F-423B-8706-676F09BD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7D41-C7F6-4FD7-BC10-9F5608ED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55F0-95CA-41DE-85F2-CF6D96A6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D04C-A009-4404-B294-E81975B1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6561C-2D2A-43BB-B706-D5E378F2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97F33-296B-4906-A5D7-7FD61700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2C4-1C11-4198-9E35-1B63C33B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BE9A-CA72-4047-AB75-0FCB5C6F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5416-19E4-4449-97B4-93DB4A5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797A-C28F-42DD-A81E-EAA2C786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3DA22-227B-465F-A1A0-78764DF0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EF4D-3E6D-4FDA-889A-61F52C36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F467-173D-41C0-9DE7-A722D27A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D42DA-F13B-4DFC-9D36-B15DD9B6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0987A-FDBC-427B-93AC-5A088A26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064F5-43B6-40C0-A5D4-BAEC0D37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5F124-6F18-4824-A0D2-74EC5367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FB1-107A-4896-8390-F5F8D861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9E68B-B55C-4FEC-BD1F-4535B37E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FDAE-965A-4FD3-BAC9-53C66244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DB575-2580-4443-ABDD-507B49AC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AC17-0B0E-419B-836C-2D40F350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4B460-A382-44CF-B931-382E2E23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78F6A-10F5-427F-98E8-C78F3EEA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597B-83C5-4179-8AB2-2ADF716E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A660F-7004-43D3-8AEB-9AF9427F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925B-17E8-4187-A1DE-EB877A68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5A3-3BDF-4123-BAB9-E1F40FC7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9CF-CC64-48A0-9992-3B35185F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540-14CC-4A85-A230-178EE3A8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D87-7831-47E2-B8C2-1E7BAF4F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AEF-DA4E-41C1-A1D0-9372E720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3174-61AB-4A10-8E14-BC32121BD8B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ADDE-7C6D-4355-ABDD-37E4B92E9AD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6D44-6CE2-4291-B8C5-F2FA4225F07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03E7-26F2-483C-B180-76997778FAF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284720" y="1452600"/>
            <a:ext cx="4824360" cy="5146560"/>
            <a:chOff x="4284720" y="1452600"/>
            <a:chExt cx="4824360" cy="514656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284720" y="2277720"/>
              <a:ext cx="482436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165080" y="145260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419080" y="1865160"/>
              <a:ext cx="2548800" cy="75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6894000" y="1865160"/>
              <a:ext cx="1073880" cy="618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6894000" y="1865160"/>
              <a:ext cx="1073880" cy="206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02000" y="1865160"/>
              <a:ext cx="6624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4546080" y="5167440"/>
              <a:ext cx="53568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8036280" y="5237280"/>
              <a:ext cx="53820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761160" y="1521000"/>
              <a:ext cx="53532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5820120" y="620028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6693120" y="5443200"/>
              <a:ext cx="134172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4946760" y="5513040"/>
              <a:ext cx="1745640" cy="82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4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78920" y="2649240"/>
            <a:ext cx="42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ive-kingdom system of classification, the eukaryotes were distributed among four kingdom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is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t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g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mal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are eukaryotes and thus are much more complex than the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ukaryotes were unicellul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and multi-cellular animals originated from protis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46368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214200" y="1257480"/>
            <a:ext cx="47865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- Kingdom Protist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ولي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ukaryotic uni-/multi-cellula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50920" y="1530360"/>
            <a:ext cx="6769080" cy="4925880"/>
          </a:xfrm>
          <a:prstGeom prst="rect">
            <a:avLst/>
          </a:prstGeom>
          <a:ln w="0">
            <a:noFill/>
          </a:ln>
        </p:spPr>
      </p:pic>
      <p:pic>
        <p:nvPicPr>
          <p:cNvPr id="352" name="Sporozoit.WMV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5600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Text Box 13"/>
          <p:cNvSpPr/>
          <p:nvPr/>
        </p:nvSpPr>
        <p:spPr>
          <a:xfrm>
            <a:off x="6000840" y="609480"/>
            <a:ext cx="30970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Kingdom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:       Prot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ubkingdom: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Phylum:        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2- </a:t>
            </a: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Subphylum:   Spor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Plasmodium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بلازموديوم الملاري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179280" y="871560"/>
            <a:ext cx="4897440" cy="459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Subphylum:  Sporozoa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بوغ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62080" y="184464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طور المعد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187280" y="2963880"/>
            <a:ext cx="8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جرثوم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3276720" y="580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بيض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2600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6760" y="1203120"/>
            <a:ext cx="84250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iliophora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هدبيات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Protists use cili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أهداب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2307960"/>
            <a:ext cx="83822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Ciliophora (ciliates), a diverse protist group, is named for their use of cilia to move and f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ir cilia coordinate mo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ciliates are completely covered by rows of cilia, whereas others have cilia clustered into fewer ro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pecific arrangement of cilia adapts the ciliates for their lifesty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8"/>
          <p:cNvGrpSpPr/>
          <p:nvPr/>
        </p:nvGrpSpPr>
        <p:grpSpPr>
          <a:xfrm>
            <a:off x="3708360" y="2271600"/>
            <a:ext cx="5329440" cy="4470480"/>
            <a:chOff x="3708360" y="2271600"/>
            <a:chExt cx="5329440" cy="4470480"/>
          </a:xfrm>
        </p:grpSpPr>
        <p:pic>
          <p:nvPicPr>
            <p:cNvPr id="362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3708360" y="2271600"/>
              <a:ext cx="5329440" cy="44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2"/>
            <p:cNvSpPr/>
            <p:nvPr/>
          </p:nvSpPr>
          <p:spPr>
            <a:xfrm>
              <a:off x="5618160" y="262080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5724360" y="2990880"/>
              <a:ext cx="115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5651640" y="35002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5651640" y="451944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6"/>
            <p:cNvSpPr/>
            <p:nvPr/>
          </p:nvSpPr>
          <p:spPr>
            <a:xfrm>
              <a:off x="5718240" y="50068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508720" y="59500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677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Subphylum: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Ciliophora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شعيبة الهدبيات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640" y="1109160"/>
            <a:ext cx="8713800" cy="125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10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يزاب الف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يبلع الغذ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at are engulfed by phagocytosis, 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d expe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يُخر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جوة المنقبض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aramecium.avi" descr=""/>
          <p:cNvPicPr/>
          <p:nvPr/>
        </p:nvPicPr>
        <p:blipFill>
          <a:blip r:embed="rId2"/>
          <a:stretch/>
        </p:blipFill>
        <p:spPr>
          <a:xfrm>
            <a:off x="250920" y="2889360"/>
            <a:ext cx="36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Line 11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1600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560" y="1268280"/>
            <a:ext cx="845820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usually several tiny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icronuclei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Parameciu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lly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icronuclei (with between 1 and 80 copies) are required for sexual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835280" y="189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aramec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.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arcodin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سركودينا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rotists use pseudopodia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قدام الكاذب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 and feed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344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arcodina are protists use pseudopodia, cellular extensions, to move and often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heterotrophs that actively feed on bacteria and other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species are symbiotic, including some human parasi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                                                                  pseudopodia to move and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Amoeba.wmv" descr=""/>
          <p:cNvPicPr/>
          <p:nvPr/>
        </p:nvPicPr>
        <p:blipFill>
          <a:blip r:embed="rId1"/>
          <a:stretch/>
        </p:blipFill>
        <p:spPr>
          <a:xfrm>
            <a:off x="5834160" y="407196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379" name="Line 5"/>
          <p:cNvSpPr/>
          <p:nvPr/>
        </p:nvSpPr>
        <p:spPr>
          <a:xfrm>
            <a:off x="250920" y="1052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69920" y="4437000"/>
            <a:ext cx="468936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eboid movement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ركة الأميب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812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24000" y="1318680"/>
            <a:ext cx="8496000" cy="47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inhabit freshwater and marine enviro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ay also be abundant in soi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are important parasit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include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Entamoeba histolytic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hich                                             causes amoeboid dysentery                         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contaminated drinking                                                    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25092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5143680" y="2638440"/>
            <a:ext cx="37861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8000" y="1217520"/>
            <a:ext cx="86421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unicellular eukaryot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anging from uni-celled microscopic members, simple multi-cellular forms, and complex giants like seaweed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شائش البحر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4067280" y="2565360"/>
            <a:ext cx="4952520" cy="3257640"/>
            <a:chOff x="4067280" y="2565360"/>
            <a:chExt cx="4952520" cy="3257640"/>
          </a:xfrm>
        </p:grpSpPr>
        <p:pic>
          <p:nvPicPr>
            <p:cNvPr id="308" name="Picture 7" descr=""/>
            <p:cNvPicPr/>
            <p:nvPr/>
          </p:nvPicPr>
          <p:blipFill>
            <a:blip r:embed="rId1"/>
            <a:stretch/>
          </p:blipFill>
          <p:spPr>
            <a:xfrm>
              <a:off x="4067280" y="2565360"/>
              <a:ext cx="2514240" cy="16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57840" y="2584440"/>
              <a:ext cx="23619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9" descr=""/>
            <p:cNvPicPr/>
            <p:nvPr/>
          </p:nvPicPr>
          <p:blipFill>
            <a:blip r:embed="rId3"/>
            <a:stretch/>
          </p:blipFill>
          <p:spPr>
            <a:xfrm>
              <a:off x="4082760" y="4217760"/>
              <a:ext cx="248580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0" descr=""/>
            <p:cNvPicPr/>
            <p:nvPr/>
          </p:nvPicPr>
          <p:blipFill>
            <a:blip r:embed="rId4"/>
            <a:stretch/>
          </p:blipFill>
          <p:spPr>
            <a:xfrm>
              <a:off x="6657840" y="4217760"/>
              <a:ext cx="236196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Rectangle 17"/>
          <p:cNvSpPr/>
          <p:nvPr/>
        </p:nvSpPr>
        <p:spPr>
          <a:xfrm>
            <a:off x="108000" y="2716200"/>
            <a:ext cx="4105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s us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 for a great diversity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kingd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60,000 known protists are unicellular, but some are colonial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عمرات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thers multi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rotists 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صل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34960" y="765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8920" y="1447560"/>
            <a:ext cx="8642520" cy="414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- Nutri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غذ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robic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ئية التنف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mitochondria for cellular respi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aut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chloropla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other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ter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bsorb organic molecules or ingest larger food parti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x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bining photosynthesis and heterotrophic nutr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may include photosynthetic species, heterotrophic species, and mixotrophic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6368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55640" y="115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aracters of Protist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صفات الأول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0920" y="1052640"/>
            <a:ext cx="8229600" cy="371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Movement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t protists move with flagell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سوا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cil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هدا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eukaryotic flagella are extensions of the cytoplasm with a support of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9 + 2 microtubul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79280" y="4724280"/>
            <a:ext cx="8713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- Reproduc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كاثر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Reproduction and life cycles are highly varied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متنوع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ng pro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Some protists are asexual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جنس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3496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4000" y="1099800"/>
            <a:ext cx="84312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F)- Importanc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لأهمي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ny protists are symbio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تطفل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at inhabit the body fluids, tissues, or cells of hos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عائ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rasitic protists are important pathogens of animal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مرضات للحيوا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4920" y="1066680"/>
            <a:ext cx="7993080" cy="61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)- Example of Protis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وضع التقسي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:       Protis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مملكة (عويلم) 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Phylum:         Protozo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شعبة</a:t>
            </a:r>
            <a:r>
              <a:rPr b="0" lang="ar-SA" sz="2000" spc="-1" strike="noStrike">
                <a:solidFill>
                  <a:srgbClr val="f63f1b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شعبة (شعيبة) السوط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xample: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400" spc="-1" strike="noStrike">
                <a:solidFill>
                  <a:srgbClr val="0000ff"/>
                </a:solidFill>
                <a:latin typeface="Constantia"/>
              </a:rPr>
              <a:t>Eugle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يوجلين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 sing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ed mixotrophic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تعدد الغذاء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ist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f light is availab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live as a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547640" y="115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 (e.g.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uglen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2"/>
          <p:cNvGrpSpPr/>
          <p:nvPr/>
        </p:nvGrpSpPr>
        <p:grpSpPr>
          <a:xfrm>
            <a:off x="1717560" y="1285920"/>
            <a:ext cx="7283520" cy="4773600"/>
            <a:chOff x="1717560" y="1285920"/>
            <a:chExt cx="7283520" cy="477360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1717560" y="1285920"/>
              <a:ext cx="728352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1"/>
            <p:cNvSpPr/>
            <p:nvPr/>
          </p:nvSpPr>
          <p:spPr>
            <a:xfrm>
              <a:off x="5551200" y="130716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سو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7780680" y="2279160"/>
              <a:ext cx="111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مستشعر ضوئ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7571880" y="356940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فجوة 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7035840" y="435564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لاستيدة خضرا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6318000" y="562896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حبيبا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3948480" y="389664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4086720" y="43765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غشاء البلاز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3632040" y="50749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أشرطة بروتين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877080" y="119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53496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478400" y="27417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بقعة عي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Euglina.avi" descr=""/>
          <p:cNvPicPr/>
          <p:nvPr/>
        </p:nvPicPr>
        <p:blipFill>
          <a:blip r:embed="rId2"/>
          <a:stretch/>
        </p:blipFill>
        <p:spPr>
          <a:xfrm>
            <a:off x="0" y="4267080"/>
            <a:ext cx="34545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23"/>
          <p:cNvSpPr/>
          <p:nvPr/>
        </p:nvSpPr>
        <p:spPr>
          <a:xfrm>
            <a:off x="108000" y="542880"/>
            <a:ext cx="8915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Protists use flagella (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lagellates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167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1" i="1" lang="en-US" sz="3300" spc="-1" strike="noStrike">
                <a:solidFill>
                  <a:srgbClr val="0000ff"/>
                </a:solidFill>
                <a:latin typeface="Calibri"/>
              </a:rPr>
              <a:t> Trypanosoma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تريبانوسوما</a:t>
            </a:r>
            <a:r>
              <a:rPr b="0" i="1" lang="ar-SA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5840">
              <a:lnSpc>
                <a:spcPct val="7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Trypanosoma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: is symbiotic and include pathogenic parasites.                            causes African sleeping sicknes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Systematic Posi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:       Protis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Phylum:        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t is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athogenic parasi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auses African sleeping sickn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نوم الأفريقي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5" name="Trypanosoma.wmv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3143520" cy="235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219640" y="1204920"/>
            <a:ext cx="3167280" cy="25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" name="Line 5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844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97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. Parasitic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otists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icomplexans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عقدة القم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4000" y="1267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 apicomplexans are parasites of animals and some cause serious human diseas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parasites are tiny infectious cel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صغيرة ممرض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porozoites) with a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complex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of organelles specialized for penetrat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ختراق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ost cells and tissues at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pex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مة</a:t>
            </a:r>
            <a:r>
              <a:rPr b="1" i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of the sporozoite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apicomplexans have life cycles with both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 and often require two or more different host species for comple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lasmod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, the parasite that causes malaria, spends part of its life in mosquitoes and part in huma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400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0:15Z</dcterms:modified>
  <cp:revision>179</cp:revision>
  <dc:subject/>
  <dc:title>Nerve activates contraction</dc:title>
</cp:coreProperties>
</file>