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2BB-74AB-44AE-BD2A-050FA88B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067-DD46-4F44-AD15-85C9D5CE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516-80F3-467E-A581-4E37EFB9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329-3E6E-42A6-B8BC-CA230E10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2F6-8563-42CA-98B6-E4825498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8E1-15AC-475A-9F6B-532EFC41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A11-44A5-42AC-AE2D-D46E1516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4F4-C0A3-4343-988C-541602DC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0AC-75DB-4681-96E9-A8E6D008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D62-4C17-4671-B8BB-9A7D64B1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DF9-D545-45E6-9249-FFC1B6BA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F8F-5748-43A4-8EB1-A59A98F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8D38-6CF7-417F-960F-5351F7C75C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81000"/>
            <a:ext cx="1752480" cy="136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1522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E ST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8280" y="9907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things get into and out of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1709640"/>
            <a:ext cx="5410080" cy="520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ve Transport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نقل النش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52280" y="2362320"/>
            <a:ext cx="8839440" cy="4343400"/>
            <a:chOff x="152280" y="2362320"/>
            <a:chExt cx="8839440" cy="43434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0" t="0" r="0" b="4734"/>
            <a:stretch/>
          </p:blipFill>
          <p:spPr>
            <a:xfrm>
              <a:off x="152280" y="2362320"/>
              <a:ext cx="883944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04920" y="2438280"/>
              <a:ext cx="8534160" cy="426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55B-6F3D-4A1A-856E-B7350FFDA248}" type="slidenum">
              <a:t>1</a:t>
            </a:fld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2280" y="228600"/>
            <a:ext cx="8839440" cy="3809880"/>
            <a:chOff x="152280" y="228600"/>
            <a:chExt cx="8839440" cy="3809880"/>
          </a:xfrm>
        </p:grpSpPr>
        <p:grpSp>
          <p:nvGrpSpPr>
            <p:cNvPr id="129" name=""/>
            <p:cNvGrpSpPr/>
            <p:nvPr/>
          </p:nvGrpSpPr>
          <p:grpSpPr>
            <a:xfrm>
              <a:off x="152280" y="228600"/>
              <a:ext cx="8839080" cy="3809880"/>
              <a:chOff x="152280" y="228600"/>
              <a:chExt cx="8839080" cy="380988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"/>
              <a:srcRect l="0" t="62347" r="7961" b="3680"/>
              <a:stretch/>
            </p:blipFill>
            <p:spPr>
              <a:xfrm>
                <a:off x="152280" y="228600"/>
                <a:ext cx="8839080" cy="38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28240" y="291960"/>
                <a:ext cx="1676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7543800" y="304920"/>
              <a:ext cx="14479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)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ceptor-mediated endocytosis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دخال الخلوى عن طريق المستقبلات المتخص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ive eat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pecific in what substances are being trans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rigger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ستـَح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extracellular substances bind to special recepto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تقبـِلات خاص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n the membrane surface. This triggers the formation of a vesic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ع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enables a cell to take large quantities  of specific materials that may be in low concentrations in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8840" y="6477120"/>
            <a:ext cx="1561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9c, Page 1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376-106F-4500-999E-A8BF25D6A714}" type="slidenum">
              <a:t>10</a:t>
            </a:fld>
          </a:p>
        </p:txBody>
      </p:sp>
    </p:spTree>
  </p:cSld>
  <p:transition spd="med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676520" y="3581280"/>
            <a:ext cx="5790960" cy="636840"/>
            <a:chOff x="1676520" y="3581280"/>
            <a:chExt cx="5790960" cy="636840"/>
          </a:xfrm>
        </p:grpSpPr>
        <p:sp>
          <p:nvSpPr>
            <p:cNvPr id="136" name=""/>
            <p:cNvSpPr/>
            <p:nvPr/>
          </p:nvSpPr>
          <p:spPr>
            <a:xfrm>
              <a:off x="5562720" y="3581280"/>
              <a:ext cx="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3760920"/>
              <a:ext cx="5790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7480" y="376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76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376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914400" y="428004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4218120"/>
            <a:ext cx="144756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in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4218120"/>
            <a:ext cx="2133720" cy="50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ceptor-med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6483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ellular 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4648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ellular dr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5029200"/>
            <a:ext cx="2590560" cy="1341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ing specific receptors (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ated vesicle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) that bind to specific legends and engulf it. It i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47242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lective 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2514600" cy="174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76720" y="4952880"/>
            <a:ext cx="2438280" cy="1694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3429000" y="76320"/>
            <a:ext cx="2819520" cy="3808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ngs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990720"/>
            <a:ext cx="2133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990720"/>
            <a:ext cx="2133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1828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18288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1841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1841400"/>
            <a:ext cx="1524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lecules/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2298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T. prote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279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Membr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2860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T. prote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2279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Membr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205080"/>
            <a:ext cx="1447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3205080"/>
            <a:ext cx="1676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71600" y="2590920"/>
            <a:ext cx="4191120" cy="546120"/>
            <a:chOff x="1371600" y="2590920"/>
            <a:chExt cx="4191120" cy="546120"/>
          </a:xfrm>
        </p:grpSpPr>
        <p:sp>
          <p:nvSpPr>
            <p:cNvPr id="164" name=""/>
            <p:cNvSpPr/>
            <p:nvPr/>
          </p:nvSpPr>
          <p:spPr>
            <a:xfrm>
              <a:off x="3581280" y="259092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71600" y="2908440"/>
              <a:ext cx="419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2908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2908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038480" y="457200"/>
            <a:ext cx="3200400" cy="533520"/>
            <a:chOff x="4038480" y="457200"/>
            <a:chExt cx="3200400" cy="533520"/>
          </a:xfrm>
        </p:grpSpPr>
        <p:sp>
          <p:nvSpPr>
            <p:cNvPr id="169" name=""/>
            <p:cNvSpPr/>
            <p:nvPr/>
          </p:nvSpPr>
          <p:spPr>
            <a:xfrm>
              <a:off x="4724280" y="4572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8480" y="68580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685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38880" y="685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29000" y="1447920"/>
            <a:ext cx="1828800" cy="380880"/>
            <a:chOff x="3429000" y="1447920"/>
            <a:chExt cx="1828800" cy="380880"/>
          </a:xfrm>
        </p:grpSpPr>
        <p:sp>
          <p:nvSpPr>
            <p:cNvPr id="174" name=""/>
            <p:cNvSpPr/>
            <p:nvPr/>
          </p:nvSpPr>
          <p:spPr>
            <a:xfrm>
              <a:off x="4343400" y="1447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6765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16765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16765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705720" y="1447920"/>
            <a:ext cx="1828800" cy="380880"/>
            <a:chOff x="6705720" y="1447920"/>
            <a:chExt cx="1828800" cy="380880"/>
          </a:xfrm>
        </p:grpSpPr>
        <p:sp>
          <p:nvSpPr>
            <p:cNvPr id="179" name=""/>
            <p:cNvSpPr/>
            <p:nvPr/>
          </p:nvSpPr>
          <p:spPr>
            <a:xfrm>
              <a:off x="7620120" y="1447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5720" y="16765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05720" y="16765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34520" y="16765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93B-FF51-4D79-B016-86AEBBB0161C}" type="slidenum">
              <a:t>11</a:t>
            </a:fld>
          </a:p>
        </p:txBody>
      </p:sp>
    </p:spTree>
  </p:cSld>
  <p:transition spd="med"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5715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012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4191120" cy="31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facilitated transport proteins can move solutes against their concentration gradient, from the side where they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ss concentr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side where they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re concentr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ctive transport requires metabolic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tive transport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mpin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ضَ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 solutes against their concentration gradient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إنحدار التركيز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1661" t="0" r="0" b="4958"/>
          <a:stretch/>
        </p:blipFill>
        <p:spPr>
          <a:xfrm>
            <a:off x="4572000" y="1378080"/>
            <a:ext cx="4267080" cy="3260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160" y="6461280"/>
            <a:ext cx="1803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8.14b, Page 14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6483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transport is critical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بالغ الأهم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 cell to maintain its inter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ncentrations of small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transport is performed by specific proteins embedded i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membrane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port 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F49-7C8A-44F2-92E5-A6AB8BA91ED2}" type="slidenum">
              <a:t>2</a:t>
            </a:fld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960" y="837720"/>
            <a:ext cx="43434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odium-potassium pump actively maintains the gradient of sodium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potassium ion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cross the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nimal cell has higher concentrations of 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ower concentrations of 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ide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dium-potassium pump (T. protein) uses the energy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ne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ump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 Na</a:t>
            </a:r>
            <a:r>
              <a:rPr b="1" lang="en-US" sz="1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out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 K</a:t>
            </a:r>
            <a:r>
              <a:rPr b="1" lang="en-US" sz="1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4038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- Small molec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4648320"/>
            <a:ext cx="4572000" cy="1981080"/>
            <a:chOff x="152280" y="4648320"/>
            <a:chExt cx="4572000" cy="1981080"/>
          </a:xfrm>
        </p:grpSpPr>
        <p:sp>
          <p:nvSpPr>
            <p:cNvPr id="59" name=""/>
            <p:cNvSpPr/>
            <p:nvPr/>
          </p:nvSpPr>
          <p:spPr>
            <a:xfrm>
              <a:off x="228600" y="4648320"/>
              <a:ext cx="4495680" cy="1981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52480" y="4724280"/>
              <a:ext cx="2971800" cy="17528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5181480"/>
              <a:ext cx="914400" cy="7621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4997520"/>
              <a:ext cx="129564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High conc.     of</a:t>
              </a: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280" y="579132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igh conc.       of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600" y="5029200"/>
              <a:ext cx="1295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Low conc.     of</a:t>
              </a: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7400" y="571500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w conc.       of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28600" y="4648320"/>
            <a:ext cx="6858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257800"/>
            <a:ext cx="533520" cy="990720"/>
          </a:xfrm>
          <a:prstGeom prst="ellipse">
            <a:avLst/>
          </a:prstGeom>
          <a:solidFill>
            <a:srgbClr val="cc0099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60199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5334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219320" y="4648320"/>
            <a:ext cx="1295280" cy="609480"/>
            <a:chOff x="1219320" y="4648320"/>
            <a:chExt cx="1295280" cy="609480"/>
          </a:xfrm>
        </p:grpSpPr>
        <p:sp>
          <p:nvSpPr>
            <p:cNvPr id="71" name=""/>
            <p:cNvSpPr/>
            <p:nvPr/>
          </p:nvSpPr>
          <p:spPr>
            <a:xfrm>
              <a:off x="1219320" y="46483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. 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4952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800600" y="609480"/>
            <a:ext cx="4267080" cy="54104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895480"/>
            <a:ext cx="38102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81480" y="2895480"/>
            <a:ext cx="1676520" cy="1218960"/>
            <a:chOff x="5181480" y="2895480"/>
            <a:chExt cx="1676520" cy="1218960"/>
          </a:xfrm>
        </p:grpSpPr>
        <p:sp>
          <p:nvSpPr>
            <p:cNvPr id="76" name=""/>
            <p:cNvSpPr/>
            <p:nvPr/>
          </p:nvSpPr>
          <p:spPr>
            <a:xfrm>
              <a:off x="5181480" y="289548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480" y="411444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315200" y="2895480"/>
            <a:ext cx="1676520" cy="1218960"/>
            <a:chOff x="7315200" y="2895480"/>
            <a:chExt cx="1676520" cy="1218960"/>
          </a:xfrm>
        </p:grpSpPr>
        <p:sp>
          <p:nvSpPr>
            <p:cNvPr id="79" name=""/>
            <p:cNvSpPr/>
            <p:nvPr/>
          </p:nvSpPr>
          <p:spPr>
            <a:xfrm>
              <a:off x="7315200" y="289548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15200" y="411444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086240" y="2743200"/>
            <a:ext cx="533160" cy="1447560"/>
            <a:chOff x="7086240" y="2743200"/>
            <a:chExt cx="533160" cy="1447560"/>
          </a:xfrm>
        </p:grpSpPr>
        <p:sp>
          <p:nvSpPr>
            <p:cNvPr id="82" name=""/>
            <p:cNvSpPr/>
            <p:nvPr/>
          </p:nvSpPr>
          <p:spPr>
            <a:xfrm flipH="1">
              <a:off x="7085880" y="2743200"/>
              <a:ext cx="533160" cy="14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800"/>
                </a:gs>
                <a:gs pos="50000">
                  <a:srgbClr val="00ff00"/>
                </a:gs>
                <a:gs pos="100000">
                  <a:srgbClr val="003800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5400000">
              <a:off x="7149600" y="377172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7175160" y="339084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7162200" y="300960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553080" y="2743200"/>
            <a:ext cx="533520" cy="1447560"/>
            <a:chOff x="6553080" y="2743200"/>
            <a:chExt cx="533520" cy="1447560"/>
          </a:xfrm>
        </p:grpSpPr>
        <p:sp>
          <p:nvSpPr>
            <p:cNvPr id="87" name=""/>
            <p:cNvSpPr/>
            <p:nvPr/>
          </p:nvSpPr>
          <p:spPr>
            <a:xfrm>
              <a:off x="6553080" y="2743200"/>
              <a:ext cx="533520" cy="14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800"/>
                </a:gs>
                <a:gs pos="50000">
                  <a:srgbClr val="00ff00"/>
                </a:gs>
                <a:gs pos="100000">
                  <a:srgbClr val="003800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6200000">
              <a:off x="6869520" y="377172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6200000">
              <a:off x="6844320" y="339084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6200000">
              <a:off x="6856560" y="300960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rot="2040600">
            <a:off x="6921000" y="4571640"/>
            <a:ext cx="38124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ellu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1828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rotein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391520" y="2209680"/>
            <a:ext cx="45720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715000" y="3657600"/>
            <a:ext cx="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54752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685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ut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962520"/>
            <a:ext cx="609480" cy="60948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152388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236232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182880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942200">
            <a:off x="7315200" y="152388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22000">
            <a:off x="5714640" y="144792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61722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F8A-EB57-4980-A880-5D70999F825C}" type="slidenum">
              <a:t>3</a:t>
            </a:fld>
          </a:p>
        </p:txBody>
      </p:sp>
    </p:spTree>
  </p:cSld>
  <p:transition spd="med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042E-008 L 0.06666 5.55042E-008 E">
                                      <p:cBhvr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-0.075 2.56244E-006 E">
                                      <p:cBhvr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1.11111E-006 L -0.00139 -0.16667 E">
                                      <p:cBhvr>
                                        <p:cTn id="9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16667 L -0.01111 -0.4 E">
                                      <p:cBhvr>
                                        <p:cTn id="10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260280"/>
            <a:ext cx="9144000" cy="5910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5, Page 1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166-AAA8-4603-BABA-5434E50ADA61}" type="slidenum">
              <a:t>4</a:t>
            </a:fld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4539"/>
          <a:stretch/>
        </p:blipFill>
        <p:spPr>
          <a:xfrm>
            <a:off x="76320" y="11160"/>
            <a:ext cx="9067680" cy="5627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5867280"/>
            <a:ext cx="8153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8.16, Page 150  Both diffusion and facilitated diffusion are forms of passive transport of molecules </a:t>
            </a:r>
            <a:r>
              <a:rPr b="1" lang="en-US" sz="1500" spc="-1" strike="noStrike">
                <a:solidFill>
                  <a:srgbClr val="0000ff"/>
                </a:solidFill>
                <a:latin typeface="Times New Roman"/>
              </a:rPr>
              <a:t>down their concentration gradie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, while active transport requires an investment of energy to move molecules </a:t>
            </a:r>
            <a:r>
              <a:rPr b="1" lang="en-US" sz="1500" spc="-1" strike="noStrike">
                <a:solidFill>
                  <a:srgbClr val="0000ff"/>
                </a:solidFill>
                <a:latin typeface="Times New Roman"/>
              </a:rPr>
              <a:t>against their concentration gradie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0481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 roles of membran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A0E-85A8-481A-9289-5CF1B90BC3E2}" type="slidenum">
              <a:t>5</a:t>
            </a:fld>
          </a:p>
        </p:txBody>
      </p:sp>
    </p:spTree>
  </p:cSld>
  <p:transition spd="med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maintain a voltage across their plasma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ytoplasm of a cell is neg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charge compared to the extracellular fluid because of an unequal distribution of cations and anions on opposite sides of the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oltage,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mbrane potenti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هد الغش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ranges from -50 to -200 millivo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mbrane potential acts like a ba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mbrane potential favors the passive transport of cations into the cell and anions out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combined forces, collectively called the electrochemical gradien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حدار الكهروكيمي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rive the diffusion of ions across a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s diffuse not simply down its concentration gradient, but diffuses down its electrochemical grad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me ion-pumps generate voltag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ُهد كهربائ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ross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18E-48CB-4168-AAA3-85F38BE754D9}" type="slidenum">
              <a:t>6</a:t>
            </a:fld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8915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molecules and water enter or leave the cell through the lipid bilayer or by transport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molecules, such a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sacchar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ross the membrane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أوع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ocyt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خراج الخلو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ransport vesicle budded fro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شأ م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lgi apparatus is moved by the cytoskeleton to the plasma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two membranes come in conta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ام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bilayers fu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دم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pil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فر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ents to the out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ndocy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دخال الخلو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ell brings in macromolecules and particulate matter by forming new vesicles from the plasma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 molecules are transported by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xocyto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76320"/>
            <a:ext cx="5562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- Large molecule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59436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0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0" y="20200"/>
                </a:lnTo>
                <a:lnTo>
                  <a:pt x="33690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0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0" h="21600">
                <a:moveTo>
                  <a:pt x="10539" y="3794"/>
                </a:moveTo>
                <a:lnTo>
                  <a:pt x="24552" y="10800"/>
                </a:lnTo>
                <a:lnTo>
                  <a:pt x="10539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6A7-1B57-4E06-885F-5782C0DDD113}" type="slidenum">
              <a:t>7</a:t>
            </a:fld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7829" b="66004"/>
          <a:stretch/>
        </p:blipFill>
        <p:spPr>
          <a:xfrm>
            <a:off x="152280" y="3503520"/>
            <a:ext cx="8839440" cy="312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00800" y="63244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8440" y="6400800"/>
            <a:ext cx="15706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9a, Page 1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16320" y="152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)- Phagocyt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ellular ea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 The cell engulf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َبْلَ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icle by extending pseudopodia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قدام كاذ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it and packaging 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غلف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large vacu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ents of the vacuole are digested when the vacuole fuses with a lys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CBC-CD4C-4E14-BB23-95A236534FF6}" type="slidenum">
              <a:t>8</a:t>
            </a:fld>
          </a:p>
        </p:txBody>
      </p:sp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376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)- Pinocytosi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رب الخلو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drinking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ell creates a vesicle around dro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ا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xtracellular flui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سائل الموجود خارج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non-specific proces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ملية غير متخصص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32003" r="26037" b="34001"/>
          <a:stretch/>
        </p:blipFill>
        <p:spPr>
          <a:xfrm>
            <a:off x="533520" y="3767040"/>
            <a:ext cx="6781680" cy="298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710400" y="6567480"/>
            <a:ext cx="157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9b, Page 1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87692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BFC-B26F-467D-B8D3-32077D94F8FE}" type="slidenum">
              <a:t>9</a:t>
            </a:fld>
          </a:p>
        </p:txBody>
      </p:sp>
    </p:spTree>
  </p:cSld>
  <p:transition spd="med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012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8:22:17Z</dcterms:created>
  <dc:creator>User</dc:creator>
  <dc:description/>
  <dc:language>en-US</dc:language>
  <cp:lastModifiedBy>Saad</cp:lastModifiedBy>
  <dcterms:modified xsi:type="dcterms:W3CDTF">2007-10-06T20:09:15Z</dcterms:modified>
  <cp:revision>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