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CB59-CDDC-459B-9EDA-819E944A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C3B0-CFDA-4379-80F3-46E8B922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900-BD26-48E2-860C-D239F249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39F-B135-41F6-8164-71848A11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FCB-7C85-4FCC-B536-8996AB6F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CD38-464F-4982-940A-59A38FE4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D61-F002-4701-841F-45397826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C9C-977E-4528-BE40-B8D583B1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62B-6C48-47AF-921B-415F53B5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C46-3150-4894-86E0-AF2BD280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A4A-5F4C-45B3-A4E5-A0E8FB41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90B-5172-45AC-9511-DC46D849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F7F8-ED7E-41D6-A8A7-96BA410911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320" y="81000"/>
            <a:ext cx="1752480" cy="1366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15228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TER 8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E STUCTURE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438280" y="9907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w things get into and out of the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1709640"/>
            <a:ext cx="5410080" cy="5205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ve Transport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نقل النش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52280" y="2362320"/>
            <a:ext cx="8839440" cy="4343400"/>
            <a:chOff x="152280" y="2362320"/>
            <a:chExt cx="8839440" cy="43434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rcRect l="0" t="0" r="0" b="4734"/>
            <a:stretch/>
          </p:blipFill>
          <p:spPr>
            <a:xfrm>
              <a:off x="152280" y="2362320"/>
              <a:ext cx="883944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04920" y="2438280"/>
              <a:ext cx="8534160" cy="426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F17-8007-4041-86D2-3B07C7D6E2AD}" type="slidenum">
              <a:t>1</a:t>
            </a:fld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52280" y="228600"/>
            <a:ext cx="8839440" cy="3809880"/>
            <a:chOff x="152280" y="228600"/>
            <a:chExt cx="8839440" cy="3809880"/>
          </a:xfrm>
        </p:grpSpPr>
        <p:grpSp>
          <p:nvGrpSpPr>
            <p:cNvPr id="129" name=""/>
            <p:cNvGrpSpPr/>
            <p:nvPr/>
          </p:nvGrpSpPr>
          <p:grpSpPr>
            <a:xfrm>
              <a:off x="152280" y="228600"/>
              <a:ext cx="8839080" cy="3809880"/>
              <a:chOff x="152280" y="228600"/>
              <a:chExt cx="8839080" cy="380988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"/>
              <a:srcRect l="0" t="62347" r="7961" b="3680"/>
              <a:stretch/>
            </p:blipFill>
            <p:spPr>
              <a:xfrm>
                <a:off x="152280" y="228600"/>
                <a:ext cx="8839080" cy="38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28240" y="291960"/>
                <a:ext cx="1676520" cy="304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7543800" y="304920"/>
              <a:ext cx="14479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)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ceptor-mediated endocytosis: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إدخال الخلوى عن طريق المستقبلات المتخص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cal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ive eat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y specific in what substances are being trans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riggere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ستـَح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extracellular substances bind to special receptor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مُستقبـِلات خاص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on the membrane surface. This triggers the formation of a vesicl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وعاء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enables a cell to take large quantities  of specific materials that may be in low concentrations in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8840" y="6477120"/>
            <a:ext cx="1561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9c, Page 1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6EEF-493B-40B3-AD36-ABAD239986DA}" type="slidenum">
              <a:t>10</a:t>
            </a:fld>
          </a:p>
        </p:txBody>
      </p:sp>
    </p:spTree>
  </p:cSld>
  <p:transition spd="med">
    <p:newsflash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676520" y="3581280"/>
            <a:ext cx="5790960" cy="636840"/>
            <a:chOff x="1676520" y="3581280"/>
            <a:chExt cx="5790960" cy="636840"/>
          </a:xfrm>
        </p:grpSpPr>
        <p:sp>
          <p:nvSpPr>
            <p:cNvPr id="136" name=""/>
            <p:cNvSpPr/>
            <p:nvPr/>
          </p:nvSpPr>
          <p:spPr>
            <a:xfrm>
              <a:off x="5562720" y="3581280"/>
              <a:ext cx="0" cy="1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3760920"/>
              <a:ext cx="5790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7480" y="376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9720" y="376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76520" y="376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914400" y="4280040"/>
            <a:ext cx="152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g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4218120"/>
            <a:ext cx="144756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in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4218120"/>
            <a:ext cx="2133720" cy="50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ceptor-med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64832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ellular 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46483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ellular drin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5029200"/>
            <a:ext cx="2590560" cy="1341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sing specific receptors (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oated vesicles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) that bind to specific legends and engulf it. It i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47242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lective e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2514600" cy="17463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276720" y="4952880"/>
            <a:ext cx="2438280" cy="16941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3429000" y="76320"/>
            <a:ext cx="2819520" cy="3808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ings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990720"/>
            <a:ext cx="2133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990720"/>
            <a:ext cx="213372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72400" y="1828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18288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ilit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1841400"/>
            <a:ext cx="1219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1841400"/>
            <a:ext cx="15242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lecules/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22986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T. prote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279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Membr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2860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T. prote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2279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(Membra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205080"/>
            <a:ext cx="1447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3205080"/>
            <a:ext cx="1676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71600" y="2590920"/>
            <a:ext cx="4191120" cy="546120"/>
            <a:chOff x="1371600" y="2590920"/>
            <a:chExt cx="4191120" cy="546120"/>
          </a:xfrm>
        </p:grpSpPr>
        <p:sp>
          <p:nvSpPr>
            <p:cNvPr id="164" name=""/>
            <p:cNvSpPr/>
            <p:nvPr/>
          </p:nvSpPr>
          <p:spPr>
            <a:xfrm>
              <a:off x="3581280" y="2590920"/>
              <a:ext cx="0" cy="33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71600" y="2908440"/>
              <a:ext cx="419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2908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29084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038480" y="457200"/>
            <a:ext cx="3200400" cy="533520"/>
            <a:chOff x="4038480" y="457200"/>
            <a:chExt cx="3200400" cy="533520"/>
          </a:xfrm>
        </p:grpSpPr>
        <p:sp>
          <p:nvSpPr>
            <p:cNvPr id="169" name=""/>
            <p:cNvSpPr/>
            <p:nvPr/>
          </p:nvSpPr>
          <p:spPr>
            <a:xfrm>
              <a:off x="4724280" y="4572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38480" y="685800"/>
              <a:ext cx="32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685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38880" y="6858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29000" y="1447920"/>
            <a:ext cx="1828800" cy="380880"/>
            <a:chOff x="3429000" y="1447920"/>
            <a:chExt cx="1828800" cy="380880"/>
          </a:xfrm>
        </p:grpSpPr>
        <p:sp>
          <p:nvSpPr>
            <p:cNvPr id="174" name=""/>
            <p:cNvSpPr/>
            <p:nvPr/>
          </p:nvSpPr>
          <p:spPr>
            <a:xfrm>
              <a:off x="4343400" y="1447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29000" y="16765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16765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16765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705720" y="1447920"/>
            <a:ext cx="1828800" cy="380880"/>
            <a:chOff x="6705720" y="1447920"/>
            <a:chExt cx="1828800" cy="380880"/>
          </a:xfrm>
        </p:grpSpPr>
        <p:sp>
          <p:nvSpPr>
            <p:cNvPr id="179" name=""/>
            <p:cNvSpPr/>
            <p:nvPr/>
          </p:nvSpPr>
          <p:spPr>
            <a:xfrm>
              <a:off x="7620120" y="14479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5720" y="1676520"/>
              <a:ext cx="1828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05720" y="16765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34520" y="16765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F06-D63D-4BAE-932F-70538601030A}" type="slidenum">
              <a:t>11</a:t>
            </a:fld>
          </a:p>
        </p:txBody>
      </p:sp>
    </p:spTree>
  </p:cSld>
  <p:transition spd="med">
    <p:newsflash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15715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1012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4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295280"/>
            <a:ext cx="4191120" cy="31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facilitated transport proteins can move solutes against their concentration gradient, from the side where they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ss concentr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side where they 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re concentr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ctive transport requires metabolic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erg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a AT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tive transport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mping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ضَخ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 solutes against their concentration gradients </a:t>
            </a:r>
            <a:r>
              <a:rPr b="0" lang="ar-EG" sz="2400" spc="-1" strike="noStrike">
                <a:solidFill>
                  <a:srgbClr val="000000"/>
                </a:solidFill>
                <a:latin typeface="Arial"/>
              </a:rPr>
              <a:t>الإنحدار التركيز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1661" t="0" r="0" b="4958"/>
          <a:stretch/>
        </p:blipFill>
        <p:spPr>
          <a:xfrm>
            <a:off x="4572000" y="1378080"/>
            <a:ext cx="4267080" cy="3260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160" y="6461280"/>
            <a:ext cx="1803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8.14b, Page 14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4648320"/>
            <a:ext cx="8381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transport is critical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بالغ الأهم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 cell to maintain its intern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ncentrations of small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e transport is performed by specific proteins embedded i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the membrane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nsport prote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4B6-75E9-4679-99D4-2B303D6DB635}" type="slidenum">
              <a:t>2</a:t>
            </a:fld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5960" y="837720"/>
            <a:ext cx="43434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odium-potassium pump actively maintains the gradient of sodium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nd potassium ions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cross the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nimal cell has higher concentrations of K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lower concentrations of N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side the c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dium-potassium pump (T. protein) uses the energy of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ne AT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pump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 Na</a:t>
            </a:r>
            <a:r>
              <a:rPr b="1" lang="en-US" sz="1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out an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 K</a:t>
            </a:r>
            <a:r>
              <a:rPr b="1" lang="en-US" sz="1800" spc="-1" strike="noStrike" u="sng" baseline="30000">
                <a:solidFill>
                  <a:srgbClr val="ff0000"/>
                </a:solidFill>
                <a:uFillTx/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ons 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4038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)- Small molecu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4648320"/>
            <a:ext cx="4572000" cy="1981080"/>
            <a:chOff x="152280" y="4648320"/>
            <a:chExt cx="4572000" cy="1981080"/>
          </a:xfrm>
        </p:grpSpPr>
        <p:sp>
          <p:nvSpPr>
            <p:cNvPr id="59" name=""/>
            <p:cNvSpPr/>
            <p:nvPr/>
          </p:nvSpPr>
          <p:spPr>
            <a:xfrm>
              <a:off x="228600" y="4648320"/>
              <a:ext cx="4495680" cy="19810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52480" y="4724280"/>
              <a:ext cx="2971800" cy="17528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5181480"/>
              <a:ext cx="914400" cy="7621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4997520"/>
              <a:ext cx="129564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High conc.     of</a:t>
              </a: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280" y="579132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igh conc.       of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600" y="5029200"/>
              <a:ext cx="1295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Low conc.     of</a:t>
              </a: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Tahoma"/>
                </a:rPr>
                <a:t>K</a:t>
              </a:r>
              <a:r>
                <a:rPr b="1" lang="en-US" sz="2800" spc="-1" strike="noStrike" baseline="30000">
                  <a:solidFill>
                    <a:srgbClr val="ff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7400" y="5715000"/>
              <a:ext cx="144792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w conc.       of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28600" y="4648320"/>
            <a:ext cx="68580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257800"/>
            <a:ext cx="533520" cy="990720"/>
          </a:xfrm>
          <a:prstGeom prst="ellipse">
            <a:avLst/>
          </a:prstGeom>
          <a:solidFill>
            <a:srgbClr val="cc0099">
              <a:alpha val="9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60199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53341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219320" y="4648320"/>
            <a:ext cx="1295280" cy="609480"/>
            <a:chOff x="1219320" y="4648320"/>
            <a:chExt cx="1295280" cy="609480"/>
          </a:xfrm>
        </p:grpSpPr>
        <p:sp>
          <p:nvSpPr>
            <p:cNvPr id="71" name=""/>
            <p:cNvSpPr/>
            <p:nvPr/>
          </p:nvSpPr>
          <p:spPr>
            <a:xfrm>
              <a:off x="1219320" y="46483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. prote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4952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800600" y="609480"/>
            <a:ext cx="4267080" cy="54104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2895480"/>
            <a:ext cx="381024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81480" y="2895480"/>
            <a:ext cx="1676520" cy="1218960"/>
            <a:chOff x="5181480" y="2895480"/>
            <a:chExt cx="1676520" cy="1218960"/>
          </a:xfrm>
        </p:grpSpPr>
        <p:sp>
          <p:nvSpPr>
            <p:cNvPr id="76" name=""/>
            <p:cNvSpPr/>
            <p:nvPr/>
          </p:nvSpPr>
          <p:spPr>
            <a:xfrm>
              <a:off x="5181480" y="289548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480" y="411444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315200" y="2895480"/>
            <a:ext cx="1676520" cy="1218960"/>
            <a:chOff x="7315200" y="2895480"/>
            <a:chExt cx="1676520" cy="1218960"/>
          </a:xfrm>
        </p:grpSpPr>
        <p:sp>
          <p:nvSpPr>
            <p:cNvPr id="79" name=""/>
            <p:cNvSpPr/>
            <p:nvPr/>
          </p:nvSpPr>
          <p:spPr>
            <a:xfrm>
              <a:off x="7315200" y="289548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15200" y="4114440"/>
              <a:ext cx="16765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086240" y="2743200"/>
            <a:ext cx="533160" cy="1447560"/>
            <a:chOff x="7086240" y="2743200"/>
            <a:chExt cx="533160" cy="1447560"/>
          </a:xfrm>
        </p:grpSpPr>
        <p:sp>
          <p:nvSpPr>
            <p:cNvPr id="82" name=""/>
            <p:cNvSpPr/>
            <p:nvPr/>
          </p:nvSpPr>
          <p:spPr>
            <a:xfrm flipH="1">
              <a:off x="7085880" y="2743200"/>
              <a:ext cx="533160" cy="14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800"/>
                </a:gs>
                <a:gs pos="50000">
                  <a:srgbClr val="00ff00"/>
                </a:gs>
                <a:gs pos="100000">
                  <a:srgbClr val="003800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5400000">
              <a:off x="7149600" y="377172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7175160" y="339084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400000">
              <a:off x="7162200" y="300960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6553080" y="2743200"/>
            <a:ext cx="533520" cy="1447560"/>
            <a:chOff x="6553080" y="2743200"/>
            <a:chExt cx="533520" cy="1447560"/>
          </a:xfrm>
        </p:grpSpPr>
        <p:sp>
          <p:nvSpPr>
            <p:cNvPr id="87" name=""/>
            <p:cNvSpPr/>
            <p:nvPr/>
          </p:nvSpPr>
          <p:spPr>
            <a:xfrm>
              <a:off x="6553080" y="2743200"/>
              <a:ext cx="533520" cy="14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800"/>
                </a:gs>
                <a:gs pos="50000">
                  <a:srgbClr val="00ff00"/>
                </a:gs>
                <a:gs pos="100000">
                  <a:srgbClr val="003800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6200000">
              <a:off x="6869520" y="377172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6200000">
              <a:off x="6844320" y="3390840"/>
              <a:ext cx="15228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6200000">
              <a:off x="6856560" y="3009600"/>
              <a:ext cx="152640" cy="2286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rot="2040600">
            <a:off x="6921000" y="4571640"/>
            <a:ext cx="38124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Cellu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18288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rotein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7391520" y="2209680"/>
            <a:ext cx="457200" cy="9907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715000" y="3657600"/>
            <a:ext cx="0" cy="838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54752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n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38680" y="685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Outside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962520"/>
            <a:ext cx="609480" cy="609480"/>
          </a:xfrm>
          <a:custGeom>
            <a:avLst/>
            <a:gdLst>
              <a:gd name="textAreaLeft" fmla="*/ 138960 w 609480"/>
              <a:gd name="textAreaRight" fmla="*/ 470520 w 60948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152388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220968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236232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182880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9942200">
            <a:off x="7315200" y="1523880"/>
            <a:ext cx="380880" cy="30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722000">
            <a:off x="5714640" y="1447920"/>
            <a:ext cx="380880" cy="304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61722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A09-858C-4E1E-B0F7-ABA52C9BBC31}" type="slidenum">
              <a:t>3</a:t>
            </a:fld>
          </a:p>
        </p:txBody>
      </p:sp>
    </p:spTree>
  </p:cSld>
  <p:transition spd="med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042E-008 L 0.06666 5.55042E-008 E">
                                      <p:cBhvr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-0.075 2.56244E-006 E">
                                      <p:cBhvr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8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8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1.11111E-006 L -0.00139 -0.16667 E">
                                      <p:cBhvr>
                                        <p:cTn id="9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10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16667 L -0.01111 -0.4 E">
                                      <p:cBhvr>
                                        <p:cTn id="105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0" b="4415"/>
          <a:stretch/>
        </p:blipFill>
        <p:spPr>
          <a:xfrm>
            <a:off x="0" y="260280"/>
            <a:ext cx="9144000" cy="5910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320" y="6561000"/>
            <a:ext cx="1488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5, Page 1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5F7-45BA-4F81-9D6A-9BD6CA801DFC}" type="slidenum">
              <a:t>4</a:t>
            </a:fld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0" r="0" b="4539"/>
          <a:stretch/>
        </p:blipFill>
        <p:spPr>
          <a:xfrm>
            <a:off x="76320" y="11160"/>
            <a:ext cx="9067680" cy="5627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5867280"/>
            <a:ext cx="8153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8.16, Page 150  Both diffusion and facilitated diffusion are forms of passive transport of molecules </a:t>
            </a:r>
            <a:r>
              <a:rPr b="1" lang="en-US" sz="1500" spc="-1" strike="noStrike">
                <a:solidFill>
                  <a:srgbClr val="0000ff"/>
                </a:solidFill>
                <a:latin typeface="Times New Roman"/>
              </a:rPr>
              <a:t>down their concentration gradie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, while active transport requires an investment of energy to move molecules </a:t>
            </a:r>
            <a:r>
              <a:rPr b="1" lang="en-US" sz="1500" spc="-1" strike="noStrike">
                <a:solidFill>
                  <a:srgbClr val="0000ff"/>
                </a:solidFill>
                <a:latin typeface="Times New Roman"/>
              </a:rPr>
              <a:t>against their concentration gradient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0481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 roles of membran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0DE-4824-41E8-9010-AB66DF1ED22B}" type="slidenum">
              <a:t>5</a:t>
            </a:fld>
          </a:p>
        </p:txBody>
      </p:sp>
    </p:spTree>
  </p:cSld>
  <p:transition spd="med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ells maintain a voltage across their plasma membra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ytoplasm of a cell is negat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charge compared to the extracellular fluid because of an unequal distribution of cations and anions on opposite sides of the membr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oltage,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embrane potentia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جهد الغشائى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ranges from -50 to -200 millivo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mbrane potential acts like a batt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mbrane potential favors the passive transport of cations into the cell and anions out of the c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combined forces, collectively called the electrochemical gradien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نحدار الكهروكيميائ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rive the diffusion of ions across a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s diffuse not simply down its concentration gradient, but diffuses down its electrochemical grad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ome ion-pumps generate voltag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جُهد كهربائى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ross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38D-9FB7-486A-B442-5E5F41D24635}" type="slidenum">
              <a:t>6</a:t>
            </a:fld>
          </a:p>
        </p:txBody>
      </p:sp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8915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molecules and water enter or leave the cell through the lipid bilayer or by transport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molecules, such a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sacchari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ote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ross the membrane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ic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أوعي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ocyt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خراج الخلو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transport vesicle budded from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شأ م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olgi apparatus is moved by the cytoskeleton to the plasma membr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the two membranes come in contact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لام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bilayers fuse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ندم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pill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يُفر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ents to the out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ndocyt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إدخال الخلو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ell brings in macromolecules and particulate matter by forming new vesicles from the plasma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3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arge molecules are transported by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xocytosis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76320"/>
            <a:ext cx="5562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)- Large molecule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romolecul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0120" y="59436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0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0" y="20200"/>
                </a:lnTo>
                <a:lnTo>
                  <a:pt x="33690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0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90" h="21600">
                <a:moveTo>
                  <a:pt x="10539" y="3794"/>
                </a:moveTo>
                <a:lnTo>
                  <a:pt x="24552" y="10800"/>
                </a:lnTo>
                <a:lnTo>
                  <a:pt x="10539" y="17806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584-22A9-40E1-81A2-9FBFCA263206}" type="slidenum">
              <a:t>7</a:t>
            </a:fld>
          </a:p>
        </p:txBody>
      </p:sp>
    </p:spTree>
  </p:cSld>
  <p:transition spd="med">
    <p:newsflash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7829" b="66004"/>
          <a:stretch/>
        </p:blipFill>
        <p:spPr>
          <a:xfrm>
            <a:off x="152280" y="3503520"/>
            <a:ext cx="8839440" cy="312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400800" y="63244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8440" y="6400800"/>
            <a:ext cx="157068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9a, Page 1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16320" y="1522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4114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)- Phagocytos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ed “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ellular ea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 The cell engulf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َبْلَ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icle by extending pseudopodia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أقدام كاذب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ound it and packaging it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ـُغلفه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a large vacu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ents of the vacuole are digested when the vacuole fuses with a lys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4404-0470-4A92-A739-C76CB10FF8BC}" type="slidenum">
              <a:t>8</a:t>
            </a:fld>
          </a:p>
        </p:txBody>
      </p:sp>
    </p:spTree>
  </p:cSld>
  <p:transition spd="med">
    <p:newsflash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1376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3733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)- Pinocytosi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شرب الخلو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drinking”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ell creates a vesicle around droplet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نقا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xtracellular fluid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السائل الموجود خارج الخلي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non-specific process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عملية غير متخصص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32003" r="26037" b="34001"/>
          <a:stretch/>
        </p:blipFill>
        <p:spPr>
          <a:xfrm>
            <a:off x="533520" y="3767040"/>
            <a:ext cx="6781680" cy="2987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710400" y="6567480"/>
            <a:ext cx="1579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g. 8.19b, Page 1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14800" y="228600"/>
            <a:ext cx="4876920" cy="33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51A-E55A-4DE7-8FFA-195F06521AF2}" type="slidenum">
              <a:t>9</a:t>
            </a:fld>
          </a:p>
        </p:txBody>
      </p:sp>
    </p:spTree>
  </p:cSld>
  <p:transition spd="med">
    <p:newsflash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0125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8:22:17Z</dcterms:created>
  <dc:creator>User</dc:creator>
  <dc:description/>
  <dc:language>en-US</dc:language>
  <cp:lastModifiedBy>Saad</cp:lastModifiedBy>
  <dcterms:modified xsi:type="dcterms:W3CDTF">2007-10-06T20:09:15Z</dcterms:modified>
  <cp:revision>6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