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12D1-BBA8-4B5D-86A7-0BD9E3BE5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7143-82F6-47EE-9CC3-745020E5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2DF4-DA59-4923-82FB-E56320CB7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ABB1-9C71-4288-926D-966DF678C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2060-29F1-48D1-8F69-4A81998E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D0E7-C9FA-4A4C-A7D9-3FEE2E3F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B77A-2E0E-4403-8AE0-D9688800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0A58-A0FB-4560-93AC-C672F1A7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9A72-68BD-4518-89DF-6043D781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25D4-031F-421E-AE25-9C3F94FE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41DD-E94A-4B26-BCC0-2F02589D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3CB2-7203-48F5-820A-F64828C3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340F-3A56-485F-B1E2-E2B28E44427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umanasinc.com/webcontent/animations/content/cellularrespiration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DEE5-C3FE-4774-BDFE-660F3E69DCE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40400" y="1225080"/>
            <a:ext cx="7783920" cy="5023080"/>
            <a:chOff x="140400" y="1225080"/>
            <a:chExt cx="7783920" cy="5023080"/>
          </a:xfrm>
        </p:grpSpPr>
        <p:pic>
          <p:nvPicPr>
            <p:cNvPr id="43" name="Picture 4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6680" y="1606680"/>
              <a:ext cx="7127640" cy="46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5"/>
            <p:cNvSpPr/>
            <p:nvPr/>
          </p:nvSpPr>
          <p:spPr>
            <a:xfrm rot="18849000">
              <a:off x="511200" y="1774080"/>
              <a:ext cx="2396520" cy="20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2534760" y="2023200"/>
              <a:ext cx="2106720" cy="44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"/>
          <p:cNvSpPr/>
          <p:nvPr/>
        </p:nvSpPr>
        <p:spPr>
          <a:xfrm>
            <a:off x="2286000" y="36504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838080" y="2286000"/>
            <a:ext cx="7696440" cy="4114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600200"/>
            <a:ext cx="6248520" cy="609480"/>
          </a:xfrm>
          <a:prstGeom prst="rect">
            <a:avLst/>
          </a:prstGeom>
          <a:solidFill>
            <a:srgbClr val="0000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xidative Phosphorylation and the Electron Transport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43068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manasinc.com/webcontent/animations/content/cellularrespiratio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rcRect l="18590" t="8065" r="4048" b="0"/>
          <a:stretch/>
        </p:blipFill>
        <p:spPr>
          <a:xfrm>
            <a:off x="22320" y="42840"/>
            <a:ext cx="1349280" cy="1481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"/>
          <p:cNvPicPr/>
          <p:nvPr/>
        </p:nvPicPr>
        <p:blipFill>
          <a:blip r:embed="rId1"/>
          <a:srcRect l="0" t="0" r="0" b="4567"/>
          <a:stretch/>
        </p:blipFill>
        <p:spPr>
          <a:xfrm>
            <a:off x="227160" y="1488960"/>
            <a:ext cx="8764560" cy="5216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2133720" y="3049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ummary of cell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98FC-A6C6-4ED1-92FE-E1A308F4C00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2895480" y="1522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Definitions</a:t>
            </a:r>
            <a:r>
              <a:rPr b="1" lang="en-GB" sz="3200" spc="-1" strike="noStrike" u="sng">
                <a:solidFill>
                  <a:srgbClr val="0000cc"/>
                </a:solidFill>
                <a:uFillTx/>
                <a:latin typeface="Arial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عريف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228600" y="1508040"/>
            <a:ext cx="8686800" cy="17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hemiosmosis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 proces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xidative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kes place at the end of the Electron Transport Chain to produce 90% of ATP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TP-syntha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, is the process in which ATP synthesis powered by the flow of H+ back across ATP synthase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28600" y="34290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TP-synthase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 enzyme presents in the inner mitochondrial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membrane and used in making ATP by using H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+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52280" y="44956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NAD</a:t>
            </a:r>
            <a:r>
              <a:rPr b="1" lang="en-GB" sz="2800" spc="-1" strike="noStrike" u="sng" baseline="30000">
                <a:solidFill>
                  <a:srgbClr val="ff0000"/>
                </a:solidFill>
                <a:uFillTx/>
                <a:latin typeface="Arial"/>
              </a:rPr>
              <a:t>+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cotinamid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ucleotide, which is a co-enzyme tha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helps electron transfer during redox reactions in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228600" y="5486400"/>
            <a:ext cx="8839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FAD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vin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ucleotide, which is an electron acceptor tha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helps electron transfer during Krebs Cycle and Electron Transport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Chai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51920" y="1366920"/>
            <a:ext cx="8915400" cy="565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xidation refers to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oss of electr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any electron acceptor, not just to oxy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glycolysis, glucose is oxidized to 2 pyruvate molecules with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the oxidizing agent (not 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energy from this oxidation produce 2 A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oxygen is present, additional ATP can be generated when NADH delivers its electrons to the electron transport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ycolysis generates 2 ATP when oxygen is absent (anaerob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لاهوا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erobic catabolism of sugars can occur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n generate ATP from glucose by substrate-level phosphorylation as long as there is a supply of NA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xidizing ag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accept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ool is exhaust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سـتـُنفـِ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glycolysis shuts d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er aerobic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هوائ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itions, NADH transfers its electrons to the electron transfer chain, recycling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 anaerobic conditions, various fermentation pathways generate ATP by glycolysis and recycle NA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ransferring electrons from NADH to pyruv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Fermentation: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nabl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مَكِن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ome cells to produce ATP without the help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2B59-2E2C-4E69-B190-3EA802D70E3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943600" y="1231920"/>
            <a:ext cx="3200400" cy="2654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"/>
          <p:cNvPicPr/>
          <p:nvPr/>
        </p:nvPicPr>
        <p:blipFill>
          <a:blip r:embed="rId2"/>
          <a:srcRect l="0" t="0" r="0" b="3357"/>
          <a:stretch/>
        </p:blipFill>
        <p:spPr>
          <a:xfrm>
            <a:off x="5975280" y="3962520"/>
            <a:ext cx="3168720" cy="26208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8610480" cy="23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lcohol ferment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tha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wo ste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 the removal of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reduced by NADH                                             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ha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cohol fermentation by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yea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i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ema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76320" y="3230640"/>
            <a:ext cx="5943600" cy="36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ctic acid ferment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 reduced directly by NADH to form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lact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ionized form of lactic acid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ctic acid fermentation by som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fung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bacter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used to mak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cheese and yogu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cle cells switch from aerobic respiration                                            to lactic acid fermentation to generate ATP                                              when 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scarc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ناد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waste product, lactate, may caus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cle fatigue, but ultimately it i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verted back to pyruvate in the li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s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aerobic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respiratio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- During exercise our bodies require a lot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ody can only supply a limited amount of oxygen for cellular respi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is not produced at the rate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s will use anaerobic respiration to release extra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duces lactic acid (a waste produ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- We use yeast to make b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duced causes bread to rise by creating air po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thanol (alcohol) produced evaporated during b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ummary of anaerobic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Without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yruvate remains in the cytoplasm (no link reaction, no Krebs cyc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yruvate is converted into waste and removed from the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ATP is produced (except from glycolys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s the waste=lactate (lactic aci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yeast the waste=ethanol and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 the pyruvate is converted into waste, the cells can go through glycolysis ag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pyruvate was not converted into waste the cells would not go through glyco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Glycolysis produces pyruvate.  If it is already present there is no reason to make more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Fat and Protein Break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have more energy per gram than carbohydrates or proteins (~2x as mu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fatty acid chains are oxidized and broken into smaller 2 carbon ch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the 2 carbon chains are converted into acetyl CoA to enter the Kreb’s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must be converted into individual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excess amino acids are converted by enzymes into intermediated of glycolysis and Krebs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mino acids go through deamination (amino groups are remov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nitrogenous wastes from the amino groups are released as wa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new compounds enter glycolysis or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FC26-FFBC-4350-A00C-6C081D4CFE9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16"/>
          <p:cNvGrpSpPr/>
          <p:nvPr/>
        </p:nvGrpSpPr>
        <p:grpSpPr>
          <a:xfrm>
            <a:off x="152280" y="2509920"/>
            <a:ext cx="4191120" cy="4119480"/>
            <a:chOff x="152280" y="2509920"/>
            <a:chExt cx="4191120" cy="4119480"/>
          </a:xfrm>
        </p:grpSpPr>
        <p:pic>
          <p:nvPicPr>
            <p:cNvPr id="138" name="Picture 4" descr=""/>
            <p:cNvPicPr/>
            <p:nvPr/>
          </p:nvPicPr>
          <p:blipFill>
            <a:blip r:embed="rId1"/>
            <a:srcRect l="0" t="0" r="0" b="4466"/>
            <a:stretch/>
          </p:blipFill>
          <p:spPr>
            <a:xfrm>
              <a:off x="152280" y="2509920"/>
              <a:ext cx="419112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5"/>
            <p:cNvSpPr/>
            <p:nvPr/>
          </p:nvSpPr>
          <p:spPr>
            <a:xfrm>
              <a:off x="560160" y="6338880"/>
              <a:ext cx="1843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98280"/>
            <a:ext cx="4114800" cy="23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rganisms (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facultative anaerob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لاهوائية اختياري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including yeast and many bacteria, can survive using either fermentation or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a cellular level, human muscle cells can behave as facultative anaerobes, but nerve cells can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228600" y="76320"/>
            <a:ext cx="4114800" cy="662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2"/>
          <p:cNvGrpSpPr/>
          <p:nvPr/>
        </p:nvGrpSpPr>
        <p:grpSpPr>
          <a:xfrm>
            <a:off x="4800600" y="76320"/>
            <a:ext cx="4127040" cy="6629400"/>
            <a:chOff x="4800600" y="76320"/>
            <a:chExt cx="4127040" cy="6629400"/>
          </a:xfrm>
        </p:grpSpPr>
        <p:pic>
          <p:nvPicPr>
            <p:cNvPr id="143" name="Picture 7" descr=""/>
            <p:cNvPicPr/>
            <p:nvPr/>
          </p:nvPicPr>
          <p:blipFill>
            <a:blip r:embed="rId2"/>
            <a:srcRect l="0" t="0" r="0" b="3357"/>
            <a:stretch/>
          </p:blipFill>
          <p:spPr>
            <a:xfrm>
              <a:off x="4863960" y="1295280"/>
              <a:ext cx="4063680" cy="541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8"/>
            <p:cNvSpPr/>
            <p:nvPr/>
          </p:nvSpPr>
          <p:spPr>
            <a:xfrm>
              <a:off x="4800600" y="152280"/>
              <a:ext cx="4114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Proteins and fat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can also enter the respiratory pathways, including glycolysis and the Krebs cycle, like carbohydrat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1"/>
            <p:cNvSpPr/>
            <p:nvPr/>
          </p:nvSpPr>
          <p:spPr>
            <a:xfrm>
              <a:off x="4800600" y="76320"/>
              <a:ext cx="4114440" cy="662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47920" y="304920"/>
            <a:ext cx="5664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295280"/>
            <a:ext cx="84582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vents of the electron transport chain and chemiosmo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rmentation (Anaerobic respiration) enables some cells to produce ATP without the help of oxy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- Electron transport chai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xidative phosphorel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7"/>
          <p:cNvGrpSpPr/>
          <p:nvPr/>
        </p:nvGrpSpPr>
        <p:grpSpPr>
          <a:xfrm>
            <a:off x="4866120" y="3420000"/>
            <a:ext cx="4277520" cy="3209040"/>
            <a:chOff x="4866120" y="3420000"/>
            <a:chExt cx="4277520" cy="3209040"/>
          </a:xfrm>
        </p:grpSpPr>
        <p:pic>
          <p:nvPicPr>
            <p:cNvPr id="59" name="Picture 8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5317200" y="3585240"/>
              <a:ext cx="3826440" cy="30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Oval 9"/>
            <p:cNvSpPr/>
            <p:nvPr/>
          </p:nvSpPr>
          <p:spPr>
            <a:xfrm rot="18849000">
              <a:off x="5022000" y="3816720"/>
              <a:ext cx="1571400" cy="109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6250320" y="3858480"/>
              <a:ext cx="1130760" cy="28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Rectangle 6"/>
          <p:cNvSpPr/>
          <p:nvPr/>
        </p:nvSpPr>
        <p:spPr>
          <a:xfrm>
            <a:off x="152280" y="4210200"/>
            <a:ext cx="5943600" cy="23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usands of copies of the electron transport chain are found in the extensive surface of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rista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ner membrane of the mitochondr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drop in free energy as they pass down the electron transport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4 of 38 ATP ultimately produced by respiration of glucose are derived from substrate-level phosphorylation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from glycolysis and 2 from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vast majority of the ATP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0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s from the energy in the electrons carried by NADH and FAD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ergy in these electrons is used in the electron transport chain to power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لتدع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53352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inner mitochondrial membrane couples electron transport to ATP synthesis (90% of A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44A6-5F7A-4E34-BEBD-6FC4E57074E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445000" y="1447920"/>
            <a:ext cx="3699000" cy="52578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6706080" y="5486400"/>
            <a:ext cx="87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9.1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6320" y="3481560"/>
            <a:ext cx="5257800" cy="31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ltimately pass to oxy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 transport chain generates no ATP directly. Rather, its function is 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ee energy drop from food to oxygen in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ser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mall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eps that release energy in manageable amoun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كميات مناسب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8686800" cy="276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carri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transferred to the first molecule in the electron transport chain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lavoprotein; FM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s continue along the chain which includes several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ytochr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teins and one lipid carr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s carri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ve                                                  lower free energy and are added to                                                       a later point in th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1FBA-A490-4B00-B3AB-3886D32AC09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228600" y="5140440"/>
            <a:ext cx="525780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hemiosmosis: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mos = puch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oxidative phosphorel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results in ATP production in the inner membrane of mitochond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410080" y="1523880"/>
            <a:ext cx="3733920" cy="51818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152280" y="3233880"/>
            <a:ext cx="5105520" cy="18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TP synthase molecules are the only place that will allow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diffuse back to the matri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ergonic flow of H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flow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by the enzyme to generate ATP a process called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hemiosm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52280" y="314280"/>
            <a:ext cx="8839440" cy="27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TP-synthas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cristae actually make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D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used the energy of an existing proton gradient to power ATP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ton grad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velops between                                                              the intermembrane space and the matr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oncentration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                           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roton-motive forc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CCB0-2849-4286-8910-EF233BC4A5C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rcRect l="0" t="0" r="0" b="3946"/>
          <a:stretch/>
        </p:blipFill>
        <p:spPr>
          <a:xfrm>
            <a:off x="0" y="990720"/>
            <a:ext cx="9144000" cy="57909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2442600" y="175248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15, Page 16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380880" y="152280"/>
            <a:ext cx="7848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 of NADH and 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ive a maximum yi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4 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produced by 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oxidative phosphory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60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espiration, most energy flow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ucose      NAD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proton-motive force     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ome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produc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bstrate-level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uring glycolysis and the Krebs cycle, bu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ost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e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xidative phosphoryl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rough electron transport chain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produced in Glycolysis and Krebs cycle gives a maximum yield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4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substrate-level phosphory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produced in electron transport chain gives a maximum yield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34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oxidative phosphorylation via ATP-synt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rate-level phosphorylation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 a bottom line of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8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Cellular respiration generates many ATP molecules for each sugar molecule it oxid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216920" y="186048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05920" y="18288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29400" y="21337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43360" y="21556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52280" y="12949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 electron pathway food→NADH→ETC→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C is a series of electron carriers located in the inner membrane of the mitochond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 supplies two electrons to the ETC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2H→ NADH + H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 ETC electrons move through the chain reducing and oxidizing the molecules as they p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TC is made mostly of prote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ADH molecules transport the electrons to the ETC -FAD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dded at a lower energy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lectrons move down the mitochondrial membrane through the electron carr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oncentration gradient is generated -positive in the intermembrane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end of the ETC oxygen accepts hydrogen and one electron to form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H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ons that passed through the proteins into the cytoplasm flow through ATP synthase into the mitochondrial matr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nergy generated by the proton movement creates ATP by joining ADP and 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 produces 3 ATP per molec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duces 2 ATP per 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2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ummary of Electron Transport Chain (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ACEC-09FB-4A7D-B9B9-3A4780F2464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Tahoma"/>
                <a:ea typeface="Tahoma"/>
              </a:rPr>
              <a:t>Summary of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Tahoma"/>
              </a:rPr>
              <a:t> Cellular </a:t>
            </a:r>
            <a:r>
              <a:rPr b="1" lang="en-GB" sz="2800" spc="-1" strike="noStrike">
                <a:solidFill>
                  <a:srgbClr val="0000cc"/>
                </a:solidFill>
                <a:latin typeface="Tahoma"/>
                <a:ea typeface="Tahoma"/>
              </a:rPr>
              <a:t>Respi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6320" y="1127160"/>
            <a:ext cx="89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- Glycolysi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ccurs in the cytosol and breaks glucose into two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yruv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52280" y="1523880"/>
            <a:ext cx="883944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- Krebs Cycl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akes place within the mitochondrial matrix, and break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a pyruvate into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produce some ATP and NAD</a:t>
            </a:r>
            <a:r>
              <a:rPr b="1" lang="en-GB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52280" y="22860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Some steps of Glycolysis and Krebs Cycle are Redox in which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dehydrogenase enzyme reduces NAD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to 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52280" y="38098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pts </a:t>
            </a:r>
            <a:r>
              <a:rPr b="1" i="1" lang="en-US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US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passes these </a:t>
            </a:r>
            <a:r>
              <a:rPr b="1" i="1" lang="en-US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US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br>
              <a:rPr sz="3200"/>
            </a:br>
            <a:r>
              <a:rPr b="1" lang="en-US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one protein molecule to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52280" y="4648320"/>
            <a:ext cx="8839440" cy="9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At the end of the chain, </a:t>
            </a:r>
            <a:r>
              <a:rPr b="1" i="1" lang="en-US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US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bine with both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form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lease energ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152280" y="5546880"/>
            <a:ext cx="8991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These energy are used by mitochondria to synthesis 90% of the cellula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ATP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TP-synth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 process called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Oxidative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in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the inner membrane of mitochond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152280" y="304812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Some of ATP is produced at these tow steps via (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ubstrate-level-</a:t>
            </a:r>
            <a:br>
              <a:rPr sz="2000"/>
            </a:b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 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0:15:58Z</dcterms:created>
  <dc:creator>User</dc:creator>
  <dc:description/>
  <dc:language>en-US</dc:language>
  <cp:lastModifiedBy>ash</cp:lastModifiedBy>
  <dcterms:modified xsi:type="dcterms:W3CDTF">2013-01-09T20:33:17Z</dcterms:modified>
  <cp:revision>164</cp:revision>
  <dc:subject/>
  <dc:title>Slide 1</dc:title>
</cp:coreProperties>
</file>