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301-43EE-4D6B-AEF5-F6F27B29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721-FA7C-4FA9-94B1-ED1B8BB0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D5F-02F1-462B-8201-309D175D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FD2-7C30-49CD-83ED-85D6CBC4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D03-0C46-45B7-85E1-7449A4F3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430-8121-4045-B7EB-CCAAA530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8F7-844E-4D29-A124-56DA6718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62A-7003-44E2-BB57-3C85A8B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174-B086-48D3-A9F2-3E164E1C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F9F-28F5-4CE8-8A1F-F0FB3067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275-5161-419F-B947-22A23D9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F99-F887-4BB5-BB32-CE457107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3D82-C2B0-4798-B572-9D249AEBBA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9B95-B1A5-4BA3-B6F2-521A7CC09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C8B5-9E52-4B80-AD27-8E11E66477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6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324A-7391-4D73-9457-2C1776A3F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BE0-48F4-49F6-B5FB-9BCFE27192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8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43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30492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29528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s of the electron transport chain and chemiosm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tion (Anaerobic respiration) enables some cells to produce ATP without the help of oxy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9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8D62-D261-4AEB-B566-9C6D51656A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A770-CF59-4C72-9C40-BD0408EA8D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977-9DD8-478F-980C-1DAE512119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electron pathway food→NADH→ETC→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177E-C9C0-4352-ABE7-2A01FB0E81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ow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ash</cp:lastModifiedBy>
  <dcterms:modified xsi:type="dcterms:W3CDTF">2013-01-09T20:33:17Z</dcterms:modified>
  <cp:revision>164</cp:revision>
  <dc:subject/>
  <dc:title>Slide 1</dc:title>
</cp:coreProperties>
</file>