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1E32-029B-4A28-B8E1-5FA4F560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AF1-CFAF-488B-A29E-37B68573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990F-BE5B-4C02-B80F-E70D2619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09A-BFC5-42E2-BE7A-9FD21613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770-A121-42FF-9FDE-AD9CEC65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F10D-5241-459A-8C3E-672C4229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BA7-A793-4EF5-8579-95140F77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D2C7-DC67-4F55-B471-9029CFA6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D0D-940B-4961-8EFB-8F6E5D08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BFB-1550-4DBA-88A9-F96507FD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51E2-102C-49A1-AFAD-68051169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B58F-0867-46AF-A9CD-9F94E596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397B-6BFA-42D6-B2B0-72448E6BB5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A617-A815-477C-8A54-8F3643EC60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40400" y="1225080"/>
            <a:ext cx="7783920" cy="5023080"/>
            <a:chOff x="140400" y="1225080"/>
            <a:chExt cx="7783920" cy="502308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6680" y="1606680"/>
              <a:ext cx="7127640" cy="46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11200" y="1774080"/>
              <a:ext cx="2396520" cy="20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34760" y="2023200"/>
              <a:ext cx="2106720" cy="44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36504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86000"/>
            <a:ext cx="7696440" cy="41148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1371600" y="1600200"/>
            <a:ext cx="6248520" cy="60948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xidative Phosphorylation and the 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643068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4"/>
          <a:srcRect l="18602" t="8060" r="4042" b="0"/>
          <a:stretch/>
        </p:blipFill>
        <p:spPr>
          <a:xfrm>
            <a:off x="22320" y="42840"/>
            <a:ext cx="1349280" cy="1481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FD82-C622-46ED-A2A0-0FC4890C24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1522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Definitions</a:t>
            </a:r>
            <a:r>
              <a:rPr b="1" lang="en-GB" sz="3200" spc="-1" strike="noStrike" u="sng">
                <a:solidFill>
                  <a:srgbClr val="0000cc"/>
                </a:solidFill>
                <a:uFillTx/>
                <a:latin typeface="Arial"/>
              </a:rPr>
              <a:t>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508040"/>
            <a:ext cx="868680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, is the process in which ATP synthesis powered by the flow of H+ back across ATP synthase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3429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52280" y="44956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548640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51920" y="1366920"/>
            <a:ext cx="89154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glycolysis, glucose is oxidized to 2 pyruvate molecules with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s the oxidizing agent (not 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energy from this oxidation produce 2 A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lycolysis generates 2 ATP when oxygen is absent (anaerobic </a:t>
            </a:r>
            <a:r>
              <a:rPr b="0" lang="ar-EG" sz="1800" spc="-1" strike="noStrike">
                <a:solidFill>
                  <a:srgbClr val="0000cc"/>
                </a:solidFill>
                <a:latin typeface="Arial"/>
              </a:rPr>
              <a:t>لاهوائ</a:t>
            </a:r>
            <a:r>
              <a:rPr b="0" lang="ar-SA" sz="1800" spc="-1" strike="noStrike">
                <a:solidFill>
                  <a:srgbClr val="0000cc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naerobic catabolism of sugars can occur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er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Fermentation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nab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FF04-0844-4EC1-B8F0-C5387E7380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scar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erobic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respira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During exercise our bodies require a lot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dy can only supply a limited amount of oxygen for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s not produced at the rate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will use anaerobic respiration to release extra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duces lactic acid (a waste produc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 We use yeast to make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duced causes bread to rise by creating air p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thanol (alcohol) produced evaporated during b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mmary of anaerobic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remains in the cytoplasm (no link reaction, no Krebs cyc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yruvate is converted into waste and removed from the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TP is produced (except from glycoly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s the waste=lactate (lactic ac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yeast the waste=ethanol and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e pyruvate is converted into waste, the cells can go through glycolysis ag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yruvate was not converted into waste the cells would not go through glycoly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lycolysis produces pyruvate.  If it is already present there is no reason to make more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at and Protein Break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have more energy per gram than carbohydrates or proteins (~2x as mu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fatty acid chains are oxidized and broken into smaller 2 carbon ch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the 2 carbon chains are converted into acetyl CoA to enter the Kreb’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must be converted into individual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excess amino acids are converted by enzymes into intermediated of glycolysis and Krebs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mino acids go through deamination (amino groups are remo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itrogenous wastes from the amino groups are released as wa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new compounds enter glycolysis or Kre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53FA-50E0-4609-96E0-4D4487D8EC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152280" y="2509920"/>
            <a:ext cx="4191120" cy="4119480"/>
            <a:chOff x="152280" y="2509920"/>
            <a:chExt cx="4191120" cy="4119480"/>
          </a:xfrm>
        </p:grpSpPr>
        <p:pic>
          <p:nvPicPr>
            <p:cNvPr id="134" name="Picture 4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152280" y="2509920"/>
              <a:ext cx="4191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5"/>
            <p:cNvSpPr/>
            <p:nvPr/>
          </p:nvSpPr>
          <p:spPr>
            <a:xfrm>
              <a:off x="560160" y="6338880"/>
              <a:ext cx="18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2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139" name="Picture 7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- Electron transport chai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4866120" y="3420000"/>
            <a:ext cx="4277520" cy="3209040"/>
            <a:chOff x="4866120" y="3420000"/>
            <a:chExt cx="4277520" cy="3209040"/>
          </a:xfrm>
        </p:grpSpPr>
        <p:pic>
          <p:nvPicPr>
            <p:cNvPr id="55" name="Picture 8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585240"/>
              <a:ext cx="3826440" cy="30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Oval 9"/>
            <p:cNvSpPr/>
            <p:nvPr/>
          </p:nvSpPr>
          <p:spPr>
            <a:xfrm rot="18849000">
              <a:off x="5022000" y="381672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250320" y="385848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914400" y="53352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he inner mitochondrial membrane couples electron transport to ATP synthesis (90% of AT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4CDF-9624-44A2-84FF-43685361F1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45000" y="144792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6706080" y="54864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9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6320" y="3481560"/>
            <a:ext cx="5257800" cy="31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686800" cy="276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; FM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ontinue along the chain which includes several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chr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teins and one lipid c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                                                 lower free energy and are added to                                                      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5BBF-C39A-41FB-A5C8-283CA0DFDF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152280" y="3233880"/>
            <a:ext cx="51055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ergonic flow of 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2623-DFDE-456E-8F97-745790A7B9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990720"/>
            <a:ext cx="9144000" cy="57909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2442600" y="1752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5, Page 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60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   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    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Glycolysis and Krebs cycle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substrate-level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 bottom line of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Cellular respiration generates many ATP molecules for each sugar molecule it oxid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7216920" y="1860480"/>
            <a:ext cx="304560" cy="152640"/>
          </a:xfrm>
          <a:prstGeom prst="rightArrow">
            <a:avLst>
              <a:gd name="adj1" fmla="val 50000"/>
              <a:gd name="adj2" fmla="val 49882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>
            <a:off x="8305920" y="18288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6629400" y="213372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0"/>
          <p:cNvSpPr/>
          <p:nvPr/>
        </p:nvSpPr>
        <p:spPr>
          <a:xfrm>
            <a:off x="3843360" y="21556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electron pathway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ood→NADH→ETC→oxy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C is a series of electron carriers located in the inner membrane of the mitochond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supplies two electrons to the ETC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+ 2H→ NADH +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ETC electrons move through the chain reducing and oxidizing the molecules as they p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TC is made mostly of prote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NADH molecules transport the electrons to the ETC -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dded at a lower energy le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lectrons move down the mitochondrial membrane through the electron c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oncentration gradient is generated -positive in the intermembrane sp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end of the ETC oxygen accepts hydrogen and one electron to form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ons that passed through the proteins into the cytoplasm flow through ATP synthase into the mitochondrial matr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nergy generated by the proton movement creates ATP by joining ADP and 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produces 3 ATP per molecu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produces 2 ATP per mole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14300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Electron Transport Chain (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CD0B-8F89-48BD-99E0-A26A3D2336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Summary of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Tahoma"/>
              </a:rPr>
              <a:t> Cellular </a:t>
            </a:r>
            <a:r>
              <a:rPr b="1" lang="en-GB" sz="2800" spc="-1" strike="noStrike">
                <a:solidFill>
                  <a:srgbClr val="0000cc"/>
                </a:solidFill>
                <a:latin typeface="Tahoma"/>
                <a:ea typeface="Tahoma"/>
              </a:rPr>
              <a:t>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6320" y="112716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52280" y="15238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52280" y="22860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GB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GB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wo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227160" y="1488960"/>
            <a:ext cx="8764560" cy="5216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2133720" y="304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8:23Z</dcterms:modified>
  <cp:revision>1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814B750F-B929-485D-8212-ADFEEC9E5E59</vt:lpwstr>
  </property>
  <property fmtid="{D5CDD505-2E9C-101B-9397-08002B2CF9AE}" pid="3" name="ArticulatePath">
    <vt:lpwstr>Lecture 15</vt:lpwstr>
  </property>
</Properties>
</file>