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E66-2995-4AA3-8B3C-15851896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1D3-14AD-489A-8D49-C05B6CE4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A17A-4E26-4D99-BF32-90635686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9F30-C828-48A4-9941-AF86737E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D45F-71E6-40C2-B985-D16BF101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0DC-DF9A-4A4F-8776-579E852D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415C-17E6-4DBC-BB12-3541DC5A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CB7E-EF12-4708-B72C-0FA8FF0E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052-98D4-485A-809A-D06523EA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D623-4E41-411E-A498-00A2E4F1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8C2A-BE10-46E0-98BE-653A5097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43D4-D495-44E1-87E9-ED9844B7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FF49-98BC-413A-A935-6DECF96551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5FA6-43EC-4AC2-A45C-F6BA6B6CC9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40400" y="1225080"/>
            <a:ext cx="7783920" cy="5023080"/>
            <a:chOff x="140400" y="1225080"/>
            <a:chExt cx="7783920" cy="502308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6680" y="1606680"/>
              <a:ext cx="7127640" cy="46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11200" y="1774080"/>
              <a:ext cx="2396520" cy="20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34760" y="2023200"/>
              <a:ext cx="210672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86000"/>
            <a:ext cx="7696440" cy="4114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371600" y="1600200"/>
            <a:ext cx="6248520" cy="60948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xidative Phosphorylation and the 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64306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4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2085-0081-4217-8D9E-688C20C074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152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efinitions</a:t>
            </a:r>
            <a:r>
              <a:rPr b="1" lang="en-GB" sz="32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508040"/>
            <a:ext cx="868680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, is the process in which ATP synthesis powered by the flow of H+ back across ATP synthas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34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52280" y="4495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548640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1920" y="1366920"/>
            <a:ext cx="89154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glycolysis, glucose is oxidized to 2 pyruvate molecules with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 the oxidizing agent (not 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energy from this oxidation produce 2 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lycolysis generates 2 ATP when oxygen is absent (anaerobic </a:t>
            </a:r>
            <a:r>
              <a:rPr b="0" lang="ar-EG" sz="1800" spc="-1" strike="noStrike">
                <a:solidFill>
                  <a:srgbClr val="0000cc"/>
                </a:solidFill>
                <a:latin typeface="Arial"/>
              </a:rPr>
              <a:t>لاهوائ</a:t>
            </a:r>
            <a:r>
              <a:rPr b="0" lang="ar-SA" sz="1800" spc="-1" strike="noStrike">
                <a:solidFill>
                  <a:srgbClr val="0000cc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naerobic catabolism of sugars can occur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ermentation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ab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E807-AC25-4DE4-BC5D-0159BB1AE5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scar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erobic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respira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During exercise our bodies require a lo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can only supply a limited amount of oxygen for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not produced at the rate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will use anaerobic respiration to release extra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duces lactic acid (a waste produ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 We use yeast to make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causes bread to rise by creating air p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thanol (alcohol) produced evaporated during b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an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remains in the cytoplasm (no link reaction, no Krebs cyc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is converted into waste and removed from the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TP is produced (except from glycoly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s the waste=lactate (lactic ac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yeast the waste=ethanol and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e pyruvate is converted into waste, the cells can go through glycolysis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yruvate was not converted into waste the cells would not go through glyco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lycolysis produces pyruvate.  If it is already present there is no reason to make more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at and Protein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ave more energy per gram than carbohydrates or proteins (~2x as m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atty acid chains are oxidized and broken into smaller 2 carbon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he 2 carbon chains are converted into acetyl CoA to enter the Kreb’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ust be converted into individual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xcess amino acids are converted by enzymes into intermediated of glycolysis and Kreb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mino acids go through deamination (amino groups are re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itrogenous wastes from the amino groups are released as wa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ew compounds enter glycolysis or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3323-E1C6-4292-A4ED-324F854AD1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152280" y="2509920"/>
            <a:ext cx="4191120" cy="4119480"/>
            <a:chOff x="152280" y="2509920"/>
            <a:chExt cx="4191120" cy="4119480"/>
          </a:xfrm>
        </p:grpSpPr>
        <p:pic>
          <p:nvPicPr>
            <p:cNvPr id="134" name="Picture 4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152280" y="2509920"/>
              <a:ext cx="4191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5"/>
            <p:cNvSpPr/>
            <p:nvPr/>
          </p:nvSpPr>
          <p:spPr>
            <a:xfrm>
              <a:off x="560160" y="6338880"/>
              <a:ext cx="1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139" name="Picture 7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- Electron transport cha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4866120" y="3420000"/>
            <a:ext cx="4277520" cy="3209040"/>
            <a:chOff x="4866120" y="3420000"/>
            <a:chExt cx="4277520" cy="3209040"/>
          </a:xfrm>
        </p:grpSpPr>
        <p:pic>
          <p:nvPicPr>
            <p:cNvPr id="55" name="Picture 8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585240"/>
              <a:ext cx="3826440" cy="30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Oval 9"/>
            <p:cNvSpPr/>
            <p:nvPr/>
          </p:nvSpPr>
          <p:spPr>
            <a:xfrm rot="18849000">
              <a:off x="5022000" y="381672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250320" y="385848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914400" y="5335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inner mitochondrial membrane couples electron transport to ATP synthesis (90% of A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620E-F781-40D5-8AA5-8CD2BD2B4D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45000" y="144792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6706080" y="54864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9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6320" y="3481560"/>
            <a:ext cx="52578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86800" cy="276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; FM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ontinue along the chain which includes several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chr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teins and one lipid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                                                 lower free energy and are added to                                                      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D674-CEBD-4D55-987B-15A1C28613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52280" y="3233880"/>
            <a:ext cx="51055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ergonic flow of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CDB2-823D-4931-ACA9-05BB83C37D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990720"/>
            <a:ext cx="9144000" cy="5790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442600" y="1752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5, Page 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60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   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    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Glycolysis and Krebs cycle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substrate-level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 bottom line of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ellular respiration generates many ATP molecules for each sugar molecule it oxid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7216920" y="18604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8305920" y="1828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6629400" y="2133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3843360" y="2155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electron pathway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ood→NADH→ETC→oxy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C is a series of electron carriers located in the inner membrane of the 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supplies two electrons to the ETC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+ 2H→ NADH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ETC electrons move through the chain reducing and oxidizing the molecules as they p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TC is made mostly of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ADH molecules transport the electrons to the ETC -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dded at a lower energy le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move down the mitochondrial membrane through the electron c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oncentration gradient is generated -positive in the intermembrane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end of the ETC oxygen accepts hydrogen and one electron to form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ons that passed through the proteins into the cytoplasm flow through ATP synthase into the mitochondrial matr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nergy generated by the proton movement creates ATP by joining ADP and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produces 3 ATP per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duces 2 ATP per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Electron Transport Chain (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B195-2059-4EE5-812E-17E2FA83D2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Summary of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 Cellular </a:t>
            </a: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6320" y="112716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15238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2280" y="22860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wo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227160" y="1488960"/>
            <a:ext cx="8764560" cy="5216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133720" y="304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8:23Z</dcterms:modified>
  <cp:revision>1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814B750F-B929-485D-8212-ADFEEC9E5E59</vt:lpwstr>
  </property>
  <property fmtid="{D5CDD505-2E9C-101B-9397-08002B2CF9AE}" pid="3" name="ArticulatePath">
    <vt:lpwstr>Lecture 15</vt:lpwstr>
  </property>
</Properties>
</file>