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4044-05B7-4BBB-A23C-977BF4DC5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9C07-8596-4AD5-B7FD-BBCC9341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DAC4-A923-4804-A478-316A7E391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8122-AB66-4011-8D43-5E75A6E63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E8C2-1F0F-4893-A504-734530FF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3398-9ED4-4C0B-99B2-2040D701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5964-904E-41C4-B728-9FC4A44A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25B5-13F7-4639-87A0-171B1D1E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1A12-BD00-4C92-8D03-C0ADE8A6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CDBE-07E6-4B3F-8366-81D83D59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722A-EF05-46B0-B996-2045FB66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F187-3560-404E-AB73-356603F0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51E5-C778-4FE0-9C13-296AD243140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manasinc.com/webcontent/animations/content/cellularrespiration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2A00-BB6D-45B1-B9E8-330A2C7AF4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40400" y="1225080"/>
            <a:ext cx="7783920" cy="5023080"/>
            <a:chOff x="140400" y="1225080"/>
            <a:chExt cx="7783920" cy="5023080"/>
          </a:xfrm>
        </p:grpSpPr>
        <p:pic>
          <p:nvPicPr>
            <p:cNvPr id="43" name="Picture 4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6680" y="1606680"/>
              <a:ext cx="7127640" cy="46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5"/>
            <p:cNvSpPr/>
            <p:nvPr/>
          </p:nvSpPr>
          <p:spPr>
            <a:xfrm rot="18849000">
              <a:off x="511200" y="1774080"/>
              <a:ext cx="2396520" cy="20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2534760" y="2023200"/>
              <a:ext cx="210672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2286000" y="36504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838080" y="2286000"/>
            <a:ext cx="7696440" cy="4114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1371600" y="1600200"/>
            <a:ext cx="6248520" cy="609480"/>
          </a:xfrm>
          <a:prstGeom prst="rect">
            <a:avLst/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xidative Phosphorylation and the Electron Transport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457200" y="643068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manasinc.com/webcontent/animations/content/cellularrespir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"/>
          <p:cNvPicPr/>
          <p:nvPr/>
        </p:nvPicPr>
        <p:blipFill>
          <a:blip r:embed="rId4"/>
          <a:srcRect l="18602" t="8060" r="4042" b="0"/>
          <a:stretch/>
        </p:blipFill>
        <p:spPr>
          <a:xfrm>
            <a:off x="22320" y="42840"/>
            <a:ext cx="1349280" cy="1481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EA87-1101-4D6E-B566-02E4E7C8308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895480" y="1522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Definitions</a:t>
            </a:r>
            <a:r>
              <a:rPr b="1" lang="en-GB" sz="3200" spc="-1" strike="noStrike" u="sng">
                <a:solidFill>
                  <a:srgbClr val="0000cc"/>
                </a:solidFill>
                <a:uFillTx/>
                <a:latin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عريف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28600" y="1508040"/>
            <a:ext cx="8686800" cy="17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 proces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kes place at the end of the Electron Transport Chain to produce 90% of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TP-synth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, is the process in which ATP synthesis powered by the flow of H+ back across ATP synthase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28600" y="3429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TP-synthas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 enzyme presents in the inner mitochondrial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membrane and used in making ATP by using H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+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52280" y="44956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GB" sz="2800" spc="-1" strike="noStrike" u="sng" baseline="30000">
                <a:solidFill>
                  <a:srgbClr val="ff0000"/>
                </a:solidFill>
                <a:uFillTx/>
                <a:latin typeface="Arial"/>
              </a:rPr>
              <a:t>+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 co-enzyme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helps electron transfer during redox reactions 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28600" y="5486400"/>
            <a:ext cx="8839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FAD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vin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n electron acceptor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helps electron transfer during Krebs Cycle and Electron Transport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Chai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1920" y="1366920"/>
            <a:ext cx="8915400" cy="57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Oxidation refers to the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loss of electron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to any electron acceptor, not just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glycolysis, glucose is oxidized to 2 pyruvate molecules with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s the oxidizing agent (not 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energy from this oxidation produce 2 A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oxygen is present, additional ATP can be generated when NADH delivers its electrons to the electron transport cha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lycolysis generates 2 ATP when oxygen is absent (anaerobic </a:t>
            </a:r>
            <a:r>
              <a:rPr b="0" lang="ar-EG" sz="1800" spc="-1" strike="noStrike">
                <a:solidFill>
                  <a:srgbClr val="0000cc"/>
                </a:solidFill>
                <a:latin typeface="Arial"/>
              </a:rPr>
              <a:t>لاهوائ</a:t>
            </a:r>
            <a:r>
              <a:rPr b="0" lang="ar-SA" sz="1800" spc="-1" strike="noStrike">
                <a:solidFill>
                  <a:srgbClr val="0000cc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naerobic catabolism of sugars can occur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an generate ATP from glucose by substrate-level phosphorylation as long as there is a supply of NAD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oxidizing agent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 to accept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the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ool is exhausted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إسـتـُنفـِ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glycolysis shuts d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der aerobic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هوائ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s, NADH transfers its electrons to the electron transfer chain, recycling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Under anaerobic conditions, various fermentation pathways generate ATP by glycolysis and recycle NAD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by transferring electrons from NADH to pyruv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Fermentation: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nabl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مَكِن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 cells to produce ATP without the help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4584-6EEC-4B43-A0B5-97A28B8DF23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943600" y="1231920"/>
            <a:ext cx="3200400" cy="2654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975280" y="3962520"/>
            <a:ext cx="3168720" cy="2620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8610480" cy="23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lcohol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wo ste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the removal of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reduced by NADH                                             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cohol fermentation by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yea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i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ema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76320" y="3230640"/>
            <a:ext cx="5943600" cy="36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ctic acid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 reduced directly by NADH to form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lact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ionized form of lactic acid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ctic acid fermentation by som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fung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bacter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used to mak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cheese and yogu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cle cells switch from aerobic respiration                                            to lactic acid fermentation to generate ATP                                              when 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scarc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ناد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waste product, lactate, may cau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cle fatigue, but ultimately it i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rted back to pyruvate in the l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s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aerobic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respiratio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- During exercise our bodies require a lot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ody can only supply a limited amount of oxygen for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s not produced at the rate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 will use anaerobic respiration to release extra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duces lactic acid (a waste produ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- We use yeast to make 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ed causes bread to rise by creating air po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thanol (alcohol) produced evaporated during b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ummary of anaerobic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Without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yruvate remains in the cytoplasm (no link reaction, no Krebs cyc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yruvate is converted into waste and removed from the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ATP is produced (except from glycoly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s the waste=lactate (lactic aci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yeast the waste=ethanol and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the pyruvate is converted into waste, the cells can go through glycolysis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pyruvate was not converted into waste the cells would not go through glyco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Glycolysis produces pyruvate.  If it is already present there is no reason to make more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Fat and Protein Break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have more energy per gram than carbohydrates or proteins (~2x as mu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fatty acid chains are oxidized and broken into smaller 2 carbon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the 2 carbon chains are converted into acetyl CoA to enter the Kreb’s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must be converted into individual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excess amino acids are converted by enzymes into intermediated of glycolysis and Krebs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mino acids go through deamination (amino groups are remo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nitrogenous wastes from the amino groups are released as wa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new compounds enter glycolysis or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58E0-FD5B-462C-BE11-3FC0FC5E6B6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6"/>
          <p:cNvGrpSpPr/>
          <p:nvPr/>
        </p:nvGrpSpPr>
        <p:grpSpPr>
          <a:xfrm>
            <a:off x="152280" y="2509920"/>
            <a:ext cx="4191120" cy="4119480"/>
            <a:chOff x="152280" y="2509920"/>
            <a:chExt cx="4191120" cy="4119480"/>
          </a:xfrm>
        </p:grpSpPr>
        <p:pic>
          <p:nvPicPr>
            <p:cNvPr id="134" name="Picture 4" descr=""/>
            <p:cNvPicPr/>
            <p:nvPr/>
          </p:nvPicPr>
          <p:blipFill>
            <a:blip r:embed="rId1"/>
            <a:srcRect l="0" t="0" r="0" b="4466"/>
            <a:stretch/>
          </p:blipFill>
          <p:spPr>
            <a:xfrm>
              <a:off x="152280" y="2509920"/>
              <a:ext cx="419112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Rectangle 5"/>
            <p:cNvSpPr/>
            <p:nvPr/>
          </p:nvSpPr>
          <p:spPr>
            <a:xfrm>
              <a:off x="560160" y="6338880"/>
              <a:ext cx="184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98280"/>
            <a:ext cx="4114800" cy="23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rganisms (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facultative anaerob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لاهوائية اختياري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including yeast and many bacteria, can survive using either fermentation o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a cellular level, human muscle cells can behave as facultative anaerobes, but nerve cells can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228600" y="76320"/>
            <a:ext cx="4114800" cy="662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2"/>
          <p:cNvGrpSpPr/>
          <p:nvPr/>
        </p:nvGrpSpPr>
        <p:grpSpPr>
          <a:xfrm>
            <a:off x="4800600" y="76320"/>
            <a:ext cx="4127040" cy="6629400"/>
            <a:chOff x="4800600" y="76320"/>
            <a:chExt cx="4127040" cy="6629400"/>
          </a:xfrm>
        </p:grpSpPr>
        <p:pic>
          <p:nvPicPr>
            <p:cNvPr id="139" name="Picture 7" descr=""/>
            <p:cNvPicPr/>
            <p:nvPr/>
          </p:nvPicPr>
          <p:blipFill>
            <a:blip r:embed="rId2"/>
            <a:srcRect l="0" t="0" r="0" b="3357"/>
            <a:stretch/>
          </p:blipFill>
          <p:spPr>
            <a:xfrm>
              <a:off x="4863960" y="1295280"/>
              <a:ext cx="4063680" cy="54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8"/>
            <p:cNvSpPr/>
            <p:nvPr/>
          </p:nvSpPr>
          <p:spPr>
            <a:xfrm>
              <a:off x="4800600" y="152280"/>
              <a:ext cx="4114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Proteins and fat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can also enter the respiratory pathways, including glycolysis and the Krebs cycle, like carbohydrat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1"/>
            <p:cNvSpPr/>
            <p:nvPr/>
          </p:nvSpPr>
          <p:spPr>
            <a:xfrm>
              <a:off x="4800600" y="76320"/>
              <a:ext cx="4114440" cy="662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- Electron transport chai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xidative phosphorel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7"/>
          <p:cNvGrpSpPr/>
          <p:nvPr/>
        </p:nvGrpSpPr>
        <p:grpSpPr>
          <a:xfrm>
            <a:off x="4866120" y="3420000"/>
            <a:ext cx="4277520" cy="3209040"/>
            <a:chOff x="4866120" y="3420000"/>
            <a:chExt cx="4277520" cy="3209040"/>
          </a:xfrm>
        </p:grpSpPr>
        <p:pic>
          <p:nvPicPr>
            <p:cNvPr id="55" name="Picture 8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5317200" y="3585240"/>
              <a:ext cx="3826440" cy="30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Oval 9"/>
            <p:cNvSpPr/>
            <p:nvPr/>
          </p:nvSpPr>
          <p:spPr>
            <a:xfrm rot="18849000">
              <a:off x="5022000" y="3816720"/>
              <a:ext cx="1571400" cy="109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250320" y="3858480"/>
              <a:ext cx="1130760" cy="28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6"/>
          <p:cNvSpPr/>
          <p:nvPr/>
        </p:nvSpPr>
        <p:spPr>
          <a:xfrm>
            <a:off x="152280" y="4210200"/>
            <a:ext cx="5943600" cy="23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usands of copies of the electron transport chain are found in the extensive surface of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rista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ner membrane of the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drop in free energy as they pass down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4 of 38 ATP ultimately produced by respiration of glucose are derived from substrate-level phosphorylation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from glycolysis and 2 from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vast majority of the ATP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s from the energy in the electrons carried by NADH and FAD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ergy in these electrons is used in the electron transport chain to power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لتدع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914400" y="53352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he inner mitochondrial membrane couples electron transport to ATP synthesis (90% of A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78F6-9403-4FD6-9431-BE31CB8C14B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445000" y="1447920"/>
            <a:ext cx="3699000" cy="5257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6706080" y="548640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9.1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6320" y="3481560"/>
            <a:ext cx="5257800" cy="31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ltimately pass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 generates no ATP directly. Rather, its function is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ee energy drop from food to oxygen in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se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mall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eps that release energy in manageable amoun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كميات مناسب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8686800" cy="276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transferred to the first molecule in the electron transport chain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lavoprotein; FM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ontinue along the chain which includes several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chr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teins and one lipid c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                                                 lower free energy and are added to                                                       a later point in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79DF-B1F7-4F29-9B66-4958ED3F8A2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228600" y="5140440"/>
            <a:ext cx="525780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mos = puch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oxidative phosphore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results in ATP production in the inner membrane of mitochond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410080" y="1523880"/>
            <a:ext cx="3733920" cy="51818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152280" y="3233880"/>
            <a:ext cx="5105520" cy="18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TP synthase molecules are the only place that will allow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diffuse back to the matri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ergonic flow of H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flow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by the enzyme to generate ATP a process called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hemiosm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314280"/>
            <a:ext cx="8839440" cy="27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TP-synthas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cristae actually make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used the energy of an existing proton gradient to power 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ton grad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velops between                                                              the intermembrane space and the matr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oncentration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                           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roton-motive forc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6DB0-9D6D-4DB6-9005-D039E75A1CE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rcRect l="0" t="0" r="0" b="3946"/>
          <a:stretch/>
        </p:blipFill>
        <p:spPr>
          <a:xfrm>
            <a:off x="0" y="990720"/>
            <a:ext cx="9144000" cy="57909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2442600" y="175248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15, Page 16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80880" y="152280"/>
            <a:ext cx="7848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 of NADH and 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ive a maximum y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oxidative 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60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espiration, most energy flow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ucose      NAD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proton-motive force     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uring glycolysis and the Krebs cycle, bu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st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e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idative phosphoryl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rough electron transport chain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produced in Glycolysis and Krebs cycle gives a maximum yield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4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substrate-level phosphory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produced in electron transport chain gives a maximum yield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oxidative phosphorylation via ATP-synt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rate-level phosphorylation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 a bottom line of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Cellular respiration generates many ATP molecules for each sugar molecule it oxid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7216920" y="186048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>
            <a:off x="8305920" y="18288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6629400" y="21337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3843360" y="21556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2280" y="12952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electron pathway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ood→NADH→ETC→oxyg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C is a series of electron carriers located in the inner membrane of the mitochond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 supplies two electrons to the ETC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+ 2H→ NADH + 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e ETC electrons move through the chain reducing and oxidizing the molecules as they p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TC is made mostly of prote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NADH molecules transport the electrons to the ETC -FAD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added at a lower energy lev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lectrons move down the mitochondrial membrane through the electron c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concentration gradient is generated -positive in the intermembrane sp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the end of the ETC oxygen accepts hydrogen and one electron to form w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ons that passed through the proteins into the cytoplasm flow through ATP synthase into the mitochondrial matri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nergy generated by the proton movement creates ATP by joining ADP and 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 produces 3 ATP per molecu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roduces 2 ATP per molec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143000" y="2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Summary of Electron Transport Chain (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8D43-767A-447F-AB1C-309E8D25A1E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Tahoma"/>
                <a:ea typeface="Tahoma"/>
              </a:rPr>
              <a:t>Summary of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Tahoma"/>
              </a:rPr>
              <a:t> Cellular </a:t>
            </a:r>
            <a:r>
              <a:rPr b="1" lang="en-GB" sz="2800" spc="-1" strike="noStrike">
                <a:solidFill>
                  <a:srgbClr val="0000cc"/>
                </a:solidFill>
                <a:latin typeface="Tahoma"/>
                <a:ea typeface="Tahoma"/>
              </a:rPr>
              <a:t>Respi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76320" y="1127160"/>
            <a:ext cx="89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Glycolysi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ccurs in the cytosol and breaks glucose into two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2280" y="1523880"/>
            <a:ext cx="88394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Krebs Cycl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akes place within the mitochondrial matrix, and break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a pyruvate into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produce some ATP and NAD</a:t>
            </a:r>
            <a:r>
              <a:rPr b="1" lang="en-GB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52280" y="22860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steps of Glycolysis and Krebs Cycle are Redox in which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dehydrogenase enzyme reduces NAD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o 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52280" y="38098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Electron Transport Chain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pts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rom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passes these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br>
              <a:rPr sz="3200"/>
            </a:b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om one protein molecule to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52280" y="4648320"/>
            <a:ext cx="8839440" cy="9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At the end of the chain,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ombine with both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release energ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52280" y="5546880"/>
            <a:ext cx="8991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These energy are used by mitochondria to synthesis 90% of the cellula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TP-synth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 process called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in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the inner membrane of mitochond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52280" y="304812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of ATP is produced at these two steps via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bstrate-level-</a:t>
            </a:r>
            <a:br>
              <a:rPr sz="2000"/>
            </a:b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 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"/>
          <p:cNvPicPr/>
          <p:nvPr/>
        </p:nvPicPr>
        <p:blipFill>
          <a:blip r:embed="rId1"/>
          <a:srcRect l="0" t="0" r="0" b="4567"/>
          <a:stretch/>
        </p:blipFill>
        <p:spPr>
          <a:xfrm>
            <a:off x="227160" y="1488960"/>
            <a:ext cx="8764560" cy="5216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2133720" y="3049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Summary of cell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0:15:58Z</dcterms:created>
  <dc:creator>User</dc:creator>
  <dc:description/>
  <dc:language>en-US</dc:language>
  <cp:lastModifiedBy>HP</cp:lastModifiedBy>
  <dcterms:modified xsi:type="dcterms:W3CDTF">2014-01-07T16:48:23Z</dcterms:modified>
  <cp:revision>1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814B750F-B929-485D-8212-ADFEEC9E5E59</vt:lpwstr>
  </property>
  <property fmtid="{D5CDD505-2E9C-101B-9397-08002B2CF9AE}" pid="3" name="ArticulatePath">
    <vt:lpwstr>Lecture 15</vt:lpwstr>
  </property>
</Properties>
</file>