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D0C-852A-4FEC-93A7-5B47A25A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D71-C369-4016-A8F0-A9169771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B92-5071-4214-B0F2-D8ED08EC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C50-77C0-4702-90D9-AE0D1E79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20B-96BB-45E4-A331-CA82A42B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CD7-F1FE-49AA-AF96-59AB2F1F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AD9-4D58-4655-A555-804CEB25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3CA-68E1-4DF0-9B58-6F2AD5D7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A12-59A7-4417-8623-57EB2E50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A87-92DD-49DF-A195-3698EE2D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435-9FD6-4EBB-B647-69AAE70B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547-A6E4-4740-840D-15DE212A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AF41-9C18-4644-893C-78F058E76A8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pload.wikimedia.org/wikipedia/commons/7/74/Aspergillus_niger_01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Aspergillus_niger" TargetMode="External"/><Relationship Id="rId4" Type="http://schemas.openxmlformats.org/officeDocument/2006/relationships/hyperlink" Target="file:///upload.wikimedia.org/wikipedia/commons/6/66/Penicillium.jpg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en.wikipedia.org/wiki/Penicilliu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تصنيف الفطريات الحقيقية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Classification of Eumycota </a:t>
            </a:r>
            <a:br>
              <a:rPr sz="2800"/>
            </a:b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تصنف الفطريات الحقيقية إلى خمس فئات استناداً إلى طريقة التكاثر، وهذه الفئات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572080" y="450072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4140360" y="4797360"/>
            <a:ext cx="48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ناق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Deute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م يكتشف فيها التكاثر الجنسي بعد ولهذا سميت بهذا الا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ط الفطري (الهيفات) فيها مقس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-141840" y="4803840"/>
            <a:ext cx="419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بازيدية ( الدعامي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Bas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راثيم خارجية، أي تنتج خارجياً في باسيدي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ط الفطري (الهيفات) فيها مقس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-695880" y="1844640"/>
            <a:ext cx="500688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اقترانية (التزاوجي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Zygomycetes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parajita"/>
                <a:cs typeface="Aparajita"/>
              </a:rPr>
              <a:t>الامشاج الجنسية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</a:t>
            </a:r>
            <a:r>
              <a:rPr b="0" lang="ar-SA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 متشابه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parajita"/>
                <a:cs typeface="Aparajita"/>
              </a:rPr>
              <a:t>الخيط الفطري (الهيفات) غير مقسمة مدمج خلو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548240" y="1841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زقية (الاسكي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Ascomy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راثيم ذاتية، أي تنتج داخل أكياس أسكية تسمى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asci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ط الفطري ( الهيفات) مقسم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11360" y="3168720"/>
            <a:ext cx="42102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بيض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O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امشاج الجنسية غير متشابهة، ويجري التمييز بين الامشاج الانثوية (الأوجونيا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gon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والامشاج الذكرية (الانثريدا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heri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parajita"/>
                <a:cs typeface="Aparajita"/>
              </a:rPr>
              <a:t>الخيط الفطري (الهيفات) غير مقسمة مدمج خلو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1499760"/>
            <a:ext cx="8001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*It is a 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saprophytic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 fungus, which can grow on moist bread, stored fruits, vegetables,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    synthetic nutritive medi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*It is called 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bread mould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ince it is mostly seen growing on damp bre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6760" y="2857320"/>
            <a:ext cx="4714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Vegetative structu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The mycelium consists of branched non-septate hyphae, which grow creeping upon the substratum and called stol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Each stolon sends branched rhizoids to the substratum for absorption of the necessary food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Opposite to the rhizoids, clusters of erect aerial sporangiophores   arise, each terminating with a single sporangi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 is full of multinucleated protoplas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714240" y="5716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Rhizopus </a:t>
            </a: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( Black bread mould )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عفن الخُبز الأسود</a:t>
            </a:r>
            <a:br>
              <a:rPr sz="2600"/>
            </a:b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upload.wikimedia.org/wikipedia/commons/9/9a/Structure_of_Rhizopus_spp.-english.JPG"/>
          <p:cNvPicPr/>
          <p:nvPr/>
        </p:nvPicPr>
        <p:blipFill>
          <a:blip r:embed="rId1"/>
          <a:stretch/>
        </p:blipFill>
        <p:spPr>
          <a:xfrm>
            <a:off x="5286240" y="285768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تصنيف الفطريات الحقيقية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Classification of Eumycota </a:t>
            </a:r>
            <a:br>
              <a:rPr sz="2800"/>
            </a:b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True fungi are grouped into </a:t>
            </a:r>
            <a:r>
              <a:rPr b="0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five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 classes based on their </a:t>
            </a:r>
            <a:r>
              <a:rPr b="0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method of reproduction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, these classes are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5480" y="1928520"/>
            <a:ext cx="3429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parajita"/>
                <a:ea typeface="Aparajita"/>
              </a:rPr>
              <a:t>Zygomycetes</a:t>
            </a:r>
            <a:r>
              <a:rPr b="0" lang="en-US" sz="26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 are simi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coenocyti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42920" y="4643280"/>
            <a:ext cx="3429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parajita"/>
                <a:ea typeface="Aparajita"/>
              </a:rPr>
              <a:t>Basidiomyc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Spores are exogenous, i.e. produced externally on basi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5572080" y="200016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parajita"/>
                <a:ea typeface="Aparajita"/>
              </a:rPr>
              <a:t>Ascomys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Spores are endogenous, i.e. produced inside special sacs called asc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ubtitle 2"/>
          <p:cNvSpPr/>
          <p:nvPr/>
        </p:nvSpPr>
        <p:spPr>
          <a:xfrm>
            <a:off x="5572080" y="450072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parajita"/>
                <a:ea typeface="Aparajita"/>
              </a:rPr>
              <a:t>Deuteromyce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parajita"/>
                <a:ea typeface="Aparajita"/>
              </a:rPr>
              <a:t>(Imperfect fung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Its perfect stage or its mode of sexual reproduction is not yet known until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2643120" y="342900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Oomyce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 are dissimilar, being distinguished into female gametangia or oogonia and male gametangia or antheridi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coenocyti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ile:Aspergillus niger 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1158120" y="514368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septated Hyp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Aspergillus n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File:Penicillium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492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655600" y="528624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ated Hyp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enicil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bitun.jpg (4390 bytes)"/>
          <p:cNvPicPr/>
          <p:nvPr/>
        </p:nvPicPr>
        <p:blipFill>
          <a:blip r:embed="rId1"/>
          <a:stretch/>
        </p:blipFill>
        <p:spPr>
          <a:xfrm>
            <a:off x="5786280" y="857160"/>
            <a:ext cx="2086200" cy="4000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5715000" y="5143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Endogenous Spores (Asc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classconnection.s3.amazonaws.com/181/flashcards/794181/png/61334767348994.png"/>
          <p:cNvPicPr/>
          <p:nvPr/>
        </p:nvPicPr>
        <p:blipFill>
          <a:blip r:embed="rId2"/>
          <a:stretch/>
        </p:blipFill>
        <p:spPr>
          <a:xfrm>
            <a:off x="500040" y="785880"/>
            <a:ext cx="4214880" cy="4143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1143000" y="5072040"/>
            <a:ext cx="260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Rhizopu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ar gametan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ascbasid.gif (16053 bytes)"/>
          <p:cNvPicPr/>
          <p:nvPr/>
        </p:nvPicPr>
        <p:blipFill>
          <a:blip r:embed="rId1"/>
          <a:stretch/>
        </p:blipFill>
        <p:spPr>
          <a:xfrm>
            <a:off x="857160" y="500040"/>
            <a:ext cx="71438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t1.gstatic.com/images?q=tbn:ANd9GcRQXdRQd1SHZim6zxh_QY1TY_gn4xwpxJXia6qOqFj2Z1q1NexKnw"/>
          <p:cNvPicPr/>
          <p:nvPr/>
        </p:nvPicPr>
        <p:blipFill>
          <a:blip r:embed="rId1"/>
          <a:stretch/>
        </p:blipFill>
        <p:spPr>
          <a:xfrm>
            <a:off x="1357200" y="928800"/>
            <a:ext cx="6407280" cy="4357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571760" y="557208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Oomycetes (oogonia and antheri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Basipet.gif (6470 bytes)"/>
          <p:cNvPicPr/>
          <p:nvPr/>
        </p:nvPicPr>
        <p:blipFill>
          <a:blip r:embed="rId1"/>
          <a:stretch/>
        </p:blipFill>
        <p:spPr>
          <a:xfrm>
            <a:off x="5143680" y="1143000"/>
            <a:ext cx="3124080" cy="2905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oidium.gif (7367 bytes)"/>
          <p:cNvPicPr/>
          <p:nvPr/>
        </p:nvPicPr>
        <p:blipFill>
          <a:blip r:embed="rId2"/>
          <a:stretch/>
        </p:blipFill>
        <p:spPr>
          <a:xfrm>
            <a:off x="714240" y="928800"/>
            <a:ext cx="4210200" cy="373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3286080" y="50720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Exogenous Spores (coni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الفطريات التزاوجية (الاقترانية)</a:t>
            </a:r>
            <a:br>
              <a:rPr sz="2600"/>
            </a:br>
            <a:r>
              <a:rPr b="1" lang="en-US" sz="2900" spc="-1" strike="noStrike">
                <a:solidFill>
                  <a:srgbClr val="000000"/>
                </a:solidFill>
                <a:latin typeface="Aparajita"/>
                <a:ea typeface="Aparajita"/>
              </a:rPr>
              <a:t>Class: Zygomycetes</a:t>
            </a:r>
            <a:r>
              <a:rPr b="0" lang="en-US" sz="29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3716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e are coenocytic ( non-septate) without cross walls except where the reproductive organs are c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e are filled or lined with continuous multinucleated protopla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is class includes both parasitic and saprophytic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92080" y="206064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وط الفطرية (الهيفا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دمج خلوي (غير مقسمة ) عبر الجدران باستثناء مكان القطع في الأعضاء التناسلية عبر الجدران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وط الفطرية مليئة  أو مصطفة  بالانوية العديدة والبروتوبلاز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هذه الفئة تتضمن كلا من  الأنواع الطفيلية والمترممة على السوا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714240" y="5716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558ed5"/>
                </a:solidFill>
                <a:latin typeface="Aparajita"/>
                <a:ea typeface="Aparajita"/>
              </a:rPr>
              <a:t>Rhizopus </a:t>
            </a:r>
            <a:r>
              <a:rPr b="1" lang="en-US" sz="2600" spc="-1" strike="noStrike">
                <a:solidFill>
                  <a:srgbClr val="558ed5"/>
                </a:solidFill>
                <a:latin typeface="Aparajita"/>
                <a:ea typeface="Aparajita"/>
              </a:rPr>
              <a:t> ( Black bread mould ) </a:t>
            </a:r>
            <a:r>
              <a:rPr b="1" lang="ar-SA" sz="2600" spc="-1" strike="noStrike">
                <a:solidFill>
                  <a:srgbClr val="558ed5"/>
                </a:solidFill>
                <a:latin typeface="Aparajita"/>
                <a:cs typeface="Aparajita"/>
              </a:rPr>
              <a:t>عفن الخُبز الأسود</a:t>
            </a:r>
            <a:br>
              <a:rPr sz="2600"/>
            </a:b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upload.wikimedia.org/wikipedia/commons/9/9a/Structure_of_Rhizopus_spp.-english.JPG"/>
          <p:cNvPicPr/>
          <p:nvPr/>
        </p:nvPicPr>
        <p:blipFill>
          <a:blip r:embed="rId1"/>
          <a:stretch/>
        </p:blipFill>
        <p:spPr>
          <a:xfrm>
            <a:off x="5864400" y="3645000"/>
            <a:ext cx="3071520" cy="28573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042920" y="1773360"/>
            <a:ext cx="7399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طر الريزوبس من الفطريات المترم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ي يمكن أن تنمو على الخبز الرطب والفواكة المخزنة والخضروات ، والاوساط المغذية الصناع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سمى عفن الخبز نظراً لأنها أغلب نموها على الخبز المبل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9280" y="3343320"/>
            <a:ext cx="551340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تركيب الخضر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الغزل الفطري يكون فيها الهيفات متفرعة وغير مقسمة  التي تنمو زاحفة عند الطبقة التحتية ، ويسمى رئ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سل كل شعير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hizo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اصات شبة جذرية متفرعة إلى الطبقة السفلى لامتصاص المواد الغذائية الضرور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قابل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izo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نشأ مجموعة من الحامل البوغي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porangiophor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والنهايات تحتوي على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porong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اح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هيفات مملوءة من البروتوبلاست متعددة الانو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6:57:59Z</dcterms:created>
  <dc:creator>DELL</dc:creator>
  <dc:description/>
  <dc:language>en-US</dc:language>
  <cp:lastModifiedBy>Naiyf Alharbi</cp:lastModifiedBy>
  <cp:lastPrinted>2013-11-06T11:29:21Z</cp:lastPrinted>
  <dcterms:modified xsi:type="dcterms:W3CDTF">2013-12-28T19:24:13Z</dcterms:modified>
  <cp:revision>25</cp:revision>
  <dc:subject/>
  <dc:title>Classification of Eumycophyta   True fungi are grouped into five classes based on their method of reproduction, these classes are :</dc:title>
</cp:coreProperties>
</file>