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24D-8D2A-43B8-A100-5E079CD6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05F-50AF-40A4-B81F-7698D1A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7EE-55A6-4C4E-AEC8-17012EC7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CF9-C24E-4A49-9462-18A9275A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F75-E8B5-4304-9F36-E1FF3DB8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0B8-7835-4F27-AEB8-27DDF64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E91-CAF9-4E69-9374-D1EE1A4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B7A-211A-46A6-8C86-4EBF9B4E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F05-FEFF-4561-AC3A-00DC0523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68B-B119-47A4-A80A-0F6531AD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996-7EF6-4103-82C3-A04165B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B0D-B345-4844-9CF0-7548352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406-0CB6-47FA-8B0C-3A9F8EF735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pload.wikimedia.org/wikipedia/commons/7/74/Aspergillus_niger_0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Aspergillus_niger" TargetMode="External"/><Relationship Id="rId4" Type="http://schemas.openxmlformats.org/officeDocument/2006/relationships/hyperlink" Target="file:///upload.wikimedia.org/wikipedia/commons/6/66/Penicillium.jpg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en.wikipedia.org/wiki/Penicilliu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صنف الفطريات الحقيقية إلى خمس فئات استناداً إلى طريقة التكاثر، وهذه الفئا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140360" y="4797360"/>
            <a:ext cx="48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ناق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م يكتشف فيها التكاثر الجنسي بعد ولهذا سميت بهذا ال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41840" y="4803840"/>
            <a:ext cx="419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ازيدية ( الدعام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خارجية، أي تنتج خارجياً في باسيدي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695880" y="1844640"/>
            <a:ext cx="500688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اقترانية (التزاوج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امشاج الجنسية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</a:t>
            </a:r>
            <a:r>
              <a:rPr b="0" lang="ar-SA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 متشابه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548240" y="184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زقية (الاسك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ذاتية، أي تنتج داخل أكياس أسكية تسمى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as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 الهيفات) مقسم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11360" y="3168720"/>
            <a:ext cx="4210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يض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امشاج الجنسية غير متشابهة، ويجري التمييز بين الامشاج الانثوية (الأوجوني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go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والامشاج الذكرية (الانثريد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heri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001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a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fungus, which can grow on moist bread, stored fruits, vegetables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   synthetic nutritive medi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called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bread mould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ince it is mostly seen growing on damp br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2857320"/>
            <a:ext cx="4714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Vegetative stru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mycelium consists of branched non-septate hyphae, which grow creeping upon the substratum and called st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Each stolon sends branched rhizoids to the substratum for absorption of the necessary food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Opposite to the rhizoids, clusters of erect aerial sporangiophores   arise, each terminating with a single sporang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 is full of multinucleated protopla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286240" y="285768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True fungi are grouped into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 classes based on their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method of reproduction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, these classes are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5480" y="1928520"/>
            <a:ext cx="3429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simi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42920" y="4643280"/>
            <a:ext cx="3429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xogenous, i.e. produced externally on basi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572080" y="200016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ndogenous, i.e. produced inside special sacs called as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(Imperfect fung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Its perfect stage or its mode of sexual reproduction is not yet known until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643120" y="342900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dissimilar, being distinguished into female gametangia or oogonia and male gametangia or antherid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Aspergillus niger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158120" y="51436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Aspergillus n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ile:Penicillium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655600" y="52862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enicil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itun.jpg (4390 bytes)"/>
          <p:cNvPicPr/>
          <p:nvPr/>
        </p:nvPicPr>
        <p:blipFill>
          <a:blip r:embed="rId1"/>
          <a:stretch/>
        </p:blipFill>
        <p:spPr>
          <a:xfrm>
            <a:off x="5786280" y="857160"/>
            <a:ext cx="2086200" cy="4000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715000" y="5143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ndogenous Spores (As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classconnection.s3.amazonaws.com/181/flashcards/794181/png/61334767348994.png"/>
          <p:cNvPicPr/>
          <p:nvPr/>
        </p:nvPicPr>
        <p:blipFill>
          <a:blip r:embed="rId2"/>
          <a:stretch/>
        </p:blipFill>
        <p:spPr>
          <a:xfrm>
            <a:off x="500040" y="78588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143000" y="5072040"/>
            <a:ext cx="260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Rhizopu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gametan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scbasid.gif (16053 bytes)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t1.gstatic.com/images?q=tbn:ANd9GcRQXdRQd1SHZim6zxh_QY1TY_gn4xwpxJXia6qOqFj2Z1q1NexKnw"/>
          <p:cNvPicPr/>
          <p:nvPr/>
        </p:nvPicPr>
        <p:blipFill>
          <a:blip r:embed="rId1"/>
          <a:stretch/>
        </p:blipFill>
        <p:spPr>
          <a:xfrm>
            <a:off x="1357200" y="928800"/>
            <a:ext cx="6407280" cy="4357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571760" y="55720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Oomycetes (oogonia and anther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Basipet.gif (6470 bytes)"/>
          <p:cNvPicPr/>
          <p:nvPr/>
        </p:nvPicPr>
        <p:blipFill>
          <a:blip r:embed="rId1"/>
          <a:stretch/>
        </p:blipFill>
        <p:spPr>
          <a:xfrm>
            <a:off x="5143680" y="1143000"/>
            <a:ext cx="312408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oidium.gif (7367 bytes)"/>
          <p:cNvPicPr/>
          <p:nvPr/>
        </p:nvPicPr>
        <p:blipFill>
          <a:blip r:embed="rId2"/>
          <a:stretch/>
        </p:blipFill>
        <p:spPr>
          <a:xfrm>
            <a:off x="714240" y="928800"/>
            <a:ext cx="4210200" cy="373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286080" y="5072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xogenous Spores (con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تزاوجية (الاقترانية)</a:t>
            </a:r>
            <a:br>
              <a:rPr sz="2600"/>
            </a:br>
            <a:r>
              <a:rPr b="1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Class: Zygomycetes</a:t>
            </a:r>
            <a:r>
              <a:rPr b="0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371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coenocytic ( non-septate) without cross walls except where the reproductive organs are c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filled or lined with continuous multinucleated protopl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is class includes both parasitic and saprophytic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92080" y="20606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(الهيفا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دمج خلوي (غير مقسمة ) عبر الجدران باستثناء مكان القطع في الأعضاء التناسلية عبر الجدران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ليئة  أو مصطفة  بالانوية العديدة والبروتوبلاز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هذه الفئة تتضمن كلا من  الأنواع الطفيلية والمترممة على السو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558ed5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864400" y="3645000"/>
            <a:ext cx="3071520" cy="2857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042920" y="1773360"/>
            <a:ext cx="739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ريزوبس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يمكن أن تنمو على الخبز الرطب والفواكة المخزنة والخضروات ، والاوساط المغذية الصناع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سمى عفن الخبز نظراً لأنها أغلب نموها على الخبز المبل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9280" y="3343320"/>
            <a:ext cx="55134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تركيب الخضر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غزل الفطري يكون فيها الهيفات متفرعة وغير مقسمة  التي تنمو زاحفة عند الطبقة التحتية ، ويسمى ر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سل كل شعير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اصات شبة جذرية متفرعة إلى الطبقة السفلى لامتصاص المواد الغذائية الضرو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قاب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نشأ مجموعة من الحامل البوغي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angiophor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والنهايات تحتوي على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on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اح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هيفات مملوءة من البروتوبلاست متعددة الان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57:59Z</dcterms:created>
  <dc:creator>DELL</dc:creator>
  <dc:description/>
  <dc:language>en-US</dc:language>
  <cp:lastModifiedBy>Naiyf Alharbi</cp:lastModifiedBy>
  <cp:lastPrinted>2013-11-06T11:29:21Z</cp:lastPrinted>
  <dcterms:modified xsi:type="dcterms:W3CDTF">2013-12-28T19:24:13Z</dcterms:modified>
  <cp:revision>25</cp:revision>
  <dc:subject/>
  <dc:title>Classification of Eumycophyta   True fungi are grouped into five classes based on their method of reproduction, these classes are :</dc:title>
</cp:coreProperties>
</file>