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757-C24A-41C6-9286-58777E77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99F-1690-463A-842B-0EB8EE4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916-F73B-45C5-86FF-305B0838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DEF-BAF7-488C-AE75-7F2A16F5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8B0-6BCA-41DF-B511-6EF78F1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346-418F-4139-AE5B-F0264731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F28-5297-410A-8045-81E86F3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3C0-2F3E-4420-9962-DD3A9B0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AA8-7D52-4836-A545-2A7C8FFC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33-2FF7-4053-B5C1-A23943A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974-C545-449F-AF40-888D676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661-4189-4F4E-A807-887A28E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66E7-08FD-40EF-B9CD-9CAB353579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62CC-75B8-4903-926A-F4FEDEB38E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82EC-004B-4DEF-B436-8DD7793A93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2CA0-B470-4F8F-AF4B-DCB2BF652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415-DCA8-4C11-8852-A9F0699EFE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304-88C9-4048-8AB4-22BD0D61C5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093B-B91B-459B-B6AA-31E1DDC18E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798D-D1F7-4CE9-AA71-6BE279C256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electron pathway food→NADH→ETC→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B93-DFA4-4914-85A0-2B3EF06BAF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User</cp:lastModifiedBy>
  <dcterms:modified xsi:type="dcterms:W3CDTF">2014-01-04T05:08:51Z</dcterms:modified>
  <cp:revision>166</cp:revision>
  <dc:subject/>
  <dc:title>Slide 1</dc:title>
</cp:coreProperties>
</file>