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BCE8-8335-4A54-B471-08215F2D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4B79-080D-44EE-AADF-BBA744F5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FFC-7A2C-4D49-830B-739CABE4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7D3-895C-463A-8F35-FF33FA4B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B538-AA98-434D-A6A5-305D96E1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1E9B-C90F-4D9C-BEF4-0A4E4886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909-11B4-472C-9A21-3FB8F98D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974-DD8B-44DE-82FA-38B5A1B3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C0F5-469D-4060-9B9A-EFD688B9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57F-9EFD-4015-BB29-73D3CB3A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C9EF-F26C-4580-8660-0092AB41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16B-148C-4455-8E9C-61453D16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E754-D629-4C8B-9DCB-AD94493487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B9CE-3FD6-44DA-A456-5E618DD850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40400" y="1225080"/>
            <a:ext cx="7783920" cy="5023080"/>
            <a:chOff x="140400" y="1225080"/>
            <a:chExt cx="7783920" cy="502308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6680" y="1606680"/>
              <a:ext cx="7127640" cy="46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11200" y="1774080"/>
              <a:ext cx="2396520" cy="20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34760" y="2023200"/>
              <a:ext cx="210672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86000"/>
            <a:ext cx="7696440" cy="4114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371600" y="1600200"/>
            <a:ext cx="6248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tive Phosphorylation and the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64306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4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14E0-19D4-4EF1-B3F7-8ED475C64B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152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finitions</a:t>
            </a:r>
            <a:r>
              <a:rPr b="1" lang="en-GB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508040"/>
            <a:ext cx="86868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, is the process in which ATP synthesis powered by the flow of H+ back across ATP syntha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52280" y="4495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548640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366920"/>
            <a:ext cx="8915400" cy="56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lycolysis, glucose is oxidized to 2 pyruvate molecules with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the oxidizing agent (not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energy from this oxidation produce 2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generates 2 ATP when oxygen is absent (anaerob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اهو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erobic catabolism of sugars can occur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ermentation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ab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0453-9EB0-4332-BA0D-3E710CC3DF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sca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respira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During exercise our bodies require a lo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can only supply a limited amount of oxygen for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not produced at the rate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will use anaerobic respiration to release extra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duces lactic acid (a waste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We use yeast to make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causes bread to rise by creating air p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thanol (alcohol) produced evaporated during b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remains in the cytoplasm (no link reaction, no Krebs cy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is converted into waste and removed from the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P is produced (except from glycoly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 the waste=lactate (lactic ac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east the waste=ethanol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e pyruvate is converted into waste, the cells can go through glycolysi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yruvate was not converted into waste the cells would not go through glyco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lycolysis produces pyruvate.  If it is already present there is no reason to make more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t and Protein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ve more energy per gram than carbohydrates or proteins (~2x as m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atty acid chains are oxidized and broken into smaller 2 carbon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he 2 carbon chains are converted into acetyl CoA to enter the Kreb’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ust be converted into individual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xcess amino acids are converted by enzymes into intermediated of glycolysis and Kreb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mino acids go through deamination (amino groups ar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itrogenous wastes from the amino groups are released as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w compounds enter glycolysis or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43FB-F3CE-411F-9591-47A6388E5E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152280" y="2509920"/>
            <a:ext cx="4191120" cy="4119480"/>
            <a:chOff x="152280" y="2509920"/>
            <a:chExt cx="4191120" cy="411948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5"/>
            <p:cNvSpPr/>
            <p:nvPr/>
          </p:nvSpPr>
          <p:spPr>
            <a:xfrm>
              <a:off x="560160" y="6338880"/>
              <a:ext cx="1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39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Electron transport cha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866120" y="3420000"/>
            <a:ext cx="4277520" cy="3209040"/>
            <a:chOff x="4866120" y="3420000"/>
            <a:chExt cx="4277520" cy="3209040"/>
          </a:xfrm>
        </p:grpSpPr>
        <p:pic>
          <p:nvPicPr>
            <p:cNvPr id="55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585240"/>
              <a:ext cx="38264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Oval 9"/>
            <p:cNvSpPr/>
            <p:nvPr/>
          </p:nvSpPr>
          <p:spPr>
            <a:xfrm rot="18849000">
              <a:off x="5022000" y="381672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250320" y="385848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914400" y="5335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inner mitochondrial membrane couples electron transport to ATP synthesis (90% of A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CD0F-DD1D-484D-95B9-19623A3D09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7E19-32AA-4E6C-811F-54F8489AD1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CE5A-45F4-4578-A754-79E51E93EC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9907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60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   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    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Glycolysis and Krebs cycle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substrate-level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 bottom line of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ellular respiration generates many ATP molecules for each sugar molecule it oxid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7216920" y="1860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8305920" y="1828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6629400" y="2133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3843360" y="2155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electron pathway food→NADH→ETC→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C is a series of electron carriers located in the inner membrane of the 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 supplies two electrons to the ETC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2H→ NADH + 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ETC electrons move through the chain reducing and oxidizing the molecules as they p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TC is made mostly of 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ADH molecules transport the electrons to the ETC -FAD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dded at a lower energy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lectrons move down the mitochondrial membrane through the electron carr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ncentration gradient is generated -positive in the intermembran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end of the ETC oxygen accepts hydrogen and one electron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ons that passed through the proteins into the cytoplasm flow through ATP synthase into the mitochondrial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nergy generated by the proton movement creates ATP by joining ADP and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 produces 3 ATP per molec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duces 2 ATP per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Electron Transport Chain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70E5-88EE-43EA-A76D-459E93683A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Summary of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 Cellular </a:t>
            </a: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6320" y="112716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15238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22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wo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227160" y="1488960"/>
            <a:ext cx="8764560" cy="5216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133720" y="304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User</cp:lastModifiedBy>
  <dcterms:modified xsi:type="dcterms:W3CDTF">2014-01-04T05:08:51Z</dcterms:modified>
  <cp:revision>166</cp:revision>
  <dc:subject/>
  <dc:title>Slide 1</dc:title>
</cp:coreProperties>
</file>