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45D-E6CD-4AA1-BE43-E99A554C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4F5-AD02-4A05-9FDC-DB689A1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6D6-78C2-4DC3-9D9D-2A6022BA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EC8-7785-449B-BA83-25D9668B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1780-C168-4769-B1C7-ACD4B1D0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BEFF-581F-48B0-B335-233A6E91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7F89-846C-4A12-A970-AE8F68EF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8A37-E283-4875-AB7A-FB1E3B79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AD7C-A804-401A-AA6C-C1218539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1DA2-29E0-4EB3-B54E-4CDFC7E2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7A02-7B26-40B4-B751-526F7F5F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444-1BD5-450E-B869-0DC40913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B7D8-E1D6-40AD-B76A-5045C3E0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F427-9B61-4696-9973-54C37A98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DB2E-4958-41C0-B242-2E476CB7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2B5-E7EF-44D7-954D-F863B896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66D7-B9A1-4344-B6E7-98D375B2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EEA-FBCD-4334-85B0-26D31087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5D1-5079-4B4D-AB2B-2A4DEC2A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BAA-782B-4398-8871-A1EBCE93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27B-64AC-47D6-94D0-43B87075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618-0272-4E2B-B211-031864D3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579-5E85-4BB3-A8BF-AD3A7B18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D06-DDA3-4C82-80E2-480E28E4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A609-F9B1-42D2-B7BF-73609704A8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870E-DCC1-4C84-9B80-71CB2487A1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http://users.rcn.com/jkimball.ma.ultranet/BiologyPages/S/sarcomere.gif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553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1066680" y="3207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 Band = actin fila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tomy of a Sarcom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ck filam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oduce the dark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b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 filam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xtend in each direction from the Z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they do not overlap the thick filaments, they create the ligh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b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 z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at portion of the A band where the thick and thin filaments do not over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ntire array of thick and thin filaments between the Z lines is called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rcom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rcomere shortens when muscle con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ening of the sarcomeres in a myofibril produces the shortening of the myofibr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, in turn, of the muscle fibre of which it is a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5181480" y="1752480"/>
          <a:ext cx="3962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752480"/>
                    <a:ext cx="396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echanism of muscle con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42670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bove micrographs show that the sarcomere gets shorter when the muscle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ight (I) bands become sho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ark bands (A) bands stay the sam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8003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62120" y="990720"/>
          <a:ext cx="83818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3818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Sliding Filamen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when the muscle contracts, sarcomeres become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 the filaments do not change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they slide past each other (overl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actin filaments slide between myosin fil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 zone of overlap is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responsible for almost all the movements in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730600" y="2622600"/>
          <a:ext cx="4178160" cy="309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0600" y="2622600"/>
                    <a:ext cx="417816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scles &amp; the Skele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eletal muscles cause the skeleton to move at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attached to skeleton by tend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sc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muscle e.g. biceps contains approx 1000 muscle fib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fibres run the whole length of the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cle fibres are joined together at the ten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6050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5562720" y="2514600"/>
          <a:ext cx="3200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514600"/>
                    <a:ext cx="3200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7"/>
          <p:cNvSpPr/>
          <p:nvPr/>
        </p:nvSpPr>
        <p:spPr>
          <a:xfrm>
            <a:off x="617220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icep Musc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sc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4724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muscle fibre is actually a single muscl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ell is approx 100 </a:t>
            </a:r>
            <a:r>
              <a:rPr b="0" lang="en-GB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 in diameter &amp; a few c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giant cells have many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cytoplasm is packed full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yofibr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bundles of protein filaments that cause con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rcoplasm (muscle cytoplasm) also contains mitochondria to provide energy for con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48624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5562720" y="1886040"/>
          <a:ext cx="358128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86040"/>
                    <a:ext cx="35812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5838840" y="0"/>
          <a:ext cx="330516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8840" y="0"/>
                    <a:ext cx="33051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9" descr="G:\My Pictures\muscle1.jpg"/>
          <p:cNvPicPr/>
          <p:nvPr/>
        </p:nvPicPr>
        <p:blipFill>
          <a:blip r:embed="rId5"/>
          <a:stretch/>
        </p:blipFill>
        <p:spPr>
          <a:xfrm>
            <a:off x="6130800" y="4270320"/>
            <a:ext cx="30132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G:\My Pictures\amuscle.jpg"/>
          <p:cNvPicPr/>
          <p:nvPr/>
        </p:nvPicPr>
        <p:blipFill>
          <a:blip r:embed="rId1"/>
          <a:srcRect l="0" t="31512" r="0" b="0"/>
          <a:stretch/>
        </p:blipFill>
        <p:spPr>
          <a:xfrm>
            <a:off x="0" y="0"/>
            <a:ext cx="89866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Thick Filament (Myos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4434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2577960" y="1395360"/>
          <a:ext cx="40388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7960" y="1395360"/>
                    <a:ext cx="40388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1419120" y="4992840"/>
          <a:ext cx="701064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19120" y="4992840"/>
                    <a:ext cx="70106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2"/>
          <p:cNvSpPr/>
          <p:nvPr/>
        </p:nvSpPr>
        <p:spPr>
          <a:xfrm>
            <a:off x="1066680" y="4311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 Filament (Actin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Sarcom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1621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2" name="Object 12"/>
          <p:cNvGraphicFramePr/>
          <p:nvPr/>
        </p:nvGraphicFramePr>
        <p:xfrm>
          <a:off x="1066680" y="1219320"/>
          <a:ext cx="80773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80773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G:\My Pictures\9.58a.jpg"/>
          <p:cNvPicPr/>
          <p:nvPr/>
        </p:nvPicPr>
        <p:blipFill>
          <a:blip r:embed="rId1"/>
          <a:srcRect l="1722" t="0" r="2216" b="0"/>
          <a:stretch/>
        </p:blipFill>
        <p:spPr>
          <a:xfrm>
            <a:off x="800280" y="514440"/>
            <a:ext cx="834372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0:44:21Z</dcterms:created>
  <dc:creator>St Mary's College</dc:creator>
  <dc:description/>
  <dc:language>en-US</dc:language>
  <cp:lastModifiedBy>habdrabou</cp:lastModifiedBy>
  <dcterms:modified xsi:type="dcterms:W3CDTF">2016-12-21T07:05:53Z</dcterms:modified>
  <cp:revision>47</cp:revision>
  <dc:subject/>
  <dc:title>Muscles</dc:title>
</cp:coreProperties>
</file>