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wmf" ContentType="image/x-wmf"/>
  <Override PartName="/ppt/media/image9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3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AA6-00B9-4BCD-9E0F-091A7524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3A4-C59D-4798-A83B-4D3E3D18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C07-DA3B-49E6-9CB8-13DD6DA6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9A1-3DE3-4E0A-B6A7-EE837679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E8C4-7195-44F6-ADD8-F7074483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844A-5D94-4533-901C-7E59C2B5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240F-AC35-4418-8B15-9477E680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71B6-66B8-4AD3-804E-2EB3E162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7B8F-2ED0-47BA-BA53-F2381823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7ADE-F77E-4AC5-A262-AE32074D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E697-14BC-4054-8F8B-C9DEB0A0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4B9-8C0D-4D13-BA0F-8F9FE025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C98D-C253-4C51-B9AC-D02AB4A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20CD-D818-4AEC-952C-2C37F509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AE7E-BED0-434C-9721-0338D231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070D-767B-4E65-A496-35FECA46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5708-8886-47DE-8BF6-9700613F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CAB-063F-4B62-9125-EFE88711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1FC-547E-45D7-BE9C-E7B3A326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1B1-31FF-4A9E-B4E6-2562EF31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6F9-916B-41DE-B8D6-D8263465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E1F-BEA9-4935-B7F8-2E4978D2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329-044E-4390-BE37-F2EF58A4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32F-EDB2-435B-8671-A68D30B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6CF4-BD01-43C1-835D-B3BCEC264B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prstGeom prst="pi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prstGeom prst="pi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0EA5-0A51-44CC-B677-E9ABFC5AB9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http://users.rcn.com/jkimball.ma.ultranet/BiologyPages/S/sarcomere.gif"/>
          <p:cNvPicPr/>
          <p:nvPr/>
        </p:nvPicPr>
        <p:blipFill>
          <a:blip r:embed="rId1"/>
          <a:stretch/>
        </p:blipFill>
        <p:spPr>
          <a:xfrm>
            <a:off x="838080" y="0"/>
            <a:ext cx="8305920" cy="6553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1066680" y="3207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 Band = actin filamen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tomy of a Sarcom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ck filam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oduce the dark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ba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in filamen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xtend in each direction from the Z l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they do not overlap the thick filaments, they create the light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 ba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 z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that portion of the A band where the thick and thin filaments do not overla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ntire array of thick and thin filaments between the Z lines is called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rcom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arcomere shortens when muscle contr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ening of the sarcomeres in a myofibril produces the shortening of the myofibr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, in turn, of the muscle fibre of which it is a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5181480" y="1752480"/>
          <a:ext cx="39625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752480"/>
                    <a:ext cx="3962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echanism of muscle cont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426708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bove micrographs show that the sarcomere gets shorter when the muscle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ight (I) bands become sho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ark bands (A) bands stay the sam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80036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762120" y="990720"/>
          <a:ext cx="83818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3818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Sliding Filament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, when the muscle contracts, sarcomeres become sm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 the filaments do not change in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they slide past each other (overl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actin filaments slide between myosin fila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 zone of overlap is l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responsible for almost all the movements in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730600" y="2622600"/>
          <a:ext cx="4178160" cy="309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0600" y="2622600"/>
                    <a:ext cx="4178160" cy="30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scles &amp; the Skele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eletal muscles cause the skeleton to move at j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attached to skeleton by tend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scl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ngle muscle e.g. biceps contains approx 1000 muscle fib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fibres run the whole length of the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cle fibres are joined together at the tend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60504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5562720" y="2514600"/>
          <a:ext cx="3200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514600"/>
                    <a:ext cx="3200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7"/>
          <p:cNvSpPr/>
          <p:nvPr/>
        </p:nvSpPr>
        <p:spPr>
          <a:xfrm>
            <a:off x="617220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icep Musc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uscl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4724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muscle fibre is actually a single muscl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cell is approx 100 </a:t>
            </a:r>
            <a:r>
              <a:rPr b="0" lang="en-GB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 in diameter &amp; a few c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giant cells have many nuc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ir cytoplasm is packed full of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yofibr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bundles of protein filaments that cause con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rcoplasm (muscle cytoplasm) also contains mitochondria to provide energy for con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48624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7" name="Object 5"/>
          <p:cNvGraphicFramePr/>
          <p:nvPr/>
        </p:nvGraphicFramePr>
        <p:xfrm>
          <a:off x="5562720" y="1886040"/>
          <a:ext cx="358128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886040"/>
                    <a:ext cx="358128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8"/>
          <p:cNvGraphicFramePr/>
          <p:nvPr/>
        </p:nvGraphicFramePr>
        <p:xfrm>
          <a:off x="5838840" y="0"/>
          <a:ext cx="330516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8840" y="0"/>
                    <a:ext cx="33051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9" descr="G:\My Pictures\muscle1.jpg"/>
          <p:cNvPicPr/>
          <p:nvPr/>
        </p:nvPicPr>
        <p:blipFill>
          <a:blip r:embed="rId5"/>
          <a:stretch/>
        </p:blipFill>
        <p:spPr>
          <a:xfrm>
            <a:off x="6130800" y="4270320"/>
            <a:ext cx="30132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G:\My Pictures\amuscle.jpg"/>
          <p:cNvPicPr/>
          <p:nvPr/>
        </p:nvPicPr>
        <p:blipFill>
          <a:blip r:embed="rId1"/>
          <a:srcRect l="0" t="31512" r="0" b="0"/>
          <a:stretch/>
        </p:blipFill>
        <p:spPr>
          <a:xfrm>
            <a:off x="0" y="0"/>
            <a:ext cx="89866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Thick Filament (Myosi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4434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2577960" y="1395360"/>
          <a:ext cx="403884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7960" y="1395360"/>
                    <a:ext cx="403884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6"/>
          <p:cNvGraphicFramePr/>
          <p:nvPr/>
        </p:nvGraphicFramePr>
        <p:xfrm>
          <a:off x="1419120" y="4992840"/>
          <a:ext cx="701064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19120" y="4992840"/>
                    <a:ext cx="70106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2"/>
          <p:cNvSpPr/>
          <p:nvPr/>
        </p:nvSpPr>
        <p:spPr>
          <a:xfrm>
            <a:off x="1066680" y="43117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 Filament (Actin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Sarcom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216216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32" name="Object 12"/>
          <p:cNvGraphicFramePr/>
          <p:nvPr/>
        </p:nvGraphicFramePr>
        <p:xfrm>
          <a:off x="1066680" y="1219320"/>
          <a:ext cx="80773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80773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G:\My Pictures\9.58a.jpg"/>
          <p:cNvPicPr/>
          <p:nvPr/>
        </p:nvPicPr>
        <p:blipFill>
          <a:blip r:embed="rId1"/>
          <a:srcRect l="1722" t="0" r="2216" b="0"/>
          <a:stretch/>
        </p:blipFill>
        <p:spPr>
          <a:xfrm>
            <a:off x="800280" y="514440"/>
            <a:ext cx="834372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0:44:21Z</dcterms:created>
  <dc:creator>St Mary's College</dc:creator>
  <dc:description/>
  <dc:language>en-US</dc:language>
  <cp:lastModifiedBy>habdrabou</cp:lastModifiedBy>
  <dcterms:modified xsi:type="dcterms:W3CDTF">2016-12-21T07:05:53Z</dcterms:modified>
  <cp:revision>47</cp:revision>
  <dc:subject/>
  <dc:title>Muscles</dc:title>
</cp:coreProperties>
</file>