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B27-20BE-461B-BE5D-C4570A42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52C-DD84-4F79-873D-452BE3FE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A3D-43D5-43A0-BDFF-2C29D518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FC6-C530-4230-AA8E-083B12A4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8A47-0437-4547-AD24-EAD99776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F62E-590C-400B-A8FB-562824B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39CB-8CDF-4482-B36E-1050A196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FA3F-5E1C-46C2-9BC3-A48328F2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4594-4579-4B08-A965-0F23FC2D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33EE-4A9C-4E50-A0D3-83EBFD5E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F5B7-E654-4D73-AAAA-8E5545D9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A29-B4F6-4BE1-B991-670CF27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4D91-900A-4E41-A439-AC64FA87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36B9-55D5-4BC5-8C78-D79CDD92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B2E5-B4BD-4A87-A23E-54C6EF8D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8FE3-163A-41E8-B607-2F6AB15A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3993-638D-4073-A657-1114AEE2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0BE4-9621-4866-919E-4742388E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53E7-3649-4B9D-9E5B-BD9710A0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89D9-8CE1-4D50-90D9-E3C9DCCC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4EC2-5E38-48C5-9DA8-69DF89EB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C69B-339D-45EE-BF62-834486E5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4B2-64DB-46CC-83A7-ACB8897E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F944-CE81-4470-831D-B4228A29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C6FA-A933-4025-AA17-FF0C14B0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B75E0-8A5C-4611-8939-85DE5387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06F7-23DD-45ED-8B16-6EC24BCB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C4DC-E345-4C18-B8B4-B3DB1CAE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1B09D-6254-4379-ACB1-1EF8B196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875E-1B2E-44B4-9793-78CAF5D1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289B-2F52-45A2-809B-90D56E21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E411F-8A31-4802-9E21-228A0339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C4F6B-C178-4934-90E3-49EB79BF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54D-CC65-46E1-B75C-5400C0A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0625-D9D7-42D9-B391-23B479E0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7DF3A-B3CC-4197-B0D1-C65D8934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CC0E-3375-4BF4-A34D-822E004D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760C-D986-4D9A-9A68-741B3CA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6AE2-BB5E-4038-BEEE-AC0D554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1BC9-2443-4B22-A3AE-DAED21E1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2FF0-A979-464C-B64F-024BB8FE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9FFC5-1A2D-4524-87F2-0281B2F5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BC74F-895F-45F9-AB45-0DF41026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11C-3A0A-4469-A69B-DE9A4741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14E-E35E-48C3-A583-887171B8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602-0D2E-4806-A367-C530ABF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B02-F228-429A-A5CA-5AF4AB98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D38-93C8-431F-A7CA-7C723E4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7871-F849-4100-B86D-1ED3FD868D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6C64-3FE6-459A-B78D-81E6AC93A67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BCC8-93A8-4D36-BA83-5A3436D71F8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851D-A3AB-417F-A98B-0E5430A95A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107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3:30Z</dcterms:modified>
  <cp:revision>316</cp:revision>
  <dc:subject/>
  <dc:title>Nerve activates contraction</dc:title>
</cp:coreProperties>
</file>