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A1FD-9875-40A2-85BA-8B45E4D4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CF0-A8DA-42BA-8A24-972EAEE9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A0C-CB60-409B-848C-9158DF00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2D1-4D62-4CC2-8421-53334A1F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0D97-7733-4995-87B6-9CD18F24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F427-3030-4C3C-A061-BCB4898A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D5B3-547D-4681-B37E-6D4967A3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4DEB-E5B6-49E6-A95F-794594D7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CE0A-4364-4404-A312-872047A3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1227-8F3E-4E06-A3E2-DF8A194B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8B6A-472D-4B5A-B8E3-1DA2B1A7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0F32-1106-4B66-A4C3-7EF4A1C1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AFA6-8707-4924-9B65-80CAD26E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6CAE-C862-4898-8EB1-630FFA75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7C4E-E975-451F-8A32-0B901F4C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9A22-6CF3-4A4B-95FB-CB972DFC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3A5C-62D6-42D3-ADB0-92D1BE59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91C1E-6F27-4EE6-95D0-9DB56191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D4FAD-39D8-458B-A9E7-0788E7AF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F307B-5E7D-4DBB-B7A7-494679A7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B8D9A-8629-4555-A655-C3055D1D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7CCC6-F535-483C-AA87-182E0AFD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CF4E-290E-4D51-B302-B7F7A3AF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07A40-72F1-4D64-9730-AA8B5076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BCE1F-5EF3-4D52-8C94-3221A3E7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58ABB-1114-417F-91AE-D23744E4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24F59-1D98-4F60-AAB0-5BE0746B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33796-9190-4723-8272-916FB85A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2A1AC-9B90-421D-A56B-6FECD598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7CD3F-5475-4D91-B72E-4029BBE0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2F357-01DE-40EA-A768-D78C4289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E5EC0-BC0A-4566-BB7A-9A984927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D31F6-C72C-416E-8962-D5379901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E74E-7716-4443-A27F-3EBE67AA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DA587-1C3B-402E-84C5-E998BC20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11797-F634-420B-AF05-C1A1FA14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BA917-D226-40D1-BD22-60284A3F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C007C-961A-4993-969E-FDBE09AA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B2017-01C2-4846-9128-69900E1A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8CE69-FAA1-4C08-B019-695DD498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9E890-23A9-4448-918C-55842F4A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6A82E-B1A8-465F-AB65-3C474360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9DFFA-49E7-45A8-A7B8-E81F5705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DDF-BFBA-4A1B-B518-74D0B0AA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CC86-B1B6-49D5-A0E2-73002D6E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7D9-ECF1-4217-84AE-C7E7216A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C13F-69DB-4418-A114-F136DBB3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B26C-DD1F-47BE-A551-2F88265E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289D-BCA4-40A1-8358-758E2E43AB6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F77F-EB5B-47CE-B78E-CE9DE268955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03C3-5923-4E30-8EAF-04038F1FAA2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CA3D-ED73-47D3-AD11-ACDEEA6390A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8"/>
          <p:cNvSpPr/>
          <p:nvPr/>
        </p:nvSpPr>
        <p:spPr>
          <a:xfrm>
            <a:off x="357120" y="2295360"/>
            <a:ext cx="828216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)- Sub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r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نظائر 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   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rifer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895040" y="1373040"/>
            <a:ext cx="461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Sponges </a:t>
            </a:r>
            <a:r>
              <a:rPr b="1" lang="ar-SA" sz="44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أسفنج</a:t>
            </a:r>
            <a:r>
              <a:rPr b="1" i="1" lang="en-GB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11360" y="36648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5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60444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alibri"/>
              </a:rPr>
              <a:t>Platyhelminthes: Flatworms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ديدان المفلطح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81116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acoelomates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عديمة التجويف السيلومي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with gastrovascular cavities</a:t>
            </a:r>
            <a:r>
              <a:rPr b="1" lang="ar-SA" sz="23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ولها تجويف وعائي-معوي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living in marine, freshwater, and damp terrestrial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البيئة الأرضية الرطب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also include many parasitic species, such as the fluk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ديدان البلهارسي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nd tapeworm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ديدان الشريط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Flatworms are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triploblast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ثلاثية الطبق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ith a middle embryonic tissue layer,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mesoderm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ة الوسطى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hich contributes to more complex organs and organs systems and to true muscle tissu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975120" y="304920"/>
            <a:ext cx="5016600" cy="6172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79280" y="1298160"/>
            <a:ext cx="3835440" cy="591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rematodes parasitiz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 wide range of hosts, and have complex life cycles with alternation of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require an intermediate host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عائل وسي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which the larvae develop before infecting the final hosts (usually a vertebrate) where the adult worm liv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fluke </a:t>
            </a: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Schistosom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nfects 200 million peop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214200" y="63504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Schistosoma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بلهارسي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98480"/>
            <a:ext cx="8686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ponges are sessi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جالس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with porous bod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أجسام مسامي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and choan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erm layer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ات المنبت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ponges are not really tissues because the cells are relatively unspecialize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غير متخصص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ponges lack nerves or mus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onges are marin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بحر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ome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live in fresh water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اء العذب</a:t>
            </a:r>
            <a:r>
              <a:rPr b="1" lang="ar-SA" sz="2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 sponge consists of two cell layers separated by a gelatinous region,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mesohy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onges ar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rmaphrodite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خنث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ith each individual producing both sperm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eg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52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68360" y="3618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- Phylum: Porifer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إسفنج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806040"/>
            <a:ext cx="878544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body of a simple sponge resembles a sac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شبه كي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perforated with ho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فتحات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early all sponges are suspension fee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تغذى على العوالق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collecting food particles from wate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431640" y="2349360"/>
            <a:ext cx="85330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Water Currents for Everything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43828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their flagella to create water currents through external pores called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ti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sing. ostium,); incurrent p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food (bacteria, protists, etc.) and oxygen and remove metabolic wastes from the center of the sponge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pongocoe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collar-like rings to filter fo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stes and water flow out a centr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culu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plural, oscula); an excurrent po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H:\RLK PowerPoint Lectures\PowerPoint Tools\New Folder\sponge pic2.gif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206" name="Rectangle 2" descr=""/>
          <p:cNvPicPr/>
          <p:nvPr/>
        </p:nvPicPr>
        <p:blipFill>
          <a:blip r:embed="rId2"/>
          <a:stretch/>
        </p:blipFill>
        <p:spPr>
          <a:xfrm>
            <a:off x="281160" y="182520"/>
            <a:ext cx="81072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3"/>
          <p:cNvSpPr/>
          <p:nvPr/>
        </p:nvSpPr>
        <p:spPr>
          <a:xfrm>
            <a:off x="914400" y="1557360"/>
            <a:ext cx="7315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72720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ploblastica</a:t>
            </a:r>
            <a:r>
              <a:rPr b="1" lang="en-GB" sz="40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نائية الطب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95280" y="2205000"/>
            <a:ext cx="849780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تقدم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)- Subkingdo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elentrat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جوفمعويات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Class 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Hydro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در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Hydra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يدرا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amp; </a:t>
            </a:r>
            <a:r>
              <a:rPr b="1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Obelia</a:t>
            </a:r>
            <a:r>
              <a:rPr b="1" i="1" lang="ar-SA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أوبليا</a:t>
            </a:r>
            <a:r>
              <a:rPr b="1" i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762120"/>
            <a:ext cx="8610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is basic body plan has two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Parts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the sessile polyp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ص الجال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nd the floating medus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يدوزا العائم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polyps adhere to the substratum by the aboral end and extend their tentacles, waiting for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dusas (also call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jellies) are flattened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uth-dow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م لأسفل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79280" y="3645000"/>
            <a:ext cx="4176720" cy="27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are carnivor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حم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 use tentacl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لام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nged in a ring around the mouth to capture prey and push the food into the gastrovascular chamber for dig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cles and nerves exist in their simplest fo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8"/>
          <p:cNvGrpSpPr/>
          <p:nvPr/>
        </p:nvGrpSpPr>
        <p:grpSpPr>
          <a:xfrm>
            <a:off x="4176720" y="2314440"/>
            <a:ext cx="4824360" cy="4400640"/>
            <a:chOff x="4176720" y="2314440"/>
            <a:chExt cx="4824360" cy="4400640"/>
          </a:xfrm>
        </p:grpSpPr>
        <p:pic>
          <p:nvPicPr>
            <p:cNvPr id="213" name="Picture 4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4176720" y="2314440"/>
              <a:ext cx="4824360" cy="44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7"/>
            <p:cNvSpPr/>
            <p:nvPr/>
          </p:nvSpPr>
          <p:spPr>
            <a:xfrm>
              <a:off x="4225680" y="4622760"/>
              <a:ext cx="2305080" cy="20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79280" y="1341360"/>
            <a:ext cx="388800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relatively simple body constru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asic body plan is a sac with a central digestive compartment,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astrovascular cavity     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جويف الوائي-معوي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Hydra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exist only in the polyp form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en environmental conditions are favorable, a hydra reproduces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udd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برع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01600" y="105264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979640" y="2667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1- </a:t>
            </a:r>
            <a:r>
              <a:rPr b="1" i="1" lang="en-GB" sz="3600" spc="-1" strike="noStrike">
                <a:solidFill>
                  <a:srgbClr val="0000ff"/>
                </a:solidFill>
                <a:latin typeface="Times New Roman"/>
              </a:rPr>
              <a:t>Hyd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2"/>
          <p:cNvGrpSpPr/>
          <p:nvPr/>
        </p:nvGrpSpPr>
        <p:grpSpPr>
          <a:xfrm>
            <a:off x="4067280" y="1617840"/>
            <a:ext cx="4897440" cy="4690800"/>
            <a:chOff x="4067280" y="1617840"/>
            <a:chExt cx="4897440" cy="4690800"/>
          </a:xfrm>
        </p:grpSpPr>
        <p:pic>
          <p:nvPicPr>
            <p:cNvPr id="219" name="Picture 7" descr="nocircsys"/>
            <p:cNvPicPr/>
            <p:nvPr/>
          </p:nvPicPr>
          <p:blipFill>
            <a:blip r:embed="rId1"/>
            <a:srcRect l="0" t="0" r="19398" b="0"/>
            <a:stretch/>
          </p:blipFill>
          <p:spPr>
            <a:xfrm>
              <a:off x="4067280" y="1617840"/>
              <a:ext cx="4897440" cy="46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9"/>
            <p:cNvSpPr/>
            <p:nvPr/>
          </p:nvSpPr>
          <p:spPr>
            <a:xfrm>
              <a:off x="8459640" y="3213000"/>
              <a:ext cx="505080" cy="2880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020000" y="5300640"/>
              <a:ext cx="1944720" cy="865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11"/>
            <p:cNvSpPr/>
            <p:nvPr/>
          </p:nvSpPr>
          <p:spPr>
            <a:xfrm>
              <a:off x="8029440" y="5084640"/>
              <a:ext cx="503280" cy="2890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76360" y="727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riploblastica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لاثية الطبق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990720" y="16002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116000" y="1916280"/>
            <a:ext cx="75596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bkingdo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latyhelminthes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فلطح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1- Class 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rematod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ريماتود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chistoso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لهارسيا</a:t>
            </a:r>
            <a:r>
              <a:rPr b="1" i="1" lang="ar-SA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2- Class:</a:t>
            </a:r>
            <a:r>
              <a:rPr b="1" lang="en-GB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estoide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سيستودا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pewor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دودة الشريط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3:30Z</dcterms:modified>
  <cp:revision>316</cp:revision>
  <dc:subject/>
  <dc:title>Nerve activates contraction</dc:title>
</cp:coreProperties>
</file>