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095-92FB-45ED-AE1E-88CE39DA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657-49F8-46DA-A86A-9642E192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14C-D860-48D7-93E6-1AD8822C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976-A1A1-4B49-B360-98B8FCCA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C6B5-4E67-4351-84F6-83B3B018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5124-A871-4365-9A7C-88A1500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3910-37D0-4B69-AF75-F70E8428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DA12-0FE3-44F8-8295-C67D4C4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4D31-E95A-44E3-A228-F1809561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FD6D-D6C9-405D-8CD8-34BCAC05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2812-9D19-4966-BAF5-FE48ED1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AF8-4B08-4AD9-9F61-A1987E2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CAAE-D772-46CD-8DCC-9DCDD2B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2C96-707C-4B57-ACA6-D0513F5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7B3-B552-42F2-82A5-E34C082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DD29-D023-47F9-AA3B-4391B8F4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97AE-4324-458E-B758-CD93547B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22AC-6CDA-4120-9121-7730478D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AF76-872A-48EE-9F9A-DAFAAD7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ECEB-D514-4C1F-9DDF-B8FBDA3F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198A-CBF5-4719-810E-EBB0FB10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DF6F-6859-4D7B-B075-0AD852FE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5A4-88A0-4DD2-A045-873A966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FA0D-4577-4F90-BED3-0EBD8D96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5D72-1C2D-4D48-B526-B7B9E57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E36F-A3A0-4D9D-A601-CA2C520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B86B-0716-4330-94A8-1DA280E3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F3B2-B275-4CA8-849A-52C14F5D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0E1B-A834-4354-AC2E-A1F762AF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52F7-EA57-4B61-97F1-F208835A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8536-E372-43B0-BBA1-55859FAA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1C2C-17A0-41D2-992A-28E847A5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91A0-A766-41CF-A6B6-148597C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745-62D9-4254-832C-3BED6CDB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C7B8-CEA8-4280-9747-64EA0B09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BA1A-FC36-4003-A62C-34C75E02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5281-5533-409D-B0D3-1FFBA96F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3070-AA6B-48AD-BCF2-DE2968F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9DCD-0E1A-4E5D-A5BD-623D6ADA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00EE-194A-42D1-8A1F-9A335D8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C9C8-0D09-480F-8B12-DD1D72E4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A556-DC16-46CF-B26E-B6930755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7A08-1B45-4A96-B96D-AC4D41C7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4AA-B1C0-4E95-823F-E93D4D80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9AA-743A-4240-80BB-6D9ED51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8A4-2AB3-4ADE-A3E8-9082995A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B7B-0707-4A42-A0A0-74B9A509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AEC-7D05-4D47-BA4B-4972AC9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4523-01CD-41B2-8A86-1DB3EB382B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CA89-A759-437A-B1EA-37B3691017B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457-FA46-4BE6-A653-B792388B4B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198A-C328-4C5E-A85C-338AB6B4A4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5840" y="189000"/>
            <a:ext cx="80960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4:37Z</dcterms:modified>
  <cp:revision>316</cp:revision>
  <dc:subject/>
  <dc:title>Nerve activates contraction</dc:title>
</cp:coreProperties>
</file>