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584-D8A9-4421-A3C4-E939A396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533-877A-49D6-8A0B-F344103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75D-D868-4D7C-B56D-A6BE6D80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B28-B19B-4E1A-B829-05EB948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3C3C-A1A5-4E20-864E-F2B4E980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225-1DA2-4299-9668-B2E21C0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3559-F60A-4788-B514-5E551F7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75B-BBDC-477E-A062-5412DB9F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831E-E799-4376-AE5A-390535F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4EF-1C8D-41F8-9788-1471FE2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278-3AEA-4542-A19E-B3FEE11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B9C-DB32-49A9-97D1-79925065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A9B6-B14C-4161-A03A-DC42D78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5CF-3EB3-4677-9301-CCA5610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1A1C-7DD0-48EA-B51C-9FA47FF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5F83-E87D-4C9D-9591-A92C735F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33D4-67A1-4284-BE90-A1CCD859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477A-722E-4F55-9FFD-6E5BF3A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6A0E-481A-40B8-84B7-B42B2DA2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9738-8D14-4174-BFC2-4414A47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2DB6-A7EE-44B8-A381-FAA71989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F5B9-B076-430F-AFB3-56EE96E7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84E-D234-4CFB-8720-B89B63D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70B4-6DC8-4D09-8E49-90E9C20C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C09DB-0199-42CB-A3BF-0E1B0C5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0E3C-09BB-420C-87DA-BA89653A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66745-2841-4285-87D1-61E95C5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F20E-09C7-4075-A7E1-9E07FF6E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FE1F-8AFC-4CB7-BF59-3549F3CE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5802-7408-4C83-BA5D-01D964FD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2BA8-585D-4ABA-987D-27C0FF4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77E0-1EA7-43F7-89F4-E7E4E066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3870-8DCA-4995-9C01-0000669D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9B4-B250-4745-A475-C067542B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E348-881D-4886-9732-9C5BD70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EE47-75B2-4556-962F-F9382D80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0D64-36C2-4C3A-99EE-CBD6010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4125-8FC4-42DD-BD31-4DD6EAD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1667-102F-405B-9946-E87A331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353D-5CFC-47D5-AE29-EC25431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0AC5-8A76-46DA-9F1B-B9B143DF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1A89-C435-45EE-820B-CF332AA7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F348-AD8F-462E-B025-BD73B468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21C-6233-45EF-B9A0-31E26F9E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F2D-979D-44F7-BC17-5AE288C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B61-374A-404A-B301-E665B6E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589-84EB-4847-BB81-E3F6895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29F-C0A1-4BCE-83F2-217FB81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3CC-7151-401B-BB69-70CFAACD593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F97-36B5-4DC2-B4F3-B2323F7DB5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B41F-E100-4B47-B1A6-C55A1C8CD9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5DE3-9ED4-434E-9C3D-28024DC363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57120" y="2295360"/>
            <a:ext cx="82821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)- Subkingdo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r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نظائر 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:         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rifer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895040" y="1373040"/>
            <a:ext cx="461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Sponges </a:t>
            </a: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أسفنج</a:t>
            </a:r>
            <a:r>
              <a:rPr b="1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11360" y="36648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5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60444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alibri"/>
              </a:rPr>
              <a:t>Platyhelminthes: Flatworms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ديدان المفلطحة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811160"/>
            <a:ext cx="868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acoelomates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عديمة التجويف السيلومي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with gastrovascular cavities</a:t>
            </a:r>
            <a:r>
              <a:rPr b="1" lang="ar-SA" sz="23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1900" spc="-1" strike="noStrike">
                <a:solidFill>
                  <a:srgbClr val="000000"/>
                </a:solidFill>
                <a:latin typeface="Constantia"/>
                <a:cs typeface="Arial"/>
              </a:rPr>
              <a:t>ولها تجويف وعائي-معوي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y are living in marine, freshwater, and damp terrestrial habitat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البيئة الأرضية الرطب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also include many parasitic species, such as the fluk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ديدان البلهارسيا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nd tapeworm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ديدان الشريطي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latworms ar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triploblastic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ثلاثية الطبقات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ith a middle embryonic tissue layer,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mesoderm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ة الوسطى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which contributes to more complex organs and organs systems and to true muscle tissu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75120" y="304920"/>
            <a:ext cx="5016600" cy="617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79280" y="1298160"/>
            <a:ext cx="3835440" cy="59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rematodes parasitiz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تتطفل على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 wide range of hosts, and have complex life cycles with alternation of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any require an intermediate host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عائل وسي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which the larvae develop before infecting the final hosts (usually a vertebrate) where the adult worm liv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fluke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Schistosom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nfects 200 million peop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214200" y="63504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chistosom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cs typeface="Majalla UI"/>
              </a:rPr>
              <a:t>البلهارس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6984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Sponges are sessil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جالس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with porous bodie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أجسام مسامية</a:t>
            </a:r>
            <a:r>
              <a:rPr b="1" lang="en-GB" sz="2400" spc="-1" strike="noStrike">
                <a:solidFill>
                  <a:srgbClr val="000000"/>
                </a:solidFill>
                <a:latin typeface="Constantia"/>
              </a:rPr>
              <a:t>and choanocy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erm layers 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طبقات المنبت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ponges are not really tissues because the cells are relatively unspecialize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غير متخصص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ges lack nerves or mus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onges are marin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بحر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some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live in fresh water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اء العذب</a:t>
            </a:r>
            <a:r>
              <a:rPr b="1" lang="ar-SA" sz="2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body of a sponge consists of two cell layers separated by a gelatinous region,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mesohy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onges ar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hermaphrodite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خنث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ith each individual producing both sperm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egg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52280" y="1484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8360" y="3618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- Phylum: Porife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ساميات (الإسفنجيات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Sponge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إسفنج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806040"/>
            <a:ext cx="878544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body of a simple sponge resembles a sac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شبه كي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erforated with hole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فتحات</a:t>
            </a:r>
            <a:r>
              <a:rPr b="1" lang="ar-SA" sz="2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Nearly all sponges are suspension feeder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يتغذى على العو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, collecting food particles from wate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31640" y="2349360"/>
            <a:ext cx="8533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Water Currents for Everything!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4382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their flagella to create water currents through external pores called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ti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sing. ostium,); incurrent p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food (bacteria, protists, etc.) and oxygen and remove metabolic wastes from the center of the sponge –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pongocoe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anocytes use collar-like rings to filter foo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tes and water flow out a centr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culu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plural, oscula); an excurrent p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H:\RLK PowerPoint Lectures\PowerPoint Tools\New Folder\sponge pic2.gif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2" descr=""/>
          <p:cNvPicPr/>
          <p:nvPr/>
        </p:nvPicPr>
        <p:blipFill>
          <a:blip r:embed="rId2"/>
          <a:stretch/>
        </p:blipFill>
        <p:spPr>
          <a:xfrm>
            <a:off x="285840" y="189000"/>
            <a:ext cx="8096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3"/>
          <p:cNvSpPr/>
          <p:nvPr/>
        </p:nvSpPr>
        <p:spPr>
          <a:xfrm>
            <a:off x="914400" y="155736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72720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ploblastica</a:t>
            </a:r>
            <a:r>
              <a:rPr b="1" lang="en-GB" sz="40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نائية الطب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95280" y="2205000"/>
            <a:ext cx="84978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</a:t>
            </a:r>
            <a:r>
              <a:rPr b="1" lang="ar-SA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تقدم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)- Subkingdo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elentrat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جوفمعوي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Class :</a:t>
            </a:r>
            <a:r>
              <a:rPr b="1" lang="en-US" sz="36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zoa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در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Hydra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هيدرا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Obelia</a:t>
            </a:r>
            <a:r>
              <a:rPr b="1" i="1" lang="ar-SA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أوبليا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7621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basic body plan has two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Arial"/>
              </a:rPr>
              <a:t>Part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the sessile polyp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قرص الجالس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d the floating medus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ميدوزا العائم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polyps adhere to the substratum by the aboral end and extend their tentacles, waiting for pr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dusas (also call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jellies) are flattened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uth-dow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م لأسفل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79280" y="3645000"/>
            <a:ext cx="417672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arnivor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حم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use tentacle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لام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nged in a ring around the mouth to capture prey and push the food into the gastrovascular chamber for di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cles and nerves exist in their simplest 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4176720" y="2314440"/>
            <a:ext cx="4824360" cy="4400640"/>
            <a:chOff x="4176720" y="2314440"/>
            <a:chExt cx="4824360" cy="4400640"/>
          </a:xfrm>
        </p:grpSpPr>
        <p:pic>
          <p:nvPicPr>
            <p:cNvPr id="213" name="Picture 4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4176720" y="2314440"/>
              <a:ext cx="4824360" cy="44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7"/>
            <p:cNvSpPr/>
            <p:nvPr/>
          </p:nvSpPr>
          <p:spPr>
            <a:xfrm>
              <a:off x="4225680" y="4622760"/>
              <a:ext cx="2305080" cy="20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79280" y="1341360"/>
            <a:ext cx="388800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relatively simple body constru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basic body plan is a sac with a central digestive compartment,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gastrovascular cavity     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جويف الوائي-معوي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Hydra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exist only in the polyp for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en environmental conditions are favorable, a hydra reproduces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udd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تبرعم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01600" y="105264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979640" y="266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1- </a:t>
            </a: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12"/>
          <p:cNvGrpSpPr/>
          <p:nvPr/>
        </p:nvGrpSpPr>
        <p:grpSpPr>
          <a:xfrm>
            <a:off x="4067280" y="1617840"/>
            <a:ext cx="4897440" cy="4690800"/>
            <a:chOff x="4067280" y="1617840"/>
            <a:chExt cx="4897440" cy="4690800"/>
          </a:xfrm>
        </p:grpSpPr>
        <p:pic>
          <p:nvPicPr>
            <p:cNvPr id="219" name="Picture 7" descr="nocircsys"/>
            <p:cNvPicPr/>
            <p:nvPr/>
          </p:nvPicPr>
          <p:blipFill>
            <a:blip r:embed="rId1"/>
            <a:srcRect l="0" t="0" r="19398" b="0"/>
            <a:stretch/>
          </p:blipFill>
          <p:spPr>
            <a:xfrm>
              <a:off x="4067280" y="1617840"/>
              <a:ext cx="4897440" cy="46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9"/>
            <p:cNvSpPr/>
            <p:nvPr/>
          </p:nvSpPr>
          <p:spPr>
            <a:xfrm>
              <a:off x="8459640" y="3213000"/>
              <a:ext cx="505080" cy="288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020000" y="5300640"/>
              <a:ext cx="1944720" cy="86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8029440" y="5084640"/>
              <a:ext cx="503280" cy="289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76360" y="727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iploblastica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ثلاثية الطبق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990720" y="16002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116000" y="1916280"/>
            <a:ext cx="75596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Kingdo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ia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يوانات المتقدمة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kingdo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zo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عد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ylum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tyhelminthes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مفلطحا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1- Class :</a:t>
            </a:r>
            <a:r>
              <a:rPr b="1" lang="en-US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Trematod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ريماتود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istos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بلهارسيا</a:t>
            </a:r>
            <a:r>
              <a:rPr b="1" i="1" lang="ar-SA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2- Class:</a:t>
            </a:r>
            <a:r>
              <a:rPr b="1" lang="en-GB" sz="3200" spc="-1" strike="noStrike">
                <a:solidFill>
                  <a:srgbClr val="f63f1b"/>
                </a:solidFill>
                <a:latin typeface="Times New Roman"/>
                <a:ea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estoide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يستودا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en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pewor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دودة الشريطي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4:37Z</dcterms:modified>
  <cp:revision>316</cp:revision>
  <dc:subject/>
  <dc:title>Nerve activates contraction</dc:title>
</cp:coreProperties>
</file>