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83B-F674-4B6F-BB49-FB481107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699-F15D-4E0E-AEC5-921D031F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A59-59A5-4619-A12C-D01F40D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116-76DB-43A0-860E-F470131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19A-6EA4-4974-90F4-078B2FC4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739-DD87-4780-967D-3E589CF3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3F2-51B5-492E-850F-5C95166C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FC42-DB57-490F-87B3-B37B514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1D6-7E0D-4746-B115-1A14A73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CD19-529A-47F3-B98C-B57E8CB6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6059-E68E-48B2-BEF2-D04267D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124-4BB6-4662-9410-0DBED417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459-2A86-43E9-AC8B-EAA9E98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EA12-1762-49A0-9CDD-8495DD7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F32A-74B6-42A5-A2DB-8873065B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CB7-D4DD-4F7A-ABF4-A67E83B9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1A5E-6A32-4B50-8F79-7D12182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BE97-A6BB-43E0-B7AF-C8E64913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569D-593D-4236-BD5A-3210AF1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3AEA-F683-4E85-A9E0-BA084DAA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E5F0-5CAE-41B4-8344-26F8F753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E1F1-435B-4DCF-8B5D-EFD27EA8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8FA-D4BB-4FCF-861E-8C8FFADF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1144-02E8-4EA3-B8D5-CA6E14D4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7E5B-FF81-4458-A6C6-32538B00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0502-BC93-421A-8AE9-FC5A63D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CCE7-5D31-476E-AF25-C59ACBB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28E2-0F55-47AB-A4DB-9E38A5B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0221-9F31-4F61-BF92-0CF530B3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BAE4-AA2C-4FCA-AA0D-93FC521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04FF-5282-4C0E-BAE8-8D60812A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80A1-00AD-46E1-82E1-C048AC93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348B-AF06-401C-A1CE-C33DCAB2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F01-2845-4670-8423-A14E8212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C313-CF22-4BC3-B886-8509973A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2D3C-06CA-4FDC-94BD-3EFBCAAB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FC5A-4222-4F36-B010-399582A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B91B-B78F-4318-9210-ACF7E00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57CF-7136-4A69-BBD9-850D8C9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7D29-F25A-4151-9A28-ACDE301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9C40-269F-462C-AEC4-0B0A940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E017-ACDA-4D89-93BB-A75963B4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CA1FE-79A9-4289-B6EB-93BAE638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220-EFF1-44D4-9AEF-3705D0D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DE4-670D-476A-A150-2C5DD0B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241-04EA-4F6B-A44B-76BBE43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E08-E200-4225-A136-44E1EF64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848-34F4-42BE-951A-409AF574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C842-5911-4A5E-9C22-9C88D52032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5E60-D1CF-43F8-8A3E-EFD17894E88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9AA-29C9-47CC-9074-F14A5C3E41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D84-1A5A-47B4-ABF8-53F0A982CA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 of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08000" y="1419120"/>
            <a:ext cx="8712000" cy="5277240"/>
            <a:chOff x="108000" y="1419120"/>
            <a:chExt cx="8712000" cy="5277240"/>
          </a:xfrm>
        </p:grpSpPr>
        <p:sp>
          <p:nvSpPr>
            <p:cNvPr id="198" name="Rectangle 4"/>
            <p:cNvSpPr/>
            <p:nvPr/>
          </p:nvSpPr>
          <p:spPr>
            <a:xfrm>
              <a:off x="108000" y="1419120"/>
              <a:ext cx="55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nstantia"/>
                </a:rPr>
                <a:t>Phylum of animal kingdom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"/>
            <p:cNvSpPr/>
            <p:nvPr/>
          </p:nvSpPr>
          <p:spPr>
            <a:xfrm>
              <a:off x="372960" y="1995120"/>
              <a:ext cx="8447040" cy="47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1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orifera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Coelenter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جوفمع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3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latyhelminthes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مفلطحات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4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Nemat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اسطوان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5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nneli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حلق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6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rthrop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مفصليات الأرج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7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Mollusca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رخ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8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Echinoderm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شوكيات الجل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9-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Chordata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  <a:ea typeface="Majalla UI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Majalla UI"/>
                </a:rPr>
                <a:t>شعبة الحبل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8000" y="1252440"/>
            <a:ext cx="8686800" cy="57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acoelo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مة التجويف السيلو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gastrovascular caviti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جويف وعائي-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living in marine and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بلهارسيا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شريطية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ة الوسطى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3333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tyhelminthes (Flatworms)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مفلط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092480" y="35244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920" y="980640"/>
            <a:ext cx="4105440" cy="71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ط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requires an intermediate hos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 وسيط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human) where the adult worm l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fects 200 million peop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4200" y="333360"/>
            <a:ext cx="46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nstantia"/>
              </a:rPr>
              <a:t>Schistosoma sp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بلهارس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108000" y="395280"/>
            <a:ext cx="8807400" cy="3638160"/>
            <a:chOff x="108000" y="395280"/>
            <a:chExt cx="8807400" cy="3638160"/>
          </a:xfrm>
        </p:grpSpPr>
        <p:sp>
          <p:nvSpPr>
            <p:cNvPr id="201" name="Rectangle 4"/>
            <p:cNvSpPr/>
            <p:nvPr/>
          </p:nvSpPr>
          <p:spPr>
            <a:xfrm>
              <a:off x="108000" y="395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ff"/>
                  </a:solidFill>
                  <a:latin typeface="Times New Roman"/>
                </a:rPr>
                <a:t>1- </a:t>
              </a:r>
              <a:r>
                <a:rPr b="1" lang="en-GB" sz="3600" spc="-1" strike="noStrike">
                  <a:solidFill>
                    <a:srgbClr val="0000ff"/>
                  </a:solidFill>
                  <a:latin typeface="Constantia"/>
                </a:rPr>
                <a:t>Phylum: Porife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"/>
            <p:cNvSpPr/>
            <p:nvPr/>
          </p:nvSpPr>
          <p:spPr>
            <a:xfrm>
              <a:off x="108000" y="1196280"/>
              <a:ext cx="880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Systematic Posi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63f1b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f63f1b"/>
                  </a:solidFill>
                  <a:latin typeface="Constantia"/>
                </a:rPr>
                <a:t>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Kingdom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:        Animali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يوان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Subkingdom: Parazo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تحت مملكة نظائر البعد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         Porifera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 (المساميات)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                 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ex: Spo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000" y="404640"/>
            <a:ext cx="8856720" cy="755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السة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جسام مسام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 chaonocy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مطوقة أو المسوط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ات المنبت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تخصص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 do not have nervous, digestive or muscle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حر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live in fresh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hy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ادة الهلام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خنث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and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شبه كي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فتح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sponges are suspension fee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تغذى على العوالق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cting food particles from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72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000" y="333000"/>
            <a:ext cx="8856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 use their flagella to create water curr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يارات م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external pores call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t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ing. ostium,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ongocoe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use collar-like rings to filter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cul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an excurrent po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127160" y="2637000"/>
            <a:ext cx="7045200" cy="4105080"/>
            <a:chOff x="1127160" y="2637000"/>
            <a:chExt cx="7045200" cy="4105080"/>
          </a:xfrm>
        </p:grpSpPr>
        <p:pic>
          <p:nvPicPr>
            <p:cNvPr id="207" name="Picture 5" descr="http://paleo.cortland.edu/tutorial/Protista/Protista%20Images/spongecolor.GIF"/>
            <p:cNvPicPr/>
            <p:nvPr/>
          </p:nvPicPr>
          <p:blipFill>
            <a:blip r:embed="rId1"/>
            <a:srcRect l="0" t="0" r="0" b="5779"/>
            <a:stretch/>
          </p:blipFill>
          <p:spPr>
            <a:xfrm>
              <a:off x="1127160" y="2850120"/>
              <a:ext cx="6982920" cy="38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6"/>
            <p:cNvSpPr/>
            <p:nvPr/>
          </p:nvSpPr>
          <p:spPr>
            <a:xfrm>
              <a:off x="1163520" y="2714760"/>
              <a:ext cx="196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تجويف المركز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Box 7"/>
            <p:cNvSpPr/>
            <p:nvPr/>
          </p:nvSpPr>
          <p:spPr>
            <a:xfrm>
              <a:off x="6507360" y="2637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يه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Box 8"/>
            <p:cNvSpPr/>
            <p:nvPr/>
          </p:nvSpPr>
          <p:spPr>
            <a:xfrm>
              <a:off x="6327720" y="372276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هة أو المسام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9"/>
            <p:cNvSpPr/>
            <p:nvPr/>
          </p:nvSpPr>
          <p:spPr>
            <a:xfrm>
              <a:off x="6921720" y="4998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برع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نائ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08000" y="2133720"/>
            <a:ext cx="880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      Animal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Meta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بعديات الحقيق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hylum:           Coelentera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                Hydrozo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هيد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Hydr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درا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Obeli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ب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8000" y="13431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Coelenter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640" y="982800"/>
            <a:ext cx="889308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asic body has tw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ssile polyp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ص الجال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e float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edus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دوزا العائم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usas(also called jellies) are flattened, mouth-dow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م لأس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4427640" y="3166920"/>
            <a:ext cx="4465440" cy="3646800"/>
            <a:chOff x="4427640" y="3166920"/>
            <a:chExt cx="4465440" cy="3646800"/>
          </a:xfrm>
        </p:grpSpPr>
        <p:pic>
          <p:nvPicPr>
            <p:cNvPr id="218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427640" y="3166920"/>
              <a:ext cx="4465440" cy="36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7"/>
            <p:cNvSpPr/>
            <p:nvPr/>
          </p:nvSpPr>
          <p:spPr>
            <a:xfrm>
              <a:off x="4472640" y="5079600"/>
              <a:ext cx="2133360" cy="169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108000" y="3181320"/>
            <a:ext cx="391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nivor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اح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use tentacle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لوامس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ranged in a ring around the mouth to capture prey and push the food into the gastrovascular chamber for di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s and nerves exist in their simplest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08000" y="83664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1890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oelenterat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7640" y="1413000"/>
            <a:ext cx="381636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astrovascular cavity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جويف الجوف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udd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برع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nstantia"/>
              </a:rPr>
              <a:t>Hydra s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5" descr="https://s3.amazonaws.com/classconnection/387/flashcards/1877387/jpg/hydra_labeled-14CF90642AA0B4AADF2.jpg"/>
          <p:cNvPicPr/>
          <p:nvPr/>
        </p:nvPicPr>
        <p:blipFill>
          <a:blip r:embed="rId1"/>
          <a:stretch/>
        </p:blipFill>
        <p:spPr>
          <a:xfrm>
            <a:off x="4030560" y="2060640"/>
            <a:ext cx="50054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7"/>
          <p:cNvSpPr/>
          <p:nvPr/>
        </p:nvSpPr>
        <p:spPr>
          <a:xfrm>
            <a:off x="108000" y="207324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ar-SA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imalia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ubkingdo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عديات الحقيق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Phylu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yhelminthes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شعبة المفلط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 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chistosoma sp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لهارسيا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شيستوسوم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1" i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: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es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سيستود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Taenia sp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Tapeworms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ودة الشريط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تين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r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لاث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8000" y="1343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Majalla UI"/>
              </a:rPr>
              <a:t>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01T19:32:55Z</dcterms:modified>
  <cp:revision>395</cp:revision>
  <dc:subject/>
  <dc:title>Nerve activates contraction</dc:title>
</cp:coreProperties>
</file>