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E67-7E8D-42FD-BAB9-EFE1ED29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1C70-112D-4896-B71D-80D29608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8F0-0F3E-4A2D-935C-96364E70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2EEA-B01A-462E-B1EB-6E5AF6A6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D93C-1DAF-451A-B0EF-AE21B77B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42FC-73A3-435C-8FFF-BB811942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AC4F-68F8-4A51-B2BF-C3F202F7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A51B-B617-49B9-BF80-A1017125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30EE-3F60-4EEF-8220-FD16AA34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0260-A6E5-41DD-AFAC-820765C2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5028-6BA3-4480-88F8-A0E3D7DA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F78-453D-4AC5-8000-AA702962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B659-7037-4F06-8369-B95F5F22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3837-3680-4EA6-B3B8-F58404CE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EE08-FFA0-4066-B154-C4279CCA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5309-6714-458F-943E-B90BCD8E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7FB5-9099-415F-B1C1-A6A6B89F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083A1-4323-4D6F-A672-20931A70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AFA3B-C8CC-4B75-B52F-C7BE24B1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6F43B-1A6F-4C94-8886-22FFCBCA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EF8D0-8585-47BB-A779-1268453E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58B04-40A1-4961-91F6-238EFA8A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CE9-EF18-4D35-AB7E-38FF0741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86146-581D-40B7-AC33-7A2BC041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2A1D5-4E0A-472D-ACC0-182CD305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A2E67-781E-45B4-9D3E-4BA3480B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E8C9E-A53B-4789-A4B2-ACB3C7F0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91A73-9DDF-4688-AD40-AF8C33E1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57661-702C-434B-8705-0CD35FA3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8A61D-7517-4AAB-8ED0-23151DE6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04A89-5DB6-4241-BDF8-DD10BC65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DC52B-CFFB-4226-B520-D242C5F4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8A27B-969A-47C4-B577-11102A5D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FD3-6368-42E3-BA92-1F482238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CEB61-95C0-455C-8658-B8F70A58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B9B93-5E09-4A50-98F2-A67E9875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F7672-1E7E-4DE6-8EAC-E1249D66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B03C5-E419-4AC7-A19E-BA7AE02B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DD143-E648-417D-BDAC-DD18DD2C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2F57B-7CED-4F95-83CE-9C2A8567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D4961-6E4B-48A5-A161-3784795F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25BCC-AEFC-4804-95FD-D414DE62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7B515-47CE-437E-8C7A-60F71699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262-0C78-4927-8E23-D100634E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9EC-0538-4C23-B92A-DB140526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9023-8D30-4484-99F3-724C2EAC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D8A-CADA-49D6-8B87-DAC6798F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44A4-85B1-4C6E-B712-14D5ED8B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2C2C-E257-4AC1-B1E5-4273628AB64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E89A-F4B8-4008-8AF2-68F9822F520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CD08-B25D-468F-93FE-A4D0B7A4092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8A57-5ACE-429A-8FB9-1BF4DFCD051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130320" y="380880"/>
            <a:ext cx="8858160" cy="70344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: Kingdom of Anim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108000" y="1419120"/>
            <a:ext cx="8712000" cy="5277240"/>
            <a:chOff x="108000" y="1419120"/>
            <a:chExt cx="8712000" cy="5277240"/>
          </a:xfrm>
        </p:grpSpPr>
        <p:sp>
          <p:nvSpPr>
            <p:cNvPr id="198" name="Rectangle 4"/>
            <p:cNvSpPr/>
            <p:nvPr/>
          </p:nvSpPr>
          <p:spPr>
            <a:xfrm>
              <a:off x="108000" y="1419120"/>
              <a:ext cx="5544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onstantia"/>
                </a:rPr>
                <a:t>Phylum of animal kingdom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2"/>
            <p:cNvSpPr/>
            <p:nvPr/>
          </p:nvSpPr>
          <p:spPr>
            <a:xfrm>
              <a:off x="372960" y="1995120"/>
              <a:ext cx="8447040" cy="47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alibri"/>
                </a:rPr>
                <a:t>1-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 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GB" sz="2400" spc="-1" strike="noStrike">
                  <a:solidFill>
                    <a:srgbClr val="0000ff"/>
                  </a:solidFill>
                  <a:latin typeface="Constantia"/>
                </a:rPr>
                <a:t>Porifera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اسفنجي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2-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Coelenterata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جوفمعوي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alibri"/>
                </a:rPr>
                <a:t>3-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 Phylum:  </a:t>
              </a:r>
              <a:r>
                <a:rPr b="1" lang="en-GB" sz="2400" spc="-1" strike="noStrike">
                  <a:solidFill>
                    <a:srgbClr val="0000ff"/>
                  </a:solidFill>
                  <a:latin typeface="Constantia"/>
                </a:rPr>
                <a:t>Platyhelminthes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مفلطحات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ea typeface="Majalla U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4-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Nematoda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ديدان الاسطوان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5-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Annelida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ديدان الحلق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6-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Arthropoda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مفصليات الأرج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7-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  </a:t>
              </a:r>
              <a:r>
                <a:rPr b="1" lang="en-GB" sz="2400" spc="-1" strike="noStrike">
                  <a:solidFill>
                    <a:srgbClr val="0000ff"/>
                  </a:solidFill>
                  <a:latin typeface="Constantia"/>
                </a:rPr>
                <a:t>Mollusca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رخوي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8-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Echinodermata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شوكيات الجل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9-</a:t>
              </a:r>
              <a:r>
                <a:rPr b="1" lang="ar-SA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  <a:ea typeface="Majalla UI"/>
                </a:rPr>
                <a:t>Chordata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  <a:ea typeface="Majalla UI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alibri"/>
                  <a:cs typeface="Majalla UI"/>
                </a:rPr>
                <a:t>شعبة الحبلي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08000" y="1252440"/>
            <a:ext cx="8686800" cy="57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acoelomat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عديمة التجويف السيلوم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th gastrovascular cavitie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جويف وعائي-معو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living in marine and fresh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y also include many parasitic species, such as the flukes</a:t>
            </a:r>
            <a:r>
              <a:rPr b="0" lang="ar-SA" sz="2600" spc="-1" strike="noStrike">
                <a:solidFill>
                  <a:srgbClr val="ff0000"/>
                </a:solidFill>
                <a:latin typeface="Constantia"/>
                <a:cs typeface="Majalla UI"/>
              </a:rPr>
              <a:t>ديدان البلهارسيا</a:t>
            </a:r>
            <a:r>
              <a:rPr b="0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tapeworms</a:t>
            </a:r>
            <a:r>
              <a:rPr b="0" lang="ar-SA" sz="2600" spc="-1" strike="noStrike">
                <a:solidFill>
                  <a:srgbClr val="ff0000"/>
                </a:solidFill>
                <a:latin typeface="Constantia"/>
                <a:cs typeface="Majalla UI"/>
              </a:rPr>
              <a:t>الديدان الشريطية</a:t>
            </a:r>
            <a:r>
              <a:rPr b="0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atworms ar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triploblastic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ثلاثية الطبق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ith a middle embryonic tissue layer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mesoderm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بقة الوسطى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hich contributes to more complex organs and organs systems and to true muscle tiss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Line 3"/>
          <p:cNvSpPr/>
          <p:nvPr/>
        </p:nvSpPr>
        <p:spPr>
          <a:xfrm>
            <a:off x="108000" y="90792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250920" y="33336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Platyhelminthes (Flatworms)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ديدان المفلط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092480" y="352440"/>
            <a:ext cx="5016600" cy="6172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4920" y="980640"/>
            <a:ext cx="4105440" cy="71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ematodes parasitize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تطفل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wide range of hosts, and have complex life cycles with alternation 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exu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sexu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tag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requires an intermediate host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عائل وسيط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which the larvae develop before infecting the final hosts (human) where the adult worm liv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luk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Schistosom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fects 200 million peopl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214200" y="333360"/>
            <a:ext cx="46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onstantia"/>
              </a:rPr>
              <a:t>Schistosoma sp. 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Majalla UI"/>
              </a:rPr>
              <a:t>البلهارس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3"/>
          <p:cNvGrpSpPr/>
          <p:nvPr/>
        </p:nvGrpSpPr>
        <p:grpSpPr>
          <a:xfrm>
            <a:off x="108000" y="395280"/>
            <a:ext cx="8807400" cy="3638160"/>
            <a:chOff x="108000" y="395280"/>
            <a:chExt cx="8807400" cy="3638160"/>
          </a:xfrm>
        </p:grpSpPr>
        <p:sp>
          <p:nvSpPr>
            <p:cNvPr id="201" name="Rectangle 4"/>
            <p:cNvSpPr/>
            <p:nvPr/>
          </p:nvSpPr>
          <p:spPr>
            <a:xfrm>
              <a:off x="108000" y="395280"/>
              <a:ext cx="46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ff"/>
                  </a:solidFill>
                  <a:latin typeface="Times New Roman"/>
                </a:rPr>
                <a:t>1- </a:t>
              </a:r>
              <a:r>
                <a:rPr b="1" lang="en-GB" sz="3600" spc="-1" strike="noStrike">
                  <a:solidFill>
                    <a:srgbClr val="0000ff"/>
                  </a:solidFill>
                  <a:latin typeface="Constantia"/>
                </a:rPr>
                <a:t>Phylum: Porifer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2"/>
            <p:cNvSpPr/>
            <p:nvPr/>
          </p:nvSpPr>
          <p:spPr>
            <a:xfrm>
              <a:off x="108000" y="1196280"/>
              <a:ext cx="88074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Constantia"/>
                </a:rPr>
                <a:t>Systematic Position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63f1b"/>
                  </a:solidFill>
                  <a:latin typeface="Constantia"/>
                </a:rPr>
                <a:t> </a:t>
              </a:r>
              <a:r>
                <a:rPr b="1" lang="en-US" sz="2400" spc="-1" strike="noStrike">
                  <a:solidFill>
                    <a:srgbClr val="f63f1b"/>
                  </a:solidFill>
                  <a:latin typeface="Constantia"/>
                </a:rPr>
                <a:t>  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Kingdom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:        Animalia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حيوان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Subkingdom: Parazoa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تحت مملكة نظائر البعدي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   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           Porifera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اسفنجيات (المساميات)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ea typeface="Majalla U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nstantia"/>
                </a:rPr>
                <a:t>                      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nstantia"/>
                </a:rPr>
                <a:t>ex: Spon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08000" y="404640"/>
            <a:ext cx="8856720" cy="755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ponges are sessile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جالسة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with porous bodi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جسام مسامية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nd chaonocyte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خلايا المطوقة أو المسوط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germ layer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بقات المنبت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sponges are not really tissues because the cells are relatively unspecialized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غير متخصص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ponges do not have nervous, digestive or muscle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nges are marine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حر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some live in fresh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ody of a sponge consists of two cell layers separated by a gelatinous region,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mesohyl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ادة الهلام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sponges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ermaphrodit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خنثي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ith each individual producing both sperm and eg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ody of a simple sponge resembles a sac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يشبه كيس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forated with hol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فتح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sponges are suspension feeder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يتغذى على العوالق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lecting food particles from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235080" y="1413000"/>
            <a:ext cx="8729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08000" y="333000"/>
            <a:ext cx="8856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just"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onocytes  use their flagella to create water current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يارات مائ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ough external pores calle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osti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sing. ostium,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ing food (bacteria, Protists, etc.) and oxygen and remove metabolic wastes from the center of the sponge,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pongocoe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onocytes use collar-like rings to filter fo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stes and water flow out a central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osculu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 an excurrent po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6" name="Group 4"/>
          <p:cNvGrpSpPr/>
          <p:nvPr/>
        </p:nvGrpSpPr>
        <p:grpSpPr>
          <a:xfrm>
            <a:off x="1127160" y="2637000"/>
            <a:ext cx="7045200" cy="4105080"/>
            <a:chOff x="1127160" y="2637000"/>
            <a:chExt cx="7045200" cy="4105080"/>
          </a:xfrm>
        </p:grpSpPr>
        <p:pic>
          <p:nvPicPr>
            <p:cNvPr id="207" name="Picture 5" descr="http://paleo.cortland.edu/tutorial/Protista/Protista%20Images/spongecolor.GIF"/>
            <p:cNvPicPr/>
            <p:nvPr/>
          </p:nvPicPr>
          <p:blipFill>
            <a:blip r:embed="rId1"/>
            <a:srcRect l="0" t="0" r="0" b="5779"/>
            <a:stretch/>
          </p:blipFill>
          <p:spPr>
            <a:xfrm>
              <a:off x="1127160" y="2850120"/>
              <a:ext cx="6982920" cy="38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Box 6"/>
            <p:cNvSpPr/>
            <p:nvPr/>
          </p:nvSpPr>
          <p:spPr>
            <a:xfrm>
              <a:off x="1163520" y="2714760"/>
              <a:ext cx="196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  <a:cs typeface="Majalla UI"/>
                </a:rPr>
                <a:t>التجويف المركزي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Box 7"/>
            <p:cNvSpPr/>
            <p:nvPr/>
          </p:nvSpPr>
          <p:spPr>
            <a:xfrm>
              <a:off x="6507360" y="26370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  <a:cs typeface="Majalla UI"/>
                </a:rPr>
                <a:t>الفويه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Box 8"/>
            <p:cNvSpPr/>
            <p:nvPr/>
          </p:nvSpPr>
          <p:spPr>
            <a:xfrm>
              <a:off x="6327720" y="3722760"/>
              <a:ext cx="1844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  <a:cs typeface="Majalla UI"/>
                </a:rPr>
                <a:t>الفوهة أو المسام</a:t>
              </a: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  <a:ea typeface="Majalla U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Box 9"/>
            <p:cNvSpPr/>
            <p:nvPr/>
          </p:nvSpPr>
          <p:spPr>
            <a:xfrm>
              <a:off x="6921720" y="49989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  <a:cs typeface="Majalla UI"/>
                </a:rPr>
                <a:t>البرع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Line 3"/>
          <p:cNvSpPr/>
          <p:nvPr/>
        </p:nvSpPr>
        <p:spPr>
          <a:xfrm>
            <a:off x="108000" y="105408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50920" y="33336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Diploblastica</a:t>
            </a:r>
            <a:r>
              <a:rPr b="1" lang="en-GB" sz="40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Majalla UI"/>
              </a:rPr>
              <a:t>الحيوانات ثنائية الطبق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108000" y="2133720"/>
            <a:ext cx="8807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Kingdom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        Animali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ملكة الحيو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ubkingdom: Metazo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بعديات الحقيق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hylum:           Coelentera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جوفمعو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ass:                Hydrozoa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طائفة الهيد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amples: </a:t>
            </a:r>
            <a:r>
              <a:rPr b="1" i="1" lang="en-US" sz="2400" spc="-1" strike="noStrike">
                <a:solidFill>
                  <a:srgbClr val="0000ff"/>
                </a:solidFill>
                <a:latin typeface="Constantia"/>
              </a:rPr>
              <a:t>Hydra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هيدرا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i="1" lang="en-US" sz="2400" spc="-1" strike="noStrike">
                <a:solidFill>
                  <a:srgbClr val="0000ff"/>
                </a:solidFill>
                <a:latin typeface="Constantia"/>
              </a:rPr>
              <a:t>Obelia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وبل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08000" y="134316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2- 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Phylum: Coelenter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7640" y="982800"/>
            <a:ext cx="8893080" cy="24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basic body has two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Par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essile polyp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قرص الجالس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the floating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edus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يدوزا العائم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olyps adhere to the substratum by the aboral end and extend their tentacles, waiting for pre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dusas(also called jellies) are flattened, mouth-down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فم لأسفل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7" name="Group 8"/>
          <p:cNvGrpSpPr/>
          <p:nvPr/>
        </p:nvGrpSpPr>
        <p:grpSpPr>
          <a:xfrm>
            <a:off x="4427640" y="3166920"/>
            <a:ext cx="4465440" cy="3646800"/>
            <a:chOff x="4427640" y="3166920"/>
            <a:chExt cx="4465440" cy="3646800"/>
          </a:xfrm>
        </p:grpSpPr>
        <p:pic>
          <p:nvPicPr>
            <p:cNvPr id="218" name="Picture 4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4427640" y="3166920"/>
              <a:ext cx="4465440" cy="36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Rectangle 7"/>
            <p:cNvSpPr/>
            <p:nvPr/>
          </p:nvSpPr>
          <p:spPr>
            <a:xfrm>
              <a:off x="4472640" y="5079600"/>
              <a:ext cx="2133360" cy="169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Rectangle 2"/>
          <p:cNvSpPr/>
          <p:nvPr/>
        </p:nvSpPr>
        <p:spPr>
          <a:xfrm>
            <a:off x="108000" y="3181320"/>
            <a:ext cx="391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arnivor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لاحم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use tentacles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لوامس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ranged in a ring around the mouth to capture prey and push the food into the gastrovascular chamber for di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scles and nerves exist in their simplest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108000" y="83664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50920" y="18900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Coelenterata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جوفمعو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07640" y="1413000"/>
            <a:ext cx="3816360" cy="57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asic body plan is a sac with a central digestive compartment,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gastrovascular cavity       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جويف الجوفمعو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Hydr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xist only in the polyp for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environmental conditions are favorable, a hydra reproduces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sexuall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buddi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برعم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108000" y="105408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50920" y="33336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nstantia"/>
              </a:rPr>
              <a:t>Hydra s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15" descr="https://s3.amazonaws.com/classconnection/387/flashcards/1877387/jpg/hydra_labeled-14CF90642AA0B4AADF2.jpg"/>
          <p:cNvPicPr/>
          <p:nvPr/>
        </p:nvPicPr>
        <p:blipFill>
          <a:blip r:embed="rId1"/>
          <a:stretch/>
        </p:blipFill>
        <p:spPr>
          <a:xfrm>
            <a:off x="4030560" y="2060640"/>
            <a:ext cx="5005440" cy="38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7"/>
          <p:cNvSpPr/>
          <p:nvPr/>
        </p:nvSpPr>
        <p:spPr>
          <a:xfrm>
            <a:off x="108000" y="2073240"/>
            <a:ext cx="878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Kingdom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</a:t>
            </a:r>
            <a:r>
              <a:rPr b="1" lang="ar-SA" sz="2400" spc="-1" strike="noStrike">
                <a:solidFill>
                  <a:srgbClr val="f63f1b"/>
                </a:solidFill>
                <a:latin typeface="Constantia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nimalia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مملكة الحيو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Subkingdom: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Metazo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حت مملكة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بعديات الحقيقي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Phylum: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latyhelminthes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شعبة المفلطح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1-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Class :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remato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تريماتودا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ample: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Schistosoma sp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بلهارسيا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Arial"/>
              </a:rPr>
              <a:t>الشيستوسوم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)</a:t>
            </a:r>
            <a:r>
              <a:rPr b="1" i="1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</a:t>
            </a:r>
            <a:r>
              <a:rPr b="1" lang="en-GB" sz="2400" spc="-1" strike="noStrike">
                <a:solidFill>
                  <a:srgbClr val="0000ff"/>
                </a:solidFill>
                <a:latin typeface="Calibri"/>
                <a:ea typeface="Arial"/>
              </a:rPr>
              <a:t>2-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Class: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esto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سيستود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ample: 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Taenia sp.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Tapeworms)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دودة الشريطية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Arial"/>
              </a:rPr>
              <a:t>التيني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108000" y="105408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50920" y="33336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riploblastica</a:t>
            </a:r>
            <a:r>
              <a:rPr b="1" lang="en-GB" sz="40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Majalla UI"/>
              </a:rPr>
              <a:t>الحيوانات ثلاثية الطبق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108000" y="13431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Majalla UI"/>
              </a:rPr>
              <a:t>3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Phylum: 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Platyhelmint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Dell</cp:lastModifiedBy>
  <cp:lastPrinted>2001-01-06T03:20:03Z</cp:lastPrinted>
  <dcterms:modified xsi:type="dcterms:W3CDTF">2015-11-01T19:32:55Z</dcterms:modified>
  <cp:revision>395</cp:revision>
  <dc:subject/>
  <dc:title>Nerve activates contraction</dc:title>
</cp:coreProperties>
</file>