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ADA-59B6-403C-A83A-71A60007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E48-74AC-4737-A1F5-F6105DC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D77-30AA-4AC9-808B-92B4B85D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7DE-982A-4C74-9C9A-F9952302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2EF-0C6A-4F2A-891E-B501BF1B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462-9BA2-4D26-AB07-A65ADA53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61C-75EB-4BD1-807B-39FE97F2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D13-3E84-43ED-9CE5-5BF411E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CCAC-F96F-4FC1-88D7-C98294E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AE15-571D-4FA9-853C-0E9BE7D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4011-2072-43BA-AA24-A63A83C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A97-5AA5-46C4-B533-1487A684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E1EF-43A2-4ABE-8E4A-280D02A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23AE-B077-40B3-8E4C-CE9E0FD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D88-579F-483F-80E5-634831F2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20DF-5161-4EC0-99DD-6ECE0EEE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EE10-53A1-40EE-852F-94C9E119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F27D-3B37-4E31-9768-4EEA664F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7557-61F0-4790-BA2E-5AC7878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017F-30F8-4E8E-8A17-465C20D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0B91-3E9E-4790-B47A-4E236D99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E68F-4964-4AFE-8CC9-D3C94BB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D94-62CA-42E6-AB5C-E2B5120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D3F8-A0F6-42E9-B9E3-7D322C4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B7F2-C74E-4147-9DEF-DAD58AA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4303-2F42-42BE-8933-E8AE3C7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8A5C-B536-419A-835A-3B31BFC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18B3-8BBD-4A77-A236-78864622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B545-16FA-48C7-B81F-4F163C98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D232-6063-41DF-97AC-0D965BF1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E3D5-A778-405D-B2E5-1CE972AD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BD28-453B-49C1-B0FE-F9DD9FA7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7118-539D-447E-BE11-EA352E1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2C9-62A8-456A-9A6F-CBDCFF23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E904-4E01-4244-9B51-FA0D0D5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C14F8-8E7B-400A-9AA9-475E588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C494-65EB-4D3B-852D-A2640B1C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F162-49C2-44F5-958B-4ADB914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3D16-FB4A-4E4C-9CFF-DA40B80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1217-4664-414E-81D3-72FF4D2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918B-58BB-45D1-8558-345C0FF8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ABFC-425A-48EE-9A06-2ABA12E6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3F88-8DA3-46EE-99CB-47AE73B2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32F-3869-44C5-AF08-8950182E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1D9-96B2-46A5-8A35-96FAF215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2F1-BD56-4EB4-83EA-3FAD513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F94-B39A-4699-8D73-EAE17C4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DCD-32E5-4937-BECF-388DBF8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6B5C-E0A5-4CB7-BC71-EE17DB48AF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D47-A1BA-4C2D-BA51-B695FD0292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B7D5-EE36-4060-A60D-EF04603B15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1C90-6C2F-4BB1-A142-71BEE81D4F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 of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08000" y="1419120"/>
            <a:ext cx="8712000" cy="5277240"/>
            <a:chOff x="108000" y="1419120"/>
            <a:chExt cx="8712000" cy="5277240"/>
          </a:xfrm>
        </p:grpSpPr>
        <p:sp>
          <p:nvSpPr>
            <p:cNvPr id="198" name="Rectangle 4"/>
            <p:cNvSpPr/>
            <p:nvPr/>
          </p:nvSpPr>
          <p:spPr>
            <a:xfrm>
              <a:off x="108000" y="1419120"/>
              <a:ext cx="55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nstantia"/>
                </a:rPr>
                <a:t>Phylum of animal kingdom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"/>
            <p:cNvSpPr/>
            <p:nvPr/>
          </p:nvSpPr>
          <p:spPr>
            <a:xfrm>
              <a:off x="372960" y="1995120"/>
              <a:ext cx="8447040" cy="47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1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orifera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Coelenter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جوفمع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3-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Platyhelminthes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مفلطحات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4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Nemat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اسطوان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5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nneli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ديدان الحلق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  <a:ea typeface="Majalla UI"/>
                </a:rPr>
                <a:t>6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Arthropod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مفصليات الأرج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7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</a:t>
              </a: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Mollusca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رخو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8-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Echinodermata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شوكيات الجل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9-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ajalla UI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Chordata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  <a:ea typeface="Majalla UI"/>
                </a:rPr>
                <a:t> </a:t>
              </a:r>
              <a:r>
                <a:rPr b="0" lang="ar-SA" sz="2400" spc="-1" strike="noStrike">
                  <a:solidFill>
                    <a:srgbClr val="ff0000"/>
                  </a:solidFill>
                  <a:latin typeface="Calibri"/>
                  <a:cs typeface="Majalla UI"/>
                </a:rPr>
                <a:t>شعبة الحبل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8000" y="1252440"/>
            <a:ext cx="8686800" cy="57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acoelo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مة التجويف السيلو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gastrovascular caviti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جويف وعائي-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living in marine and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بلهارسيا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شريطية</a:t>
            </a:r>
            <a:r>
              <a:rPr b="0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ة الوسطى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3333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tyhelminthes (Flatworms)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يدان المفلط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092480" y="35244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920" y="980640"/>
            <a:ext cx="4105440" cy="71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تط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requires an intermediate hos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 وسيط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human) where the adult worm li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fects 200 million peop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4200" y="333360"/>
            <a:ext cx="46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onstantia"/>
              </a:rPr>
              <a:t>Schistosoma sp.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بلهارس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"/>
          <p:cNvGrpSpPr/>
          <p:nvPr/>
        </p:nvGrpSpPr>
        <p:grpSpPr>
          <a:xfrm>
            <a:off x="108000" y="395280"/>
            <a:ext cx="8807400" cy="3638160"/>
            <a:chOff x="108000" y="395280"/>
            <a:chExt cx="8807400" cy="3638160"/>
          </a:xfrm>
        </p:grpSpPr>
        <p:sp>
          <p:nvSpPr>
            <p:cNvPr id="201" name="Rectangle 4"/>
            <p:cNvSpPr/>
            <p:nvPr/>
          </p:nvSpPr>
          <p:spPr>
            <a:xfrm>
              <a:off x="108000" y="39528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ff"/>
                  </a:solidFill>
                  <a:latin typeface="Times New Roman"/>
                </a:rPr>
                <a:t>1- </a:t>
              </a:r>
              <a:r>
                <a:rPr b="1" lang="en-GB" sz="3600" spc="-1" strike="noStrike">
                  <a:solidFill>
                    <a:srgbClr val="0000ff"/>
                  </a:solidFill>
                  <a:latin typeface="Constantia"/>
                </a:rPr>
                <a:t>Phylum: Porife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"/>
            <p:cNvSpPr/>
            <p:nvPr/>
          </p:nvSpPr>
          <p:spPr>
            <a:xfrm>
              <a:off x="108000" y="1196280"/>
              <a:ext cx="880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Constantia"/>
                </a:rPr>
                <a:t>Systematic Position</a:t>
              </a:r>
              <a:r>
                <a:rPr b="1" lang="en-US" sz="2400" spc="-1" strike="noStrike">
                  <a:solidFill>
                    <a:srgbClr val="0000ff"/>
                  </a:solidFill>
                  <a:latin typeface="Constanti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63f1b"/>
                  </a:solidFill>
                  <a:latin typeface="Constantia"/>
                </a:rPr>
                <a:t> </a:t>
              </a:r>
              <a:r>
                <a:rPr b="1" lang="en-US" sz="2400" spc="-1" strike="noStrike">
                  <a:solidFill>
                    <a:srgbClr val="f63f1b"/>
                  </a:solidFill>
                  <a:latin typeface="Constantia"/>
                </a:rPr>
                <a:t>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Kingdom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:        Animali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يوان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Subkingdom: Parazoa 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تحت مملكة نظائر البعدي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nstantia"/>
                </a:rPr>
                <a:t>Phylum:           Porifera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شعبة الاسفنجيات (المساميات)</a:t>
              </a:r>
              <a:r>
                <a:rPr b="0" lang="ar-SA" sz="2400" spc="-1" strike="noStrike">
                  <a:solidFill>
                    <a:srgbClr val="ff0000"/>
                  </a:solidFill>
                  <a:latin typeface="Constantia"/>
                  <a:ea typeface="Majalla U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                     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nstantia"/>
                </a:rPr>
                <a:t>ex: Spo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8000" y="404640"/>
            <a:ext cx="8856720" cy="755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السة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جسام مسام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d chaonocy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مطوقة أو المسوط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بقات المنبت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تخصص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 do not have nervous, digestive or muscle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حر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ome live in fresh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mesohy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ادة الهلام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خنث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and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شبه كي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فتح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sponges are suspension fee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تغذى على العوالق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cting food particles from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235080" y="1413000"/>
            <a:ext cx="872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8000" y="333000"/>
            <a:ext cx="8856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 use their flagella to create water curr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يارات م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external pores call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t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ing. ostium,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ongocoe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onocytes use collar-like rings to filter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scul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 an excurrent po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1127160" y="2637000"/>
            <a:ext cx="7045200" cy="4105080"/>
            <a:chOff x="1127160" y="2637000"/>
            <a:chExt cx="7045200" cy="4105080"/>
          </a:xfrm>
        </p:grpSpPr>
        <p:pic>
          <p:nvPicPr>
            <p:cNvPr id="207" name="Picture 5" descr="http://paleo.cortland.edu/tutorial/Protista/Protista%20Images/spongecolor.GIF"/>
            <p:cNvPicPr/>
            <p:nvPr/>
          </p:nvPicPr>
          <p:blipFill>
            <a:blip r:embed="rId1"/>
            <a:srcRect l="0" t="0" r="0" b="5779"/>
            <a:stretch/>
          </p:blipFill>
          <p:spPr>
            <a:xfrm>
              <a:off x="1127160" y="2850120"/>
              <a:ext cx="6982920" cy="38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6"/>
            <p:cNvSpPr/>
            <p:nvPr/>
          </p:nvSpPr>
          <p:spPr>
            <a:xfrm>
              <a:off x="1163520" y="2714760"/>
              <a:ext cx="196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تجويف المركز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Box 7"/>
            <p:cNvSpPr/>
            <p:nvPr/>
          </p:nvSpPr>
          <p:spPr>
            <a:xfrm>
              <a:off x="6507360" y="2637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يه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Box 8"/>
            <p:cNvSpPr/>
            <p:nvPr/>
          </p:nvSpPr>
          <p:spPr>
            <a:xfrm>
              <a:off x="6327720" y="3722760"/>
              <a:ext cx="184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فوهة أو المسام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ea typeface="Majalla U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9"/>
            <p:cNvSpPr/>
            <p:nvPr/>
          </p:nvSpPr>
          <p:spPr>
            <a:xfrm>
              <a:off x="6921720" y="4998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  <a:cs typeface="Majalla UI"/>
                </a:rPr>
                <a:t>البرع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نائ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08000" y="2133720"/>
            <a:ext cx="880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       Animal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Meta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بعديات الحقيق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hylum:           Coelentera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                Hydrozo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هيد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amples: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Hydr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درا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1" i="1" lang="en-US" sz="2400" spc="-1" strike="noStrike">
                <a:solidFill>
                  <a:srgbClr val="0000ff"/>
                </a:solidFill>
                <a:latin typeface="Constantia"/>
              </a:rPr>
              <a:t>Obelia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ب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8000" y="13431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Coelenter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640" y="982800"/>
            <a:ext cx="889308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basic body has two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ssile polyp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ص الجال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he float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edus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دوزا العائم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usas(also called jellies) are flattened, mouth-dow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م لأسفل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7" name="Group 8"/>
          <p:cNvGrpSpPr/>
          <p:nvPr/>
        </p:nvGrpSpPr>
        <p:grpSpPr>
          <a:xfrm>
            <a:off x="4427640" y="3166920"/>
            <a:ext cx="4465440" cy="3646800"/>
            <a:chOff x="4427640" y="3166920"/>
            <a:chExt cx="4465440" cy="3646800"/>
          </a:xfrm>
        </p:grpSpPr>
        <p:pic>
          <p:nvPicPr>
            <p:cNvPr id="218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427640" y="3166920"/>
              <a:ext cx="4465440" cy="36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7"/>
            <p:cNvSpPr/>
            <p:nvPr/>
          </p:nvSpPr>
          <p:spPr>
            <a:xfrm>
              <a:off x="4472640" y="5079600"/>
              <a:ext cx="2133360" cy="169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108000" y="3181320"/>
            <a:ext cx="391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nivor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لاح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use tentacle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لوامس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ranged in a ring around the mouth to capture prey and push the food into the gastrovascular chamber for di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cles and nerves exist in their simplest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08000" y="83664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1890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oelenterat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جوفمعو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07640" y="1413000"/>
            <a:ext cx="381636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astrovascular cavity      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جويف الجوفمع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udd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برع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nstantia"/>
              </a:rPr>
              <a:t>Hydra s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5" descr="https://s3.amazonaws.com/classconnection/387/flashcards/1877387/jpg/hydra_labeled-14CF90642AA0B4AADF2.jpg"/>
          <p:cNvPicPr/>
          <p:nvPr/>
        </p:nvPicPr>
        <p:blipFill>
          <a:blip r:embed="rId1"/>
          <a:stretch/>
        </p:blipFill>
        <p:spPr>
          <a:xfrm>
            <a:off x="4030560" y="2060640"/>
            <a:ext cx="50054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7"/>
          <p:cNvSpPr/>
          <p:nvPr/>
        </p:nvSpPr>
        <p:spPr>
          <a:xfrm>
            <a:off x="108000" y="207324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ar-SA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imalia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ملكة الحيو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ubkingdo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عديات الحقيق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Phylum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yhelminthes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شعبة المفلطح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 :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chistosoma sp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بلهارسيا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شيستوسوم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1" i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</a:t>
            </a:r>
            <a:r>
              <a:rPr b="1" lang="en-GB" sz="24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Class: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est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سيستود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ample: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Taenia sp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Tapeworms)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ودة الشريطية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تين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08000" y="10540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333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r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حيوانات ثلاثية الطب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8000" y="1343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Majalla UI"/>
              </a:rPr>
              <a:t>3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Platyhelmint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01T19:32:55Z</dcterms:modified>
  <cp:revision>395</cp:revision>
  <dc:subject/>
  <dc:title>Nerve activates contraction</dc:title>
</cp:coreProperties>
</file>