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848-6951-4893-BE8E-A3C4E9F5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C38-C84D-432C-8472-6E297C67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426-3BBB-4ED4-80C6-C16A362A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3F9-8C22-4053-98D6-ADB6D61A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A981-1B3C-4E12-8E5F-DA40CE03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ABC-FE93-495B-A243-C80E3519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44E4-3D83-424F-BD2A-A0125AF8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507C-1F25-4E07-9326-F2B19A1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6332-BA62-44FC-A373-87D55CF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4284-48C6-4D3D-899D-88673BA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06FE-9FCD-4F7A-8C25-B4ED4F8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AF0-5E2A-4603-9C62-8699A0B4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232-AC40-45AF-9BE0-B276002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53C8-CCC8-4871-9DDF-D8412BC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5CBC-0D8C-419F-82E2-C087219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5E81-4A4E-4CC8-8876-5535C757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5B12-57EB-4A52-93BF-DE67CA7B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16DD-2134-4061-AA2E-4EC5E4FF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4225-C4B1-4DB9-AE17-02DEE4A7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FDD2-D7E2-42A6-979E-DB15519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CC45-9F61-4EB6-8E15-5582FCA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5655-D87D-4B26-BC01-E47137A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FA7-6022-4627-8FF4-43A9244D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1763-3098-414E-8AE2-219A4CE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3BAF-99CC-40A6-BC41-3BAD7BC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9A71-CAE4-49A7-9CAF-170766F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5DB8-C8B5-48F9-B3D0-CB0CE4F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1DC6-8F75-4273-B53D-9F390BB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4CD2-2C5E-46DE-8816-744F6D98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6F5F-D678-43A8-B968-3E3B5D6E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CBA9-3D3D-46B1-994D-48ACF01B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36AA0-A30F-4495-9641-6E2EB7D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86F6-5C10-4AEA-B321-BED60C69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E55-AA65-47C8-923D-86F3B55A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0A54-151C-490A-9E86-7DEEA19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C75D-D334-458A-9737-510BF6C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4C71-61E1-47F6-A3FC-5BFD87E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13E1-05F6-4AA8-B7EE-00FEEE3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2D34-6C47-4F5B-A3B1-92BD7F9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06C4-D5DE-49AE-AA05-148EB47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E556-4390-4325-BEBF-72E6D256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1627-D306-4AF5-BB81-1438BA92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69D7-2C3E-4363-8D28-7ACC83E3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547-16A7-4725-A53D-7A9C6097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38A-F429-4122-8E9C-29CE1C3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A81-FB82-4F3C-89A1-5179A90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676-7F61-4104-B8A7-205D1E6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C36-8AF8-405D-9213-15D4E3B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8A0-AF48-4ACE-9652-EB895023C4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711-50B9-4028-B28F-3AB2E3F5A6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14CA-9C8B-42B7-8F17-252016DA88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DD1C-B73C-4DEC-858A-811A49B1E8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 of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08000" y="1419120"/>
            <a:ext cx="8712000" cy="5277240"/>
            <a:chOff x="108000" y="1419120"/>
            <a:chExt cx="8712000" cy="5277240"/>
          </a:xfrm>
        </p:grpSpPr>
        <p:sp>
          <p:nvSpPr>
            <p:cNvPr id="198" name="Rectangle 4"/>
            <p:cNvSpPr/>
            <p:nvPr/>
          </p:nvSpPr>
          <p:spPr>
            <a:xfrm>
              <a:off x="108000" y="1419120"/>
              <a:ext cx="55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nstantia"/>
                </a:rPr>
                <a:t>Phylum of animal kingdom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"/>
            <p:cNvSpPr/>
            <p:nvPr/>
          </p:nvSpPr>
          <p:spPr>
            <a:xfrm>
              <a:off x="372960" y="1995120"/>
              <a:ext cx="8447040" cy="47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1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orifera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Coelenter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جوفمع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3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latyhelminthes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مفلطحات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4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Nemat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اسطوان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5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nneli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حلق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6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rthrop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مفصليات الأرج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7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Mollusca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رخ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8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Echinoderm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شوكيات الجل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9-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Chordata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  <a:ea typeface="Majalla UI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Majalla UI"/>
                </a:rPr>
                <a:t>شعبة الحبل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8000" y="1252440"/>
            <a:ext cx="8686800" cy="57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acoelo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مة التجويف السيلو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gastrovascular caviti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جويف وعائي-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living in marine and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بلهارسيا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شريطية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ة الوسطى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0920" y="3333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tyhelminthes (Flatworms)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مفلط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092480" y="35244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4920" y="980640"/>
            <a:ext cx="4105440" cy="71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تط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requires an intermediate hos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 وسيط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human) where the adult worm li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fects 200 million peop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4200" y="333360"/>
            <a:ext cx="46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nstantia"/>
              </a:rPr>
              <a:t>Schistosoma sp.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بلهارس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"/>
          <p:cNvGrpSpPr/>
          <p:nvPr/>
        </p:nvGrpSpPr>
        <p:grpSpPr>
          <a:xfrm>
            <a:off x="108000" y="395280"/>
            <a:ext cx="8807400" cy="3638160"/>
            <a:chOff x="108000" y="395280"/>
            <a:chExt cx="8807400" cy="3638160"/>
          </a:xfrm>
        </p:grpSpPr>
        <p:sp>
          <p:nvSpPr>
            <p:cNvPr id="201" name="Rectangle 4"/>
            <p:cNvSpPr/>
            <p:nvPr/>
          </p:nvSpPr>
          <p:spPr>
            <a:xfrm>
              <a:off x="108000" y="39528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ff"/>
                  </a:solidFill>
                  <a:latin typeface="Times New Roman"/>
                </a:rPr>
                <a:t>1- </a:t>
              </a:r>
              <a:r>
                <a:rPr b="1" lang="en-GB" sz="3600" spc="-1" strike="noStrike">
                  <a:solidFill>
                    <a:srgbClr val="0000ff"/>
                  </a:solidFill>
                  <a:latin typeface="Constantia"/>
                </a:rPr>
                <a:t>Phylum: Porifer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"/>
            <p:cNvSpPr/>
            <p:nvPr/>
          </p:nvSpPr>
          <p:spPr>
            <a:xfrm>
              <a:off x="108000" y="1196280"/>
              <a:ext cx="8807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Systematic Posi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63f1b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f63f1b"/>
                  </a:solidFill>
                  <a:latin typeface="Constantia"/>
                </a:rPr>
                <a:t>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Kingdom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:        Animali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يوان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Subkingdom: Parazo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تحت مملكة نظائر البعد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         Porifera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 (المساميات)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                   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ex: Spo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8000" y="404640"/>
            <a:ext cx="8856720" cy="755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السة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جسام مسام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d chaonocy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مطوقة أو المسوط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ات المنبت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تخصص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 do not have nervous, digestive or muscle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حر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live in fresh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hy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ادة الهلام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خنث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and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شبه كي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فتح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sponges are suspension fee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تغذى على العوالق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ecting food particles from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35080" y="1413000"/>
            <a:ext cx="872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8000" y="333000"/>
            <a:ext cx="8856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 use their flagella to create water curr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يارات م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 external pores call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t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ing. ostium,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ongocoe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use collar-like rings to filter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cul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an excurrent po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127160" y="2637000"/>
            <a:ext cx="7045200" cy="4105080"/>
            <a:chOff x="1127160" y="2637000"/>
            <a:chExt cx="7045200" cy="4105080"/>
          </a:xfrm>
        </p:grpSpPr>
        <p:pic>
          <p:nvPicPr>
            <p:cNvPr id="207" name="Picture 5" descr="http://paleo.cortland.edu/tutorial/Protista/Protista%20Images/spongecolor.GIF"/>
            <p:cNvPicPr/>
            <p:nvPr/>
          </p:nvPicPr>
          <p:blipFill>
            <a:blip r:embed="rId1"/>
            <a:srcRect l="0" t="0" r="0" b="5779"/>
            <a:stretch/>
          </p:blipFill>
          <p:spPr>
            <a:xfrm>
              <a:off x="1127160" y="2850120"/>
              <a:ext cx="6982920" cy="38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6"/>
            <p:cNvSpPr/>
            <p:nvPr/>
          </p:nvSpPr>
          <p:spPr>
            <a:xfrm>
              <a:off x="1163520" y="2714760"/>
              <a:ext cx="196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تجويف المركز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Box 7"/>
            <p:cNvSpPr/>
            <p:nvPr/>
          </p:nvSpPr>
          <p:spPr>
            <a:xfrm>
              <a:off x="6507360" y="2637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يه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Box 8"/>
            <p:cNvSpPr/>
            <p:nvPr/>
          </p:nvSpPr>
          <p:spPr>
            <a:xfrm>
              <a:off x="6327720" y="372276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هة أو المسام</a:t>
              </a: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9"/>
            <p:cNvSpPr/>
            <p:nvPr/>
          </p:nvSpPr>
          <p:spPr>
            <a:xfrm>
              <a:off x="6921720" y="4998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برع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نائ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08000" y="2133720"/>
            <a:ext cx="880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      Animal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bkingdom: Meta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بعديات الحقيق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hylum:           Coelentera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ass:                Hydrozo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هيد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Hydr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درا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Obeli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ب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8000" y="13431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2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Coelenter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640" y="982800"/>
            <a:ext cx="8893080" cy="24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basic body has tw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ssile polyp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ص الجال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e float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edus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دوزا العائم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usas(also called jellies) are flattened, mouth-dow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م لأس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4427640" y="3166920"/>
            <a:ext cx="4465440" cy="3646800"/>
            <a:chOff x="4427640" y="3166920"/>
            <a:chExt cx="4465440" cy="3646800"/>
          </a:xfrm>
        </p:grpSpPr>
        <p:pic>
          <p:nvPicPr>
            <p:cNvPr id="218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427640" y="3166920"/>
              <a:ext cx="4465440" cy="36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7"/>
            <p:cNvSpPr/>
            <p:nvPr/>
          </p:nvSpPr>
          <p:spPr>
            <a:xfrm>
              <a:off x="4472640" y="5079600"/>
              <a:ext cx="2133360" cy="169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108000" y="3181320"/>
            <a:ext cx="391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nivor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لاح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use tentacle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لوامس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ranged in a ring around the mouth to capture prey and push the food into the gastrovascular chamber for di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cles and nerves exist in their simplest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08000" y="83664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50920" y="1890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oelenterat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7640" y="1413000"/>
            <a:ext cx="381636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astrovascular cavity      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جويف الجوف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udd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برع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nstantia"/>
              </a:rPr>
              <a:t>Hydra s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5" descr="https://s3.amazonaws.com/classconnection/387/flashcards/1877387/jpg/hydra_labeled-14CF90642AA0B4AADF2.jpg"/>
          <p:cNvPicPr/>
          <p:nvPr/>
        </p:nvPicPr>
        <p:blipFill>
          <a:blip r:embed="rId1"/>
          <a:stretch/>
        </p:blipFill>
        <p:spPr>
          <a:xfrm>
            <a:off x="4030560" y="2060640"/>
            <a:ext cx="500544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7"/>
          <p:cNvSpPr/>
          <p:nvPr/>
        </p:nvSpPr>
        <p:spPr>
          <a:xfrm>
            <a:off x="108000" y="207324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ar-SA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imalia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ubkingdo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 مملكة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عديات الحقيق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Phylu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yhelminthes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شعبة المفلطح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 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chistosoma sp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لهارسيا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شيستوسوم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1" i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: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es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سيستود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Taenia sp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Tapeworms)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ودة الشريطية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تين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r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لاث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8000" y="1343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Majalla UI"/>
              </a:rPr>
              <a:t>3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Platyhelmint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01T19:32:55Z</dcterms:modified>
  <cp:revision>395</cp:revision>
  <dc:subject/>
  <dc:title>Nerve activates contraction</dc:title>
</cp:coreProperties>
</file>