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C583-4813-44EE-9EC6-932C877A3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F8FB-9FB6-4648-AFE3-F88D85615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89E5-87B2-4AC0-8C65-884A1337F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9365-3C90-4326-8CDC-F030990A2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20FB5-ED45-4CA5-BF07-62AD5F403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C4E77-870D-4E1E-B32A-DC513752B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5B7C9-AE52-4F65-B629-B693D3DDE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A3208-F674-4C0E-922A-6A7A7A763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B00C2-8D9F-4886-ABC1-0A722A47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2FB16-CB63-42B9-8B9F-1E451A1C3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4D45E-DCE6-49D3-962E-14CB6A3C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FF50-D005-4956-B771-6EF54B752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53E4D-A79C-4FD4-9473-32E8FA74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82BA4-2BF7-4D20-B4B2-A36D7611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FBBB5-A371-4CE6-9FA1-44E7B2DD2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8C2D8-7290-468F-A1A2-B010A64AF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1D09B-BC07-471A-9978-463357E12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A1CDC-43DE-42BA-8B72-C3218A35E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70D0C-097B-4D7D-8729-D8143CEC1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B056C-F95D-4F86-9F26-E22793EA5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020F7-48AF-4623-A697-3B6BA3FE8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FFB33-F487-4CBC-8DA9-D7DA7EA66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14F1-2932-4B4C-BB74-B13F1563C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95C1D-E573-4795-B6FD-445AB49DC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D8986-52D3-4922-AA16-D60454F8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6D75B-6A1B-43BC-B81D-92A3C70C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0158F-F607-4402-8DCE-DF845161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20D66-82FC-4463-962A-135B45D57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4A4BF-0556-42C9-A1F1-03205CE44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6CC37-76E8-4972-9E9E-896C5D7A1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47AA6-F001-4ED6-9914-CD1E65C07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C9C1B-FF0D-461A-9D81-81CEF3FA8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C53D6-7B01-4330-AFA7-51DEF0F47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0513-CF8E-4185-B4E5-5A64C050A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BAFEF-FCF3-4E57-B409-79E293C41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48535-9E0E-4162-A30B-2F0F8368B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8F118-6128-45C2-8DD0-729E148A4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C9A2F-6477-4E1E-AA1D-9A003A30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B04A4-0759-45A8-A757-5F9F0170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F2BAC-3499-421D-9772-94BB4E9B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DE6BA-45F7-40D5-AEAD-5E73FF500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9A731-9439-4B45-B65C-FD6084D19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AD0EE-A0AE-4C14-8CF6-9686D85F5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4C47-E098-4DF0-93EE-2AB0BB0F9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04D9-C73C-467D-971D-4BF56ED25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3B41-4355-4632-BA52-FB081663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E099-2307-4186-88CA-CAF040D4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FFF2-3B04-425A-8DFF-84763682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940F9-9E3D-4A99-B01E-B790531B76E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7E4EA-FB70-4056-ADAB-831BDC230E5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10209-7238-4C95-837D-A7A9EC84C53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6461F-C1A9-4086-BDCA-8E9F1466A5C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8"/>
          <p:cNvSpPr/>
          <p:nvPr/>
        </p:nvSpPr>
        <p:spPr>
          <a:xfrm>
            <a:off x="357120" y="2295360"/>
            <a:ext cx="8282160" cy="33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Kingdom</a:t>
            </a:r>
            <a:r>
              <a:rPr b="1" lang="en-US" sz="3600" spc="-1" strike="noStrike">
                <a:solidFill>
                  <a:srgbClr val="f63f1b"/>
                </a:solidFill>
                <a:latin typeface="Times New Roman"/>
              </a:rPr>
              <a:t>:   </a:t>
            </a:r>
            <a:r>
              <a:rPr b="1" lang="ar-SA" sz="3600" spc="-1" strike="noStrike">
                <a:solidFill>
                  <a:srgbClr val="f63f1b"/>
                </a:solidFill>
                <a:latin typeface="Times New Roman"/>
                <a:ea typeface="Arial"/>
              </a:rPr>
              <a:t>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imalia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حيوانات المتقدمة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)- Subkingdom</a:t>
            </a:r>
            <a:r>
              <a:rPr b="1" lang="en-US" sz="3600" spc="-1" strike="noStrike">
                <a:solidFill>
                  <a:srgbClr val="f63f1b"/>
                </a:solidFill>
                <a:latin typeface="Times New Roman"/>
              </a:rPr>
              <a:t>: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arazoa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نظائر البعديات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hylum</a:t>
            </a:r>
            <a:r>
              <a:rPr b="1" lang="en-US" sz="3600" spc="-1" strike="noStrike">
                <a:solidFill>
                  <a:srgbClr val="f63f1b"/>
                </a:solidFill>
                <a:latin typeface="Times New Roman"/>
              </a:rPr>
              <a:t>:         </a:t>
            </a:r>
            <a:r>
              <a:rPr b="1" lang="ar-SA" sz="3600" spc="-1" strike="noStrike">
                <a:solidFill>
                  <a:srgbClr val="f63f1b"/>
                </a:solidFill>
                <a:latin typeface="Times New Roman"/>
                <a:ea typeface="Arial"/>
              </a:rPr>
              <a:t>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orifera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مساميات (الإسفنجيات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Majalla UI"/>
              </a:rPr>
              <a:t> </a:t>
            </a:r>
            <a:r>
              <a:rPr b="1" lang="en-GB" sz="3200" spc="-1" strike="noStrike">
                <a:solidFill>
                  <a:srgbClr val="0000ff"/>
                </a:solidFill>
                <a:latin typeface="Times New Roman"/>
              </a:rPr>
              <a:t>Sponges</a:t>
            </a:r>
            <a:r>
              <a:rPr b="1" i="1" lang="en-GB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1895040" y="1373040"/>
            <a:ext cx="461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ff"/>
                </a:solidFill>
                <a:latin typeface="Times New Roman"/>
              </a:rPr>
              <a:t>Sponges </a:t>
            </a:r>
            <a:r>
              <a:rPr b="1" lang="ar-SA" sz="4400" spc="-1" strike="noStrike">
                <a:solidFill>
                  <a:srgbClr val="0000ff"/>
                </a:solidFill>
                <a:latin typeface="Times New Roman"/>
                <a:cs typeface="Majalla UI"/>
              </a:rPr>
              <a:t>الأسفنج</a:t>
            </a:r>
            <a:r>
              <a:rPr b="1" i="1" lang="en-GB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11360" y="366480"/>
            <a:ext cx="5532480" cy="5619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ecture 15: Animal Classification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50560" y="604440"/>
            <a:ext cx="87627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8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Calibri"/>
              </a:rPr>
              <a:t>Platyhelminthes: Flatworms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Arial"/>
              </a:rPr>
              <a:t>الديدان المفلطحة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811160"/>
            <a:ext cx="86868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hey are </a:t>
            </a:r>
            <a:r>
              <a:rPr b="1" lang="en-US" sz="2300" spc="-1" strike="noStrike">
                <a:solidFill>
                  <a:srgbClr val="000000"/>
                </a:solidFill>
                <a:latin typeface="Constantia"/>
              </a:rPr>
              <a:t>acoelomates</a:t>
            </a:r>
            <a:r>
              <a:rPr b="0" lang="ar-SA" sz="1900" spc="-1" strike="noStrike">
                <a:solidFill>
                  <a:srgbClr val="000000"/>
                </a:solidFill>
                <a:latin typeface="Constantia"/>
                <a:cs typeface="Arial"/>
              </a:rPr>
              <a:t>عديمة التجويف السيلومي</a:t>
            </a:r>
            <a:r>
              <a:rPr b="0" lang="ar-SA" sz="19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nstantia"/>
              </a:rPr>
              <a:t>with gastrovascular cavities</a:t>
            </a:r>
            <a:r>
              <a:rPr b="1" lang="ar-SA" sz="23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ar-SA" sz="1900" spc="-1" strike="noStrike">
                <a:solidFill>
                  <a:srgbClr val="000000"/>
                </a:solidFill>
                <a:latin typeface="Constantia"/>
                <a:cs typeface="Arial"/>
              </a:rPr>
              <a:t>ولها تجويف وعائي-معوي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hey are living in marine, freshwater, and damp terrestrial habitat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والبيئة الأرضية الرطب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y also include many parasitic species, such as the fluk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ديدان البلهارسيا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nd tapeworm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ديدان الشريطي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Flatworms are </a:t>
            </a:r>
            <a:r>
              <a:rPr b="1" lang="en-US" sz="2200" spc="-1" strike="noStrike">
                <a:solidFill>
                  <a:srgbClr val="ff0000"/>
                </a:solidFill>
                <a:latin typeface="Constantia"/>
              </a:rPr>
              <a:t>triploblastic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ثلاثية الطبقات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, with a middle embryonic tissue layer, </a:t>
            </a:r>
            <a:r>
              <a:rPr b="1" lang="en-US" sz="2200" spc="-1" strike="noStrike">
                <a:solidFill>
                  <a:srgbClr val="ff0000"/>
                </a:solidFill>
                <a:latin typeface="Constantia"/>
              </a:rPr>
              <a:t>mesoderm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طبقة الوسطى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, which contributes to more complex organs and organs systems and to true muscle tissu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152280" y="12952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3975120" y="304920"/>
            <a:ext cx="5016600" cy="61722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179280" y="1298160"/>
            <a:ext cx="3835440" cy="591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rematodes parasitize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تتطفل على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a wide range of hosts, and have complex life cycles with alternation of </a:t>
            </a:r>
            <a:r>
              <a:rPr b="1" lang="en-US" sz="2200" spc="-1" strike="noStrike">
                <a:solidFill>
                  <a:srgbClr val="ff0000"/>
                </a:solidFill>
                <a:latin typeface="Constantia"/>
              </a:rPr>
              <a:t>sexual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US" sz="2200" spc="-1" strike="noStrike">
                <a:solidFill>
                  <a:srgbClr val="ff0000"/>
                </a:solidFill>
                <a:latin typeface="Constantia"/>
              </a:rPr>
              <a:t>asexual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stage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any require an intermediate host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عائل وسيط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n which the larvae develop before infecting the final hosts (usually a vertebrate) where the adult worm liv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fluke </a:t>
            </a:r>
            <a:r>
              <a:rPr b="1" i="1" lang="en-US" sz="2000" spc="-1" strike="noStrike">
                <a:solidFill>
                  <a:srgbClr val="000000"/>
                </a:solidFill>
                <a:latin typeface="Constantia"/>
              </a:rPr>
              <a:t>Schistosom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infects 200 million peopl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214200" y="635040"/>
            <a:ext cx="39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Schistosoma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cs typeface="Majalla UI"/>
              </a:rPr>
              <a:t>البلهارسي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228600" y="1698480"/>
            <a:ext cx="86868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Sponges are sessile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جالسة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with porous bodies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أجسام مسامية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and choanocy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germ layers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الطبقات المنبت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of sponges are not really tissues because the cells are relatively unspecialized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غير متخصصة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ponges lack nerves or musc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ost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ponges are marine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بحري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nd some </a:t>
            </a:r>
            <a:r>
              <a:rPr b="1" lang="en-US" sz="2500" spc="-1" strike="noStrike">
                <a:solidFill>
                  <a:srgbClr val="000000"/>
                </a:solidFill>
                <a:latin typeface="Constantia"/>
              </a:rPr>
              <a:t>live in fresh water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الماء العذب</a:t>
            </a:r>
            <a:r>
              <a:rPr b="1" lang="ar-SA" sz="25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body of a sponge consists of two cell layers separated by a gelatinous region, 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mesohyl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ost sponges ar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hermaphrodites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خنثي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with each individual producing both sperm </a:t>
            </a: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egg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Line 5"/>
          <p:cNvSpPr/>
          <p:nvPr/>
        </p:nvSpPr>
        <p:spPr>
          <a:xfrm>
            <a:off x="152280" y="14842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468360" y="36180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- Phylum: Porifer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مساميات (الإسفنجيات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Majalla U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3200" spc="-1" strike="noStrike">
                <a:solidFill>
                  <a:srgbClr val="0000ff"/>
                </a:solidFill>
                <a:latin typeface="Times New Roman"/>
              </a:rPr>
              <a:t>Sponges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إسفنج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179280" y="806040"/>
            <a:ext cx="8785440" cy="16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he body of a simple sponge resembles a sac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يشبه كيس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perforated with hol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فتحات</a:t>
            </a:r>
            <a:r>
              <a:rPr b="1" lang="ar-SA" sz="22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Nearly all sponges are suspension feeder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يتغذى على العوالق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, collecting food particles from water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6" descr=""/>
          <p:cNvPicPr/>
          <p:nvPr/>
        </p:nvPicPr>
        <p:blipFill>
          <a:blip r:embed="rId1"/>
          <a:stretch/>
        </p:blipFill>
        <p:spPr>
          <a:xfrm>
            <a:off x="431640" y="2349360"/>
            <a:ext cx="853308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28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4617b"/>
                </a:solidFill>
                <a:latin typeface="Calibri"/>
              </a:rPr>
              <a:t>Water Currents for Everything!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2438280"/>
            <a:ext cx="8229600" cy="42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oanocytes use their flagella to create water currents through external pores called –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ostia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(sing. ostium,); incurrent por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ring food (bacteria, protists, etc.) and oxygen and remove metabolic wastes from the center of the sponge –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spongocoel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oanocytes use collar-like rings to filter foo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astes and water flow out a central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osculum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(plural, oscula); an excurrent por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3" descr="H:\RLK PowerPoint Lectures\PowerPoint Tools\New Folder\sponge pic2.gif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  <p:pic>
        <p:nvPicPr>
          <p:cNvPr id="206" name="Rectangle 2" descr=""/>
          <p:cNvPicPr/>
          <p:nvPr/>
        </p:nvPicPr>
        <p:blipFill>
          <a:blip r:embed="rId2"/>
          <a:stretch/>
        </p:blipFill>
        <p:spPr>
          <a:xfrm>
            <a:off x="281160" y="182520"/>
            <a:ext cx="810720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Line 3"/>
          <p:cNvSpPr/>
          <p:nvPr/>
        </p:nvSpPr>
        <p:spPr>
          <a:xfrm>
            <a:off x="914400" y="1557360"/>
            <a:ext cx="7315200" cy="144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250920" y="727200"/>
            <a:ext cx="876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Diploblastica</a:t>
            </a:r>
            <a:r>
              <a:rPr b="1" lang="en-GB" sz="4000" spc="-1" strike="noStrike">
                <a:solidFill>
                  <a:srgbClr val="f63f1b"/>
                </a:solidFill>
                <a:latin typeface="Times New Roman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Arial"/>
              </a:rPr>
              <a:t>الحيوانات</a:t>
            </a:r>
            <a:r>
              <a:rPr b="1" lang="ar-SA" sz="3200" spc="-1" strike="noStrike">
                <a:solidFill>
                  <a:srgbClr val="f63f1b"/>
                </a:solidFill>
                <a:latin typeface="Times New Roman"/>
                <a:ea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Arial"/>
              </a:rPr>
              <a:t>ثنائية الطبق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95280" y="2205000"/>
            <a:ext cx="8497800" cy="35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Kingdom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1" lang="en-US" sz="3600" spc="-1" strike="noStrike">
                <a:solidFill>
                  <a:srgbClr val="f63f1b"/>
                </a:solidFill>
                <a:latin typeface="Times New Roman"/>
              </a:rPr>
              <a:t>        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imalia</a:t>
            </a:r>
            <a:r>
              <a:rPr b="1" lang="en-US" sz="3600" spc="-1" strike="noStrike">
                <a:solidFill>
                  <a:srgbClr val="f63f1b"/>
                </a:solidFill>
                <a:latin typeface="Times New Roman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Arial"/>
              </a:rPr>
              <a:t>الحيوانات</a:t>
            </a:r>
            <a:r>
              <a:rPr b="1" lang="ar-SA" sz="3600" spc="-1" strike="noStrike">
                <a:solidFill>
                  <a:srgbClr val="f63f1b"/>
                </a:solidFill>
                <a:latin typeface="Times New Roman"/>
                <a:ea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Arial"/>
              </a:rPr>
              <a:t>المتقدمة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B)- Subkingdom:</a:t>
            </a:r>
            <a:r>
              <a:rPr b="1" lang="en-US" sz="3600" spc="-1" strike="noStrike">
                <a:solidFill>
                  <a:srgbClr val="f63f1b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etazoa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Arial"/>
              </a:rPr>
              <a:t>البعديات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hylum:</a:t>
            </a:r>
            <a:r>
              <a:rPr b="1" lang="en-US" sz="3600" spc="-1" strike="noStrike">
                <a:solidFill>
                  <a:srgbClr val="f63f1b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oelentrata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Arial"/>
              </a:rPr>
              <a:t>الجوفمعويات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Class :</a:t>
            </a:r>
            <a:r>
              <a:rPr b="1" lang="en-US" sz="3600" spc="-1" strike="noStrike">
                <a:solidFill>
                  <a:srgbClr val="f63f1b"/>
                </a:solidFill>
                <a:latin typeface="Times New Roman"/>
                <a:ea typeface="Arial"/>
              </a:rPr>
              <a:t>              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Arial"/>
              </a:rPr>
              <a:t>Hydrozoa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Arial"/>
              </a:rPr>
              <a:t>الهدريات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ff"/>
                </a:solidFill>
                <a:latin typeface="Times New Roman"/>
              </a:rPr>
              <a:t>Hydra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هيدرا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amp; </a:t>
            </a:r>
            <a:r>
              <a:rPr b="1" i="1" lang="en-GB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Obelia</a:t>
            </a:r>
            <a:r>
              <a:rPr b="1" i="1" lang="ar-SA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أوبليا</a:t>
            </a:r>
            <a:r>
              <a:rPr b="1" i="1" lang="ar-SA" sz="32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04920" y="762120"/>
            <a:ext cx="86104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his basic body plan has two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Parts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: the sessile polyp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قرص الجالس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and the floating medusa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ميدوزا العائم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polyps adhere to the substratum by the aboral end and extend their tentacles, waiting for pre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edusas (also called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jellies) are flattened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outh-down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فم لأسفل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179280" y="3645000"/>
            <a:ext cx="4176720" cy="27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y are carnivores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لاحم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at use tentacles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ملامس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ranged in a ring around the mouth to capture prey and push the food into the gastrovascular chamber for diges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uscles and nerves exist in their simplest for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Group 8"/>
          <p:cNvGrpSpPr/>
          <p:nvPr/>
        </p:nvGrpSpPr>
        <p:grpSpPr>
          <a:xfrm>
            <a:off x="4176720" y="2314440"/>
            <a:ext cx="4824360" cy="4400640"/>
            <a:chOff x="4176720" y="2314440"/>
            <a:chExt cx="4824360" cy="4400640"/>
          </a:xfrm>
        </p:grpSpPr>
        <p:pic>
          <p:nvPicPr>
            <p:cNvPr id="213" name="Picture 4" descr=""/>
            <p:cNvPicPr/>
            <p:nvPr/>
          </p:nvPicPr>
          <p:blipFill>
            <a:blip r:embed="rId1"/>
            <a:srcRect l="0" t="0" r="0" b="3357"/>
            <a:stretch/>
          </p:blipFill>
          <p:spPr>
            <a:xfrm>
              <a:off x="4176720" y="2314440"/>
              <a:ext cx="4824360" cy="440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Rectangle 7"/>
            <p:cNvSpPr/>
            <p:nvPr/>
          </p:nvSpPr>
          <p:spPr>
            <a:xfrm>
              <a:off x="4225680" y="4622760"/>
              <a:ext cx="2305080" cy="204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179280" y="1341360"/>
            <a:ext cx="3888000" cy="52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have a relatively simple body constructi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basic body plan is a sac with a central digestive compartment, 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gastrovascular cavity       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تجويف الوائي-معوي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onstantia"/>
              </a:rPr>
              <a:t>Hydra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exist only in the polyp form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When environmental conditions are favorable, a hydra reproduces </a:t>
            </a:r>
            <a:r>
              <a:rPr b="1" lang="en-US" sz="2200" spc="-1" strike="noStrike">
                <a:solidFill>
                  <a:srgbClr val="ff0000"/>
                </a:solidFill>
                <a:latin typeface="Constantia"/>
              </a:rPr>
              <a:t>asexually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by budding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تبرعم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Line 5"/>
          <p:cNvSpPr/>
          <p:nvPr/>
        </p:nvSpPr>
        <p:spPr>
          <a:xfrm>
            <a:off x="201600" y="105264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1979640" y="26676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1- </a:t>
            </a:r>
            <a:r>
              <a:rPr b="1" i="1" lang="en-GB" sz="3600" spc="-1" strike="noStrike">
                <a:solidFill>
                  <a:srgbClr val="0000ff"/>
                </a:solidFill>
                <a:latin typeface="Times New Roman"/>
              </a:rPr>
              <a:t>Hyd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Group 12"/>
          <p:cNvGrpSpPr/>
          <p:nvPr/>
        </p:nvGrpSpPr>
        <p:grpSpPr>
          <a:xfrm>
            <a:off x="4067280" y="1617840"/>
            <a:ext cx="4897440" cy="4690800"/>
            <a:chOff x="4067280" y="1617840"/>
            <a:chExt cx="4897440" cy="4690800"/>
          </a:xfrm>
        </p:grpSpPr>
        <p:pic>
          <p:nvPicPr>
            <p:cNvPr id="219" name="Picture 7" descr="nocircsys"/>
            <p:cNvPicPr/>
            <p:nvPr/>
          </p:nvPicPr>
          <p:blipFill>
            <a:blip r:embed="rId1"/>
            <a:srcRect l="0" t="0" r="19398" b="0"/>
            <a:stretch/>
          </p:blipFill>
          <p:spPr>
            <a:xfrm>
              <a:off x="4067280" y="1617840"/>
              <a:ext cx="4897440" cy="46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Rectangle 9"/>
            <p:cNvSpPr/>
            <p:nvPr/>
          </p:nvSpPr>
          <p:spPr>
            <a:xfrm>
              <a:off x="8459640" y="3213000"/>
              <a:ext cx="505080" cy="2880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Rectangle 10"/>
            <p:cNvSpPr/>
            <p:nvPr/>
          </p:nvSpPr>
          <p:spPr>
            <a:xfrm>
              <a:off x="7020000" y="5300640"/>
              <a:ext cx="1944720" cy="8650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Oval 11"/>
            <p:cNvSpPr/>
            <p:nvPr/>
          </p:nvSpPr>
          <p:spPr>
            <a:xfrm>
              <a:off x="8029440" y="5084640"/>
              <a:ext cx="503280" cy="28908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1476360" y="72720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Triploblastica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ial"/>
              </a:rPr>
              <a:t>ثلاثية الطبقات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6"/>
          <p:cNvSpPr/>
          <p:nvPr/>
        </p:nvSpPr>
        <p:spPr>
          <a:xfrm>
            <a:off x="990720" y="1600200"/>
            <a:ext cx="72388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1116000" y="1916280"/>
            <a:ext cx="7559640" cy="39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Times New Roman"/>
              </a:rPr>
              <a:t>Kingdom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  </a:t>
            </a:r>
            <a:r>
              <a:rPr b="1" lang="ar-SA" sz="3200" spc="-1" strike="noStrike">
                <a:solidFill>
                  <a:srgbClr val="f63f1b"/>
                </a:solidFill>
                <a:latin typeface="Times New Roman"/>
                <a:ea typeface="Arial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imalia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حيوانات المتقدمة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ubkingdom: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etazoa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بعديات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Phylum: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 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latyhelminthes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مفلطحا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Arial"/>
              </a:rPr>
              <a:t>1- Class :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  <a:ea typeface="Arial"/>
              </a:rPr>
              <a:t>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Trematoda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تريماتودا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chistosom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Arial"/>
              </a:rPr>
              <a:t>البلهارسيا</a:t>
            </a:r>
            <a:r>
              <a:rPr b="1" i="1" lang="ar-SA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Times New Roman"/>
                <a:ea typeface="Arial"/>
              </a:rPr>
              <a:t>2- Class:</a:t>
            </a:r>
            <a:r>
              <a:rPr b="1" lang="en-GB" sz="3200" spc="-1" strike="noStrike">
                <a:solidFill>
                  <a:srgbClr val="f63f1b"/>
                </a:solidFill>
                <a:latin typeface="Times New Roman"/>
                <a:ea typeface="Arial"/>
              </a:rPr>
              <a:t> 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estoidea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سيستودا</a:t>
            </a: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aeni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apeworm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Arial"/>
              </a:rPr>
              <a:t>الدودة الشريطي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1:39:32Z</dcterms:created>
  <dc:creator>Karl Miyajima</dc:creator>
  <dc:description/>
  <dc:language>en-US</dc:language>
  <cp:lastModifiedBy>د أشرف مشالي</cp:lastModifiedBy>
  <cp:lastPrinted>2001-01-06T03:20:03Z</cp:lastPrinted>
  <dcterms:modified xsi:type="dcterms:W3CDTF">2013-09-01T08:43:30Z</dcterms:modified>
  <cp:revision>316</cp:revision>
  <dc:subject/>
  <dc:title>Nerve activates contraction</dc:title>
</cp:coreProperties>
</file>