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4AB-F8BD-416B-9830-E9FA72BC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5B8-47C4-417E-BF11-29934E6B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722-303C-49BA-BF40-8F05D9CE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7FF-9F96-4A7F-A529-4DF7454D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1A2E-7C58-42EE-8CB9-DAEAEC5A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E5A6-BFC6-48C1-9597-86093DDC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6FC1-0DEB-4739-89B8-D1BEDA9D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44A8-1893-4E93-B96B-8871B599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AE00-9266-472A-9E26-E235709F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5D92-48E3-4BC9-AD68-1C62DBD1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53AD-62A0-458B-A609-D040C4C0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304-0B8A-46A9-B311-8C3C74EC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0743-5784-4313-805D-238C6C5F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F6FA-1ACC-478B-B408-62A7E89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8F40-3D49-400E-994E-66D7AF02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F1ED-FF91-4C2B-B50F-479B2FF2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8D75-635B-4C74-93EB-F91EB384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F6A4-F1F3-487F-A495-5FD70115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EF02-E880-4C24-8B84-0698F629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867C-973E-46FD-B48F-B014DB2C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C49F-B91B-44D4-A925-1F4C677A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212B-50F7-4ED7-85A2-C96743CB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FFC-3F3D-4553-9D71-0CDD9DEF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EC88-7E9F-4037-BC52-380B4280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56AF-32F9-4344-9B88-C50FB75B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AD94-D2CC-463A-9D38-7152315F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C3DA-CF63-4C38-B37B-D79646F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1FCF-2E6C-491D-8480-509C4A7E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BFEB-0EC5-4A7E-9C19-5FFDE603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B86E-F0E3-4C1F-80DA-DCE6CEA9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618B-381F-442C-98E5-D26705CA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7690-2670-40CE-9874-B59204A0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401C-9BDF-4F96-8EDE-8F83E836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21B-6CFD-4039-A4E4-CC28F175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8E27-21EA-4C9C-8D8B-008B39BF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C14C-8565-4B4B-A435-24DC4675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06EF-DD69-4676-A2C1-45340CB0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0C5B-157C-45F8-9042-DEB13CEF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C425-52B1-484E-9432-D1032E2C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DEDC-0DE7-40A0-813C-4CDDADE1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D125-C89C-4143-8CD8-968B0C82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6D320-E32A-484C-9CEA-0472A90E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7509-92DA-4704-A8C4-FABABE2B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F18-4D3D-471C-B9AF-8425EEC0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2CE-7B34-4FD5-977E-6BD229CA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62A-8BAF-4A85-93E7-D6B87361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EB3-997F-4CDF-97BE-A03F2131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510-DFBB-4CFF-B227-E7AE1B3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477F-DFD5-4554-9DDA-E569DDEF0B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9222-0B44-467D-A95A-72BF1B9ED86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45E-D668-4A18-82F5-34A1765B33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069C-D70F-4502-B12A-C3F353F25F0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3:30Z</dcterms:modified>
  <cp:revision>316</cp:revision>
  <dc:subject/>
  <dc:title>Nerve activates contraction</dc:title>
</cp:coreProperties>
</file>