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984-0550-440F-870C-C6053C34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43D-137E-4F21-A7C8-1BD44C51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B55-18C6-400C-9C25-D75872AC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080-ECB7-4A27-92C6-8BD1F4BD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E82C-75FD-44C6-AB8C-312DDDBC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F30A-002F-418C-99F8-4DE6DE24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B678-6E11-4CA2-896F-7ED43005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99BF-B922-442C-9C20-4309E7BD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CFF4-4415-4AC0-BA60-1937EEBF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0BBA-133B-4218-97A4-75BB2E23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12B-249C-43E8-9282-DA8004F5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E3E-F0B9-4434-8095-E439E8F0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853D-735B-436E-80C0-92597AEC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30B-8D02-47F6-A16D-E6C9D85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21B5-F583-402E-AAAB-00E5DA29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8A8A-5BE4-40B1-ADB5-4F801065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12D7-1D42-438E-B4F8-CCF2473E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AB2C-46C3-4823-B61D-5CBD8791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B1B2-18D8-4D4C-8D05-E2A3D37F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8275-2E0E-485D-B594-3B6C2711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4F7B-A789-4E97-9D79-1A4F4A34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FD445-7D60-4B5B-807C-89AD2CB1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901-8150-418D-9A3D-9CD8A254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EFDF-B1DA-4A42-868B-D6EFE26A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3896-467A-4B5F-8027-C82B4305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649B-892E-48B5-B099-016E6C8F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9BF2-EE01-4DDE-8342-BE74258B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4FE1-21CE-4A0F-911A-DCD23045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71DEB-E8A8-4E7E-A0AD-8AAFF291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0645-D58E-4AAF-954F-FFAF8C5F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6266-AB73-4671-8E16-1825E41C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5B99-A630-4403-B94E-BF5BA143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D8A4F-7224-4DB8-981A-343C5BEC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A8A-1D7D-4B99-B910-5D042568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0727-A90F-4820-9AD3-610D7290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E77E7-0ED0-497F-856C-3D0FF13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BF5C-B18A-49F5-9C41-95AAB386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F9D39-0C2F-4FD6-8F2C-FFD141A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3024-7A06-4416-8B79-4E48ECF5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D368-3478-4066-B92C-1DB76EED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7162-7D72-4253-AFF5-943E3FF1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94B80-E287-4FBA-A3CE-8B7B1A30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7D1B-39EB-4574-B024-F42C5214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880-78B4-47BE-A101-8A9C238E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060-583F-4910-9988-C90F1029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F8E-C0B3-432A-8622-38138832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ED7-679D-4835-9402-C63F8A8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91A-7A35-4F2F-B868-C54E30D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681-804E-41DA-BE2F-BB2C34C155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5B78-DE72-4FBF-8614-7ADDB57D43E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4A2C-7C0F-4E30-B261-991024C6F0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C945-5C3B-4AF7-9C8A-855AE62F91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1160" y="182520"/>
            <a:ext cx="8107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د أشرف مشالي</cp:lastModifiedBy>
  <cp:lastPrinted>2001-01-06T03:20:03Z</cp:lastPrinted>
  <dcterms:modified xsi:type="dcterms:W3CDTF">2013-09-01T08:43:30Z</dcterms:modified>
  <cp:revision>316</cp:revision>
  <dc:subject/>
  <dc:title>Nerve activates contraction</dc:title>
</cp:coreProperties>
</file>