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3F5E-93CA-4106-B8E1-4BB9BD75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3F75-C4DA-446A-A996-86AC5F1B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51AB-4DA0-4AF1-A8BC-6E186378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0CC9-8598-4793-B987-C1417A48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6579-F0FF-4434-9E5F-4A448C6E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27D5-2226-45A4-ABD3-E068F311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6AB9-565F-480A-979C-415167C5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D0CE-9DA9-4829-9B59-E109A44F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EB6C-B0B7-48D4-A319-776ADEA7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D821-EF0B-42A2-8BEF-58936DA7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64DB-B592-49AA-8B7F-C0C7D54B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F6FF-3E64-48C3-BBB7-B9ABD429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BA02-2277-4A4A-8FF2-5D4B1E5F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4603-9E3A-4375-8D50-AE8AA4B7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AFAF-1DCC-4645-8E62-4FCB7B8C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DE54-BE70-4C64-B48B-6E7108B0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71A4-8DA5-4D76-BC9E-D36496CE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6AD22-6F44-4C92-A604-36C214F8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C2BD1-52B3-4C02-8A17-C884216F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AA34E-9391-4487-96A8-363D275C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23237-3D1C-4379-8395-21487D6A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3F946-2DC8-4770-B65D-43E679B8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FFFC-5C90-47EE-8EC1-5A00584D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29240-44FC-4671-AAC1-09DF232B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1EA49-6533-4AC6-9A84-7406CBFD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190F3-1657-42D4-A149-A75B3ED3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2E3D7-9F55-4D07-B56F-AAF1DF62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0861B-0B27-4DD6-BEB7-3368814A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F5052-168D-4165-9B46-A8DA8F75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C90A8-D13D-4D3D-ADF4-96E93FFD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5832A-0613-4B5F-B4BB-61F4BCA8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402CE-75A2-4BD0-A1FF-08BEB78A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13FE4-60DE-47E5-A86C-68A2FFDC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FAD7-DADF-41FD-BF5A-6937C559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CF28B-4F5D-40C2-B5D9-DF7F5586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A68AD-7560-4575-B6B1-3AEADCB6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DB0A5-79AC-4992-8891-535EAD59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902CD-703D-473D-9F9D-CDAD0D7E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A3BAB-90F8-4DEB-BEB1-1F17609B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64427-39AB-4822-836F-A5C2CAEB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ABE24-08CC-4FED-9D3F-BE9E2A91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89A8D-9D8C-4592-8D6E-96FB0069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E6DEA-3652-4D0A-9986-CECF5E3F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212A-72E8-48D7-9665-012C8EE1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24F5-82CD-46F9-AC30-83A1343A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24A5-6613-4206-ACB3-87244BF6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950D-267B-43BC-99B7-C2499D44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2AA-B000-4906-BBA4-03535B69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A06C-77EB-48AD-88F1-93D3E7A9FED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1B71-67C8-470D-A36F-C816AD6A96E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C531-77C0-43CA-9138-1C2266C92E0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DE6D-C672-4AA8-868D-99C7BDCF88B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8"/>
          <p:cNvSpPr/>
          <p:nvPr/>
        </p:nvSpPr>
        <p:spPr>
          <a:xfrm>
            <a:off x="357120" y="2295360"/>
            <a:ext cx="828216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  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 المتقدم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)- Subkingdo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arazo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نظائر البعد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hylu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        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rifer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ساميات (الإسفنجيات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Sponges</a:t>
            </a: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895040" y="1373040"/>
            <a:ext cx="461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Times New Roman"/>
              </a:rPr>
              <a:t>Sponges </a:t>
            </a:r>
            <a:r>
              <a:rPr b="1" lang="ar-SA" sz="4400" spc="-1" strike="noStrike">
                <a:solidFill>
                  <a:srgbClr val="0000ff"/>
                </a:solidFill>
                <a:latin typeface="Times New Roman"/>
                <a:cs typeface="Majalla UI"/>
              </a:rPr>
              <a:t>الأسفنج</a:t>
            </a:r>
            <a:r>
              <a:rPr b="1" i="1" lang="en-GB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11360" y="366480"/>
            <a:ext cx="5532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5: Animal Classificati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60444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alibri"/>
              </a:rPr>
              <a:t>Platyhelminthes: Flatworms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الديدان المفلطحة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811160"/>
            <a:ext cx="8686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y are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acoelomates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cs typeface="Arial"/>
              </a:rPr>
              <a:t>عديمة التجويف السيلومي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with gastrovascular cavities</a:t>
            </a:r>
            <a:r>
              <a:rPr b="1" lang="ar-SA" sz="23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cs typeface="Arial"/>
              </a:rPr>
              <a:t>ولها تجويف وعائي-معوي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y are living in marine, freshwater, and damp terrestrial 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والبيئة الأرضية الرطب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also include many parasitic species, such as the fluk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ديدان البلهارسي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nd tapeworm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ديدان الشريط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Flatworms are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triploblast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ثلاثية الطبق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with a middle embryonic tissue layer,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mesoderm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طبقة الوسطى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which contributes to more complex organs and organs systems and to true muscle tissu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975120" y="304920"/>
            <a:ext cx="5016600" cy="6172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179280" y="1298160"/>
            <a:ext cx="3835440" cy="591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rematodes parasitiz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تتطفل على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 wide range of hosts, and have complex life cycles with alternation of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a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stag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any require an intermediate host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عائل وسي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which the larvae develop before infecting the final hosts (usually a vertebrate) where the adult worm liv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fluke </a:t>
            </a:r>
            <a:r>
              <a:rPr b="1" i="1" lang="en-US" sz="2000" spc="-1" strike="noStrike">
                <a:solidFill>
                  <a:srgbClr val="000000"/>
                </a:solidFill>
                <a:latin typeface="Constantia"/>
              </a:rPr>
              <a:t>Schistosom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nfects 200 million peop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214200" y="635040"/>
            <a:ext cx="39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Schistosoma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cs typeface="Majalla UI"/>
              </a:rPr>
              <a:t>البلهارسي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28600" y="1698480"/>
            <a:ext cx="86868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Sponges are sessil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جالسة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with porous bodie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أجسام مسامية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and choan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erm layer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طبقات المنبت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sponges are not really tissues because the cells are relatively unspecialize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غير متخصص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ponges lack nerves or mus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onges are marin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بحر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some </a:t>
            </a:r>
            <a:r>
              <a:rPr b="1" lang="en-US" sz="2500" spc="-1" strike="noStrike">
                <a:solidFill>
                  <a:srgbClr val="000000"/>
                </a:solidFill>
                <a:latin typeface="Constantia"/>
              </a:rPr>
              <a:t>live in fresh water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ماء العذب</a:t>
            </a:r>
            <a:r>
              <a:rPr b="1" lang="ar-SA" sz="25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body of a sponge consists of two cell layers separated by a gelatinous region,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mesohy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onges ar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ermaphrodite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خنث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with each individual producing both sperm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eg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152280" y="1484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68360" y="3618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- Phylum: Porifer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ساميات (الإسفنجيات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Sponge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إسفنج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79280" y="806040"/>
            <a:ext cx="878544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body of a simple sponge resembles a sac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يشبه كي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perforated with ho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فتحات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Nearly all sponges are suspension feed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يتغذى على العوالق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collecting food particles from wate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431640" y="2349360"/>
            <a:ext cx="85330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Water Currents for Everything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43828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anocytes use their flagella to create water currents through external pores called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ti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sing. ostium,); incurrent p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ng food (bacteria, protists, etc.) and oxygen and remove metabolic wastes from the center of the sponge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pongocoe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anocytes use collar-like rings to filter foo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stes and water flow out a centra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culu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plural, oscula); an excurrent po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H:\RLK PowerPoint Lectures\PowerPoint Tools\New Folder\sponge pic2.gif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206" name="Rectangle 2" descr=""/>
          <p:cNvPicPr/>
          <p:nvPr/>
        </p:nvPicPr>
        <p:blipFill>
          <a:blip r:embed="rId2"/>
          <a:stretch/>
        </p:blipFill>
        <p:spPr>
          <a:xfrm>
            <a:off x="281160" y="182520"/>
            <a:ext cx="81072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3"/>
          <p:cNvSpPr/>
          <p:nvPr/>
        </p:nvSpPr>
        <p:spPr>
          <a:xfrm>
            <a:off x="914400" y="1557360"/>
            <a:ext cx="731520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0920" y="72720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iploblastica</a:t>
            </a:r>
            <a:r>
              <a:rPr b="1" lang="en-GB" sz="40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</a:t>
            </a:r>
            <a:r>
              <a:rPr b="1" lang="ar-SA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ثنائية الطبق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95280" y="2205000"/>
            <a:ext cx="849780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تقدم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)- Subkingdom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etazo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عد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hylum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elentrat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جوفمعويات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Class 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Hydrozo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هدر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Hydra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هيدرا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amp; </a:t>
            </a:r>
            <a:r>
              <a:rPr b="1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Obelia</a:t>
            </a:r>
            <a:r>
              <a:rPr b="1" i="1" lang="ar-SA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أوبليا</a:t>
            </a:r>
            <a:r>
              <a:rPr b="1" i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920" y="762120"/>
            <a:ext cx="8610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is basic body plan has two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Parts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: the sessile polyp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قرص الجال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nd the floating medus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ميدوزا العائم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polyps adhere to the substratum by the aboral end and extend their tentacles, waiting for pr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dusas (also call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jellies) are flattened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uth-dow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فم لأسفل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79280" y="3645000"/>
            <a:ext cx="4176720" cy="27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y are carnivore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لاحم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 use tentacle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لامس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anged in a ring around the mouth to capture prey and push the food into the gastrovascular chamber for dig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scles and nerves exist in their simplest fo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8"/>
          <p:cNvGrpSpPr/>
          <p:nvPr/>
        </p:nvGrpSpPr>
        <p:grpSpPr>
          <a:xfrm>
            <a:off x="4176720" y="2314440"/>
            <a:ext cx="4824360" cy="4400640"/>
            <a:chOff x="4176720" y="2314440"/>
            <a:chExt cx="4824360" cy="4400640"/>
          </a:xfrm>
        </p:grpSpPr>
        <p:pic>
          <p:nvPicPr>
            <p:cNvPr id="213" name="Picture 4" descr=""/>
            <p:cNvPicPr/>
            <p:nvPr/>
          </p:nvPicPr>
          <p:blipFill>
            <a:blip r:embed="rId1"/>
            <a:srcRect l="0" t="0" r="0" b="3357"/>
            <a:stretch/>
          </p:blipFill>
          <p:spPr>
            <a:xfrm>
              <a:off x="4176720" y="2314440"/>
              <a:ext cx="4824360" cy="44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7"/>
            <p:cNvSpPr/>
            <p:nvPr/>
          </p:nvSpPr>
          <p:spPr>
            <a:xfrm>
              <a:off x="4225680" y="4622760"/>
              <a:ext cx="2305080" cy="20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79280" y="1341360"/>
            <a:ext cx="3888000" cy="52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a relatively simple body constru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basic body plan is a sac with a central digestive compartment,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gastrovascular cavity     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جويف الوائي-معوي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Hydra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exist only in the polyp form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hen environmental conditions are favorable, a hydra reproduces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budd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برع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01600" y="105264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1979640" y="2667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1- </a:t>
            </a:r>
            <a:r>
              <a:rPr b="1" i="1" lang="en-GB" sz="3600" spc="-1" strike="noStrike">
                <a:solidFill>
                  <a:srgbClr val="0000ff"/>
                </a:solidFill>
                <a:latin typeface="Times New Roman"/>
              </a:rPr>
              <a:t>Hyd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12"/>
          <p:cNvGrpSpPr/>
          <p:nvPr/>
        </p:nvGrpSpPr>
        <p:grpSpPr>
          <a:xfrm>
            <a:off x="4067280" y="1617840"/>
            <a:ext cx="4897440" cy="4690800"/>
            <a:chOff x="4067280" y="1617840"/>
            <a:chExt cx="4897440" cy="4690800"/>
          </a:xfrm>
        </p:grpSpPr>
        <p:pic>
          <p:nvPicPr>
            <p:cNvPr id="219" name="Picture 7" descr="nocircsys"/>
            <p:cNvPicPr/>
            <p:nvPr/>
          </p:nvPicPr>
          <p:blipFill>
            <a:blip r:embed="rId1"/>
            <a:srcRect l="0" t="0" r="19398" b="0"/>
            <a:stretch/>
          </p:blipFill>
          <p:spPr>
            <a:xfrm>
              <a:off x="4067280" y="1617840"/>
              <a:ext cx="4897440" cy="46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9"/>
            <p:cNvSpPr/>
            <p:nvPr/>
          </p:nvSpPr>
          <p:spPr>
            <a:xfrm>
              <a:off x="8459640" y="3213000"/>
              <a:ext cx="505080" cy="2880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7020000" y="5300640"/>
              <a:ext cx="1944720" cy="865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11"/>
            <p:cNvSpPr/>
            <p:nvPr/>
          </p:nvSpPr>
          <p:spPr>
            <a:xfrm>
              <a:off x="8029440" y="5084640"/>
              <a:ext cx="503280" cy="2890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476360" y="7272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riploblastica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ثلاثية الطبقات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990720" y="1600200"/>
            <a:ext cx="72388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1116000" y="1916280"/>
            <a:ext cx="755964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ar-SA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 المتقدمة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ubkingdom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etazo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عد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hylum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latyhelminthes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فلطحا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1- Class 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Trematod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تريماتود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chistoso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لهارسيا</a:t>
            </a:r>
            <a:r>
              <a:rPr b="1" i="1" lang="ar-SA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2- Class:</a:t>
            </a:r>
            <a:r>
              <a:rPr b="1" lang="en-GB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estoide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سيستودا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aeni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peworm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دودة الشريط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43:30Z</dcterms:modified>
  <cp:revision>316</cp:revision>
  <dc:subject/>
  <dc:title>Nerve activates contraction</dc:title>
</cp:coreProperties>
</file>