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DC3A-2EF2-4B94-86D3-785F2CA73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ABA5-C5E0-418D-B0EB-0C285FE3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69C0-17EC-45AC-B593-03763C60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B5EC-AC89-4898-AC66-ABF7CAEF1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A557-8064-4135-B6DA-2E3D44DFC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D4F1-A000-4D05-B87C-E22A3547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9216-3444-4D67-873F-CB35932E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8BE4-6CE2-4830-A560-DEC88C78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67BE-946D-4373-8620-F2D069E0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AD20-F2D3-4169-B640-2758C212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122B-0ED2-4329-9FDB-DCE5464E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EDC1-9136-4CB7-B971-306789C3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83F8-59F1-405D-ADA2-A670DCAB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BCDA-0B7A-4AD8-A4D0-47805C55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83C1-E89F-42F5-96E4-4ECA7E6D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9144-BFBD-43BC-B8C8-93F36A71A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C463-AC42-4EC1-A7F6-AE3D86DA4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EE165-10C8-4D2A-821D-8AAD027F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AD6F0-28DB-459F-A35F-8D366CA5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83E89-9617-45CD-B3A5-33F9203D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FCAAD-55C1-45A7-A465-EDAD1E3E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61516-82F8-4794-B23C-41EDF875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CBC6-8B0B-43DA-8724-03E5B4B5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B6ADC-C0E8-4A20-BAB5-6F302EC7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46121-2B3D-4A61-B2CB-BDB5C015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234B6-A4B8-41A6-BFA7-9B95E96E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49C11-84BF-4C9D-B5BF-83330F5E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31CE0-D1D0-4598-9D32-9C561B64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E8140-2F6C-4367-832E-01E01CD6F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C4F77-09FA-414C-9933-B375B08F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0CDCD-612D-432E-91FB-E71AC34BA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32DD0-1351-4628-9C52-E9B9344C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D31F1-56E0-4E52-B89E-4AE4EE9C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0CF0-A0C7-4E92-954C-7CEA52ED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330D8-8B5F-4E89-9E6A-EFAC55B3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7AF71-76CD-405C-8360-EEB74395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A26C7-ED5B-4EA4-91CE-541CB69A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99AF3-BC5E-4070-836C-E0BB7909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50897-3151-49AC-B0FC-368AE4A8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5D191-B1FF-4276-A9DC-34420A14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6F53C-D08E-4B8E-A396-8E2A7802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DAED5-99FC-4651-BCD1-6B9EBE0CC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50786-3025-43C9-8504-0E5CBC75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4833-6D24-4729-9C88-1292D13B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124E-2A95-43CA-9EB4-057F3360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FE31-CAFD-47E3-99D3-32780FCA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3805-DC5E-4AA5-BCE7-3759865F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6B88-9DFA-4BA1-A11B-EC0A167D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3894-7772-4869-9D3B-217C188ABA8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7DE7-2C72-4DC3-91A0-0B795410673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3EDF-05FD-4CE6-BAFE-4C46651C8BE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E077-6FBE-4D34-98D5-AB7F8357DC2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8"/>
          <p:cNvSpPr/>
          <p:nvPr/>
        </p:nvSpPr>
        <p:spPr>
          <a:xfrm>
            <a:off x="357120" y="2295360"/>
            <a:ext cx="828216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Kingdom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:   </a:t>
            </a:r>
            <a:r>
              <a:rPr b="1" lang="ar-SA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imalia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 المتقدم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)- Subkingdom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: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arazo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نظائر البعد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hylum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:         </a:t>
            </a:r>
            <a:r>
              <a:rPr b="1" lang="ar-SA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orifer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ساميات (الإسفنجيات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Sponges</a:t>
            </a: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895040" y="1373040"/>
            <a:ext cx="461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Times New Roman"/>
              </a:rPr>
              <a:t>Sponges </a:t>
            </a:r>
            <a:r>
              <a:rPr b="1" lang="ar-SA" sz="4400" spc="-1" strike="noStrike">
                <a:solidFill>
                  <a:srgbClr val="0000ff"/>
                </a:solidFill>
                <a:latin typeface="Times New Roman"/>
                <a:cs typeface="Majalla UI"/>
              </a:rPr>
              <a:t>الأسفنج</a:t>
            </a:r>
            <a:r>
              <a:rPr b="1" i="1" lang="en-GB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11360" y="366480"/>
            <a:ext cx="553248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5: Animal Classification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560" y="604440"/>
            <a:ext cx="87627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Calibri"/>
              </a:rPr>
              <a:t>Platyhelminthes: Flatworms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الديدان المفلطحة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811160"/>
            <a:ext cx="86868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y are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acoelomates</a:t>
            </a:r>
            <a:r>
              <a:rPr b="0" lang="ar-SA" sz="1900" spc="-1" strike="noStrike">
                <a:solidFill>
                  <a:srgbClr val="000000"/>
                </a:solidFill>
                <a:latin typeface="Constantia"/>
                <a:cs typeface="Arial"/>
              </a:rPr>
              <a:t>عديمة التجويف السيلومي</a:t>
            </a:r>
            <a:r>
              <a:rPr b="0" lang="ar-SA" sz="19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with gastrovascular cavities</a:t>
            </a:r>
            <a:r>
              <a:rPr b="1" lang="ar-SA" sz="23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1900" spc="-1" strike="noStrike">
                <a:solidFill>
                  <a:srgbClr val="000000"/>
                </a:solidFill>
                <a:latin typeface="Constantia"/>
                <a:cs typeface="Arial"/>
              </a:rPr>
              <a:t>ولها تجويف وعائي-معوي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y are living in marine, freshwater, and damp terrestrial habita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والبيئة الأرضية الرطب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also include many parasitic species, such as the fluk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ديدان البلهارسيا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nd tapeworm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ديدان الشريط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Flatworms are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triploblastic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ثلاثية الطبق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with a middle embryonic tissue layer,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mesoderm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طبقة الوسطى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which contributes to more complex organs and organs systems and to true muscle tissu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3975120" y="304920"/>
            <a:ext cx="5016600" cy="61722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179280" y="1298160"/>
            <a:ext cx="3835440" cy="591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rematodes parasitize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تتطفل على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a wide range of hosts, and have complex life cycles with alternation of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sexual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asexual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stag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any require an intermediate host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عائل وسيط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which the larvae develop before infecting the final hosts (usually a vertebrate) where the adult worm liv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fluke </a:t>
            </a:r>
            <a:r>
              <a:rPr b="1" i="1" lang="en-US" sz="2000" spc="-1" strike="noStrike">
                <a:solidFill>
                  <a:srgbClr val="000000"/>
                </a:solidFill>
                <a:latin typeface="Constantia"/>
              </a:rPr>
              <a:t>Schistosom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nfects 200 million peop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214200" y="635040"/>
            <a:ext cx="39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Schistosoma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cs typeface="Majalla UI"/>
              </a:rPr>
              <a:t>البلهارسي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28600" y="1698480"/>
            <a:ext cx="86868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Sponges are sessil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جالسة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with porous bodies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أجسام مسامية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and choan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germ layers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طبقات المنبت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sponges are not really tissues because the cells are relatively unspecialized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غير متخصص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ponges lack nerves or musc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onges are marin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بحر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some </a:t>
            </a:r>
            <a:r>
              <a:rPr b="1" lang="en-US" sz="2500" spc="-1" strike="noStrike">
                <a:solidFill>
                  <a:srgbClr val="000000"/>
                </a:solidFill>
                <a:latin typeface="Constantia"/>
              </a:rPr>
              <a:t>live in fresh water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ماء العذب</a:t>
            </a:r>
            <a:r>
              <a:rPr b="1" lang="ar-SA" sz="25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body of a sponge consists of two cell layers separated by a gelatinous region,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mesohy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sponges ar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hermaphrodite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خنث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with each individual producing both sperm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egg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152280" y="1484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468360" y="36180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- Phylum: Porifer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ساميات (الإسفنجيات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Sponges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إسفنج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79280" y="806040"/>
            <a:ext cx="878544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body of a simple sponge resembles a sac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يشبه كي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perforated with ho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فتحات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Nearly all sponges are suspension feeder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يتغذى على العوالق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collecting food particles from water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1"/>
          <a:stretch/>
        </p:blipFill>
        <p:spPr>
          <a:xfrm>
            <a:off x="431640" y="2349360"/>
            <a:ext cx="853308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Water Currents for Everything!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2438280"/>
            <a:ext cx="8229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anocytes use their flagella to create water currents through external pores called –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osti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sing. ostium,); incurrent po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ing food (bacteria, protists, etc.) and oxygen and remove metabolic wastes from the center of the sponge –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pongocoe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anocytes use collar-like rings to filter foo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stes and water flow out a central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osculum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plural, oscula); an excurrent po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H:\RLK PowerPoint Lectures\PowerPoint Tools\New Folder\sponge pic2.gif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pic>
        <p:nvPicPr>
          <p:cNvPr id="206" name="Rectangle 2" descr=""/>
          <p:cNvPicPr/>
          <p:nvPr/>
        </p:nvPicPr>
        <p:blipFill>
          <a:blip r:embed="rId2"/>
          <a:stretch/>
        </p:blipFill>
        <p:spPr>
          <a:xfrm>
            <a:off x="281160" y="182520"/>
            <a:ext cx="81072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Line 3"/>
          <p:cNvSpPr/>
          <p:nvPr/>
        </p:nvSpPr>
        <p:spPr>
          <a:xfrm>
            <a:off x="914400" y="1557360"/>
            <a:ext cx="7315200" cy="144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50920" y="727200"/>
            <a:ext cx="87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iploblastica</a:t>
            </a:r>
            <a:r>
              <a:rPr b="1" lang="en-GB" sz="40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</a:t>
            </a:r>
            <a:r>
              <a:rPr b="1" lang="ar-SA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rial"/>
              </a:rPr>
              <a:t>ثنائية الطبق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95280" y="2205000"/>
            <a:ext cx="849780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Kingdom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imalia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</a:t>
            </a:r>
            <a:r>
              <a:rPr b="1" lang="ar-SA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تقدم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)- Subkingdom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etazoa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عدي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hylum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elentrata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جوفمعويات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Class 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Hydrozoa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هدري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ff"/>
                </a:solidFill>
                <a:latin typeface="Times New Roman"/>
              </a:rPr>
              <a:t>Hydra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هيدرا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amp; </a:t>
            </a:r>
            <a:r>
              <a:rPr b="1" i="1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Obelia</a:t>
            </a:r>
            <a:r>
              <a:rPr b="1" i="1" lang="ar-SA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أوبليا</a:t>
            </a:r>
            <a:r>
              <a:rPr b="1" i="1" lang="ar-SA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04920" y="762120"/>
            <a:ext cx="8610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is basic body plan has two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Parts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: the sessile polyp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قرص الجال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and the floating medusa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ميدوزا العائم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polyps adhere to the substratum by the aboral end and extend their tentacles, waiting for pr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dusas (also calle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jellies) are flattened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outh-down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فم لأسفل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179280" y="3645000"/>
            <a:ext cx="4176720" cy="27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y are carnivore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لاحم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at use tentacle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لامس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ranged in a ring around the mouth to capture prey and push the food into the gastrovascular chamber for diges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scles and nerves exist in their simplest for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8"/>
          <p:cNvGrpSpPr/>
          <p:nvPr/>
        </p:nvGrpSpPr>
        <p:grpSpPr>
          <a:xfrm>
            <a:off x="4176720" y="2314440"/>
            <a:ext cx="4824360" cy="4400640"/>
            <a:chOff x="4176720" y="2314440"/>
            <a:chExt cx="4824360" cy="4400640"/>
          </a:xfrm>
        </p:grpSpPr>
        <p:pic>
          <p:nvPicPr>
            <p:cNvPr id="213" name="Picture 4" descr=""/>
            <p:cNvPicPr/>
            <p:nvPr/>
          </p:nvPicPr>
          <p:blipFill>
            <a:blip r:embed="rId1"/>
            <a:srcRect l="0" t="0" r="0" b="3357"/>
            <a:stretch/>
          </p:blipFill>
          <p:spPr>
            <a:xfrm>
              <a:off x="4176720" y="2314440"/>
              <a:ext cx="4824360" cy="440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Rectangle 7"/>
            <p:cNvSpPr/>
            <p:nvPr/>
          </p:nvSpPr>
          <p:spPr>
            <a:xfrm>
              <a:off x="4225680" y="4622760"/>
              <a:ext cx="2305080" cy="20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79280" y="1341360"/>
            <a:ext cx="3888000" cy="52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have a relatively simple body constru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basic body plan is a sac with a central digestive compartment,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gastrovascular cavity      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جويف الوائي-معوي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Hydra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exist only in the polyp form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hen environmental conditions are favorable, a hydra reproduces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asexuall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by budd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برع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201600" y="105264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1979640" y="2667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1- </a:t>
            </a:r>
            <a:r>
              <a:rPr b="1" i="1" lang="en-GB" sz="3600" spc="-1" strike="noStrike">
                <a:solidFill>
                  <a:srgbClr val="0000ff"/>
                </a:solidFill>
                <a:latin typeface="Times New Roman"/>
              </a:rPr>
              <a:t>Hyd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12"/>
          <p:cNvGrpSpPr/>
          <p:nvPr/>
        </p:nvGrpSpPr>
        <p:grpSpPr>
          <a:xfrm>
            <a:off x="4067280" y="1617840"/>
            <a:ext cx="4897440" cy="4690800"/>
            <a:chOff x="4067280" y="1617840"/>
            <a:chExt cx="4897440" cy="4690800"/>
          </a:xfrm>
        </p:grpSpPr>
        <p:pic>
          <p:nvPicPr>
            <p:cNvPr id="219" name="Picture 7" descr="nocircsys"/>
            <p:cNvPicPr/>
            <p:nvPr/>
          </p:nvPicPr>
          <p:blipFill>
            <a:blip r:embed="rId1"/>
            <a:srcRect l="0" t="0" r="19398" b="0"/>
            <a:stretch/>
          </p:blipFill>
          <p:spPr>
            <a:xfrm>
              <a:off x="4067280" y="1617840"/>
              <a:ext cx="4897440" cy="46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tangle 9"/>
            <p:cNvSpPr/>
            <p:nvPr/>
          </p:nvSpPr>
          <p:spPr>
            <a:xfrm>
              <a:off x="8459640" y="3213000"/>
              <a:ext cx="505080" cy="2880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10"/>
            <p:cNvSpPr/>
            <p:nvPr/>
          </p:nvSpPr>
          <p:spPr>
            <a:xfrm>
              <a:off x="7020000" y="5300640"/>
              <a:ext cx="1944720" cy="865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11"/>
            <p:cNvSpPr/>
            <p:nvPr/>
          </p:nvSpPr>
          <p:spPr>
            <a:xfrm>
              <a:off x="8029440" y="5084640"/>
              <a:ext cx="503280" cy="28908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476360" y="7272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riploblastica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ial"/>
              </a:rPr>
              <a:t>ثلاثية الطبقات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990720" y="1600200"/>
            <a:ext cx="72388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1116000" y="1916280"/>
            <a:ext cx="755964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Kingdom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 </a:t>
            </a:r>
            <a:r>
              <a:rPr b="1" lang="ar-SA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imalia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 المتقدمة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ubkingdom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etazo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عد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hylum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latyhelminthes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فلطحا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1- Class 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Trematod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تريماتود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chistoso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لهارسيا</a:t>
            </a:r>
            <a:r>
              <a:rPr b="1" i="1" lang="ar-SA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2- Class:</a:t>
            </a:r>
            <a:r>
              <a:rPr b="1" lang="en-GB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estoide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سيستودا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aeni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peworm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الدودة الشريطي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User</cp:lastModifiedBy>
  <cp:lastPrinted>2001-01-06T03:20:03Z</cp:lastPrinted>
  <dcterms:modified xsi:type="dcterms:W3CDTF">2014-08-27T10:22:53Z</dcterms:modified>
  <cp:revision>316</cp:revision>
  <dc:subject/>
  <dc:title>Nerve activates contraction</dc:title>
</cp:coreProperties>
</file>