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1FE-8E4D-44E5-9801-57A42FBC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6D6-E4AC-4C38-AEAA-9546C2BC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58A-765F-44AA-8AA5-913CA474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F76-9053-4EB7-9923-B04D1407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DD3C-80E2-4A1D-8CB4-2AB55F0E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7248-7ED9-4602-8D19-74E624E8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0B4A-C2BA-420B-A8F3-A8DA34AD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31CD-BB83-4E9D-B8DD-5BD94656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158D-D885-4EB7-A51A-F519FFEF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3D74-DF67-4F88-95D0-169EB64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5A66-0A20-4433-90CD-71A67067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FE8-F56E-426E-927F-BDA63060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3EE5-0740-482A-A4C1-79FC3FF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A4AA-3217-47BC-B4F2-CBFC4535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476D-B602-4D98-856A-CA788FF5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3ED9-3FC7-4E4E-86B2-24FE0DD3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E79C-2741-4982-BC67-451C17BA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241BF-260F-4606-BF64-AB8469C0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D1B3-38C5-44DA-9EA4-82D3255C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4635-A9AE-4D95-BE0E-5A6E823D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3B49-F4D4-4825-B2D0-DB72467E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CE633-3E99-4DC2-A044-EE819864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E7E-F34A-4E43-95B7-E3795F1B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0AD23-72F4-4777-8490-A1345988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E661-9D53-4A36-8946-072AAF03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FECD-37B1-4577-A202-821C3F58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4FA3F-8FA7-460F-94B7-CC952C27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800CE-D02E-4FF6-BA29-90AACD89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2206-F758-4808-BDE0-1A4F7F9D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8ACE-80BD-47EF-8082-8DB618D4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D7F3-9FEE-4086-9126-757233BB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7125-AB32-475A-A54D-B595A9A8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2C15-D786-4462-B3B9-8B583F3C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1EF-602A-4D15-85CD-A2477AE6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47066-A297-4A2B-80FB-DDD754EA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7FB3-892A-470A-82E5-65CF3580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BB826-89F4-4B13-A82D-0780F0D4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E332-A6AA-4024-B58B-593C961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4CAB-31F6-4216-BE04-C171FECD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8863E-AC0B-45AE-8A9C-2FDEB8C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4F194-749A-4408-9021-3D59D91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8D0FE-94C0-4744-B48C-E47EEFC2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A01AF-ECC0-474D-B237-0EAA8CCA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DBD-A7C6-413A-B375-0F6824FA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78D-9509-400A-8E66-1EFDF2B9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B01-7C80-47EB-81DF-C70F5F85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3CC-E428-403D-A0B7-FE2368DA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420-6763-4765-A3A1-4EF4B581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2AF7-6059-473E-A46B-9B8E55A0521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5772-D586-4E83-BB4A-2651C8B5CC4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4852-623D-4427-95BB-1C8E9BA17F1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7323-6163-4B5C-BD90-0758D612733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107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4-08-27T10:22:53Z</dcterms:modified>
  <cp:revision>316</cp:revision>
  <dc:subject/>
  <dc:title>Nerve activates contraction</dc:title>
</cp:coreProperties>
</file>