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EEB6-25C3-4802-8E38-80DDAF409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F7F6-4D38-4053-95F2-20E9843B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FBF5-2AEF-4A9D-9D36-FBA1D641F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B51F-62D3-4213-8556-D7ECAEC0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CA22-4273-45A2-A3A2-F3AA3A6C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F8D5-A8EF-4E5B-A801-F66A61A4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35A8-721A-430B-845E-119FBB1B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AB98-B3EB-4057-8AE2-4D0CF139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2652-C5F5-4295-AF62-1726BD00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3FE7-BC7E-4C8A-8038-FEC57266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352B-BFD4-4A5D-809A-71458320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C79C-B291-410F-B1B6-E3F441B4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1E4C-D9B7-4E68-A933-57793053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D2F8-6235-43FB-9F93-6C47B038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26E2-7630-4DE9-9B00-73249311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7E49-C1EF-4882-A082-CB9E8229A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BF78-1710-4FC4-A087-A774C1D92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2E662-89C5-4322-8C7E-2261F69D9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5E86E-E9AD-48A1-ADCB-C8AC1B35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9D9CE-22F5-464E-9605-70F5993B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72F55-4CE3-437D-AF19-B5343AB3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54C9B-F17F-4BBF-A02C-F6931B8C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CA57-082F-46E5-A033-035485CB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10068-35BE-4B58-A40D-D909D8DB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25ACC-B6B8-44ED-B0A7-A90444FF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FB7A9-7793-41F8-BD5C-75807F00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E7DCF-4D10-421B-B47A-85138C89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1A4DC-2ABB-4F88-B6E8-55CE66EF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E5FDB-21E2-420A-9EFC-6ADF8837E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A6656-226C-48F3-8143-7172176C3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17D35-03F5-42F0-87A7-27BF208A8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16B04-10C3-4E44-90FE-80CEF991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632AE-7A85-44CD-AE3B-A43FA051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9FAC-7C1A-40BB-9986-90140BE0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A2719-3950-4E9B-A51E-44E1475D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108AA-8964-4D50-A933-B3AD9E52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BEE27-4B31-49CF-8793-55EB96CB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4D7A8-D904-406C-97B0-C8A5D662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9744F-2F13-483D-8B4B-0017B8A4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B9EC9-1514-40B2-BE90-27729C3F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22CE5-33BB-40E6-A32E-D132E693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798E8-F6C6-4584-84D0-5ED3DBF2F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E29E5-922F-4894-8E68-9C1DCE5C6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9F0A-7549-46C9-9204-59E6C733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F5AA-5F42-4E4A-9A74-1BDB1BDB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CB8D-A623-43AE-B2E3-F3157E3D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0E46-9813-4E7E-92B6-4BC9A796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DEE8-8AE5-4B5D-A2B9-4DF2E857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6A7F-C019-4AA4-A6FC-D30A93321D9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6B5A-DD99-4382-9A42-8312F8A7220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1F0C-156A-4AD8-BCE7-2F0594AEACF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111B-2889-4F78-90A2-078CA4E9225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8"/>
          <p:cNvSpPr/>
          <p:nvPr/>
        </p:nvSpPr>
        <p:spPr>
          <a:xfrm>
            <a:off x="357120" y="2295360"/>
            <a:ext cx="828216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Kingdom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:   </a:t>
            </a:r>
            <a:r>
              <a:rPr b="1" lang="ar-SA" sz="3600" spc="-1" strike="noStrike">
                <a:solidFill>
                  <a:srgbClr val="f63f1b"/>
                </a:solidFill>
                <a:latin typeface="Times New Roman"/>
                <a:ea typeface="Arial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imalia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يوانات المتقدم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)- Subkingdom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: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arazo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نظائر البعدي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hylum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:         </a:t>
            </a:r>
            <a:r>
              <a:rPr b="1" lang="ar-SA" sz="3600" spc="-1" strike="noStrike">
                <a:solidFill>
                  <a:srgbClr val="f63f1b"/>
                </a:solidFill>
                <a:latin typeface="Times New Roman"/>
                <a:ea typeface="Arial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orifer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ساميات (الإسفنجيات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Sponges</a:t>
            </a:r>
            <a:r>
              <a:rPr b="1" i="1" lang="en-GB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1895040" y="1373040"/>
            <a:ext cx="461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Times New Roman"/>
              </a:rPr>
              <a:t>Sponges </a:t>
            </a:r>
            <a:r>
              <a:rPr b="1" lang="ar-SA" sz="4400" spc="-1" strike="noStrike">
                <a:solidFill>
                  <a:srgbClr val="0000ff"/>
                </a:solidFill>
                <a:latin typeface="Times New Roman"/>
                <a:cs typeface="Majalla UI"/>
              </a:rPr>
              <a:t>الأسفنج</a:t>
            </a:r>
            <a:r>
              <a:rPr b="1" i="1" lang="en-GB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11360" y="366480"/>
            <a:ext cx="553248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5: Animal Classification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0560" y="604440"/>
            <a:ext cx="87627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Calibri"/>
              </a:rPr>
              <a:t>Platyhelminthes: Flatworms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الديدان المفلطحة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811160"/>
            <a:ext cx="86868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y are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acoelomates</a:t>
            </a:r>
            <a:r>
              <a:rPr b="0" lang="ar-SA" sz="1900" spc="-1" strike="noStrike">
                <a:solidFill>
                  <a:srgbClr val="000000"/>
                </a:solidFill>
                <a:latin typeface="Constantia"/>
                <a:cs typeface="Arial"/>
              </a:rPr>
              <a:t>عديمة التجويف السيلومي</a:t>
            </a:r>
            <a:r>
              <a:rPr b="0" lang="ar-SA" sz="19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with gastrovascular cavities</a:t>
            </a:r>
            <a:r>
              <a:rPr b="1" lang="ar-SA" sz="23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1900" spc="-1" strike="noStrike">
                <a:solidFill>
                  <a:srgbClr val="000000"/>
                </a:solidFill>
                <a:latin typeface="Constantia"/>
                <a:cs typeface="Arial"/>
              </a:rPr>
              <a:t>ولها تجويف وعائي-معوي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y are living in marine, freshwater, and damp terrestrial habita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والبيئة الأرضية الرطب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also include many parasitic species, such as the fluk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ديدان البلهارسيا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nd tapeworm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ديدان الشريطي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Flatworms are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triploblastic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ثلاثية الطبقات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, with a middle embryonic tissue layer,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mesoderm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طبقة الوسطى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, which contributes to more complex organs and organs systems and to true muscle tissu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3975120" y="304920"/>
            <a:ext cx="5016600" cy="61722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179280" y="1298160"/>
            <a:ext cx="3835440" cy="591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rematodes parasitize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تتطفل على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a wide range of hosts, and have complex life cycles with alternation of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sexual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asexual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stag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any require an intermediate host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عائل وسيط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which the larvae develop before infecting the final hosts (usually a vertebrate) where the adult worm liv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fluke </a:t>
            </a:r>
            <a:r>
              <a:rPr b="1" i="1" lang="en-US" sz="2000" spc="-1" strike="noStrike">
                <a:solidFill>
                  <a:srgbClr val="000000"/>
                </a:solidFill>
                <a:latin typeface="Constantia"/>
              </a:rPr>
              <a:t>Schistosom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nfects 200 million peop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214200" y="635040"/>
            <a:ext cx="39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Schistosoma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cs typeface="Majalla UI"/>
              </a:rPr>
              <a:t>البلهارسي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28600" y="1698480"/>
            <a:ext cx="86868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Sponges are sessil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جالسة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with porous bodies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أجسام مسامية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and choanocy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germ layers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طبقات المنبت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sponges are not really tissues because the cells are relatively unspecialized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غير متخصص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ponges lack nerves or musc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onges are marin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بحر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some </a:t>
            </a:r>
            <a:r>
              <a:rPr b="1" lang="en-US" sz="2500" spc="-1" strike="noStrike">
                <a:solidFill>
                  <a:srgbClr val="000000"/>
                </a:solidFill>
                <a:latin typeface="Constantia"/>
              </a:rPr>
              <a:t>live in fresh water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ماء العذب</a:t>
            </a:r>
            <a:r>
              <a:rPr b="1" lang="ar-SA" sz="25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body of a sponge consists of two cell layers separated by a gelatinous region,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mesohyl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sponges ar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hermaphrodite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خنث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with each individual producing both sperm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egg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Line 5"/>
          <p:cNvSpPr/>
          <p:nvPr/>
        </p:nvSpPr>
        <p:spPr>
          <a:xfrm>
            <a:off x="152280" y="1484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468360" y="36180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- Phylum: Porifer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ساميات (الإسفنجيات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Sponges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إسفنج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79280" y="806040"/>
            <a:ext cx="8785440" cy="16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 body of a simple sponge resembles a sac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يشبه كيس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perforated with hol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فتحات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Nearly all sponges are suspension feeder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يتغذى على العوالق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, collecting food particles from water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1"/>
          <a:stretch/>
        </p:blipFill>
        <p:spPr>
          <a:xfrm>
            <a:off x="431640" y="2349360"/>
            <a:ext cx="853308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Water Currents for Everything!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2438280"/>
            <a:ext cx="82296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oanocytes use their flagella to create water currents through external pores called –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osti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sing. ostium,); incurrent po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ring food (bacteria, protists, etc.) and oxygen and remove metabolic wastes from the center of the sponge –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pongocoe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oanocytes use collar-like rings to filter foo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astes and water flow out a central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osculum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plural, oscula); an excurrent po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H:\RLK PowerPoint Lectures\PowerPoint Tools\New Folder\sponge pic2.gif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pic>
        <p:nvPicPr>
          <p:cNvPr id="206" name="Rectangle 2" descr=""/>
          <p:cNvPicPr/>
          <p:nvPr/>
        </p:nvPicPr>
        <p:blipFill>
          <a:blip r:embed="rId2"/>
          <a:stretch/>
        </p:blipFill>
        <p:spPr>
          <a:xfrm>
            <a:off x="281160" y="182520"/>
            <a:ext cx="81072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Line 3"/>
          <p:cNvSpPr/>
          <p:nvPr/>
        </p:nvSpPr>
        <p:spPr>
          <a:xfrm>
            <a:off x="914400" y="1557360"/>
            <a:ext cx="7315200" cy="144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250920" y="727200"/>
            <a:ext cx="876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Diploblastica</a:t>
            </a:r>
            <a:r>
              <a:rPr b="1" lang="en-GB" sz="40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يوانات</a:t>
            </a:r>
            <a:r>
              <a:rPr b="1" lang="ar-SA" sz="3200" spc="-1" strike="noStrike">
                <a:solidFill>
                  <a:srgbClr val="f63f1b"/>
                </a:solidFill>
                <a:latin typeface="Times New Roman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rial"/>
              </a:rPr>
              <a:t>ثنائية الطبق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95280" y="2205000"/>
            <a:ext cx="849780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Kingdom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imalia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يوانات</a:t>
            </a:r>
            <a:r>
              <a:rPr b="1" lang="ar-SA" sz="3600" spc="-1" strike="noStrike">
                <a:solidFill>
                  <a:srgbClr val="f63f1b"/>
                </a:solidFill>
                <a:latin typeface="Times New Roman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تقدم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)- Subkingdom: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etazoa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عدي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hylum: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elentrata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جوفمعويات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Class :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  <a:ea typeface="Arial"/>
              </a:rPr>
              <a:t>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Hydrozoa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هدري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ff"/>
                </a:solidFill>
                <a:latin typeface="Times New Roman"/>
              </a:rPr>
              <a:t>Hydra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هيدرا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amp; </a:t>
            </a:r>
            <a:r>
              <a:rPr b="1" i="1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Obelia</a:t>
            </a:r>
            <a:r>
              <a:rPr b="1" i="1" lang="ar-SA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أوبليا</a:t>
            </a:r>
            <a:r>
              <a:rPr b="1" i="1" lang="ar-SA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04920" y="762120"/>
            <a:ext cx="86104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is basic body plan has two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Parts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: the sessile polyp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قرص الجالس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and the floating medusa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ميدوزا العائم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polyps adhere to the substratum by the aboral end and extend their tentacles, waiting for pr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dusas (also calle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jellies) are flattened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outh-down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فم لأسفل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179280" y="3645000"/>
            <a:ext cx="4176720" cy="27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y are carnivores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لاحم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at use tentacles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لامس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ranged in a ring around the mouth to capture prey and push the food into the gastrovascular chamber for diges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scles and nerves exist in their simplest for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8"/>
          <p:cNvGrpSpPr/>
          <p:nvPr/>
        </p:nvGrpSpPr>
        <p:grpSpPr>
          <a:xfrm>
            <a:off x="4176720" y="2314440"/>
            <a:ext cx="4824360" cy="4400640"/>
            <a:chOff x="4176720" y="2314440"/>
            <a:chExt cx="4824360" cy="4400640"/>
          </a:xfrm>
        </p:grpSpPr>
        <p:pic>
          <p:nvPicPr>
            <p:cNvPr id="213" name="Picture 4" descr=""/>
            <p:cNvPicPr/>
            <p:nvPr/>
          </p:nvPicPr>
          <p:blipFill>
            <a:blip r:embed="rId1"/>
            <a:srcRect l="0" t="0" r="0" b="3357"/>
            <a:stretch/>
          </p:blipFill>
          <p:spPr>
            <a:xfrm>
              <a:off x="4176720" y="2314440"/>
              <a:ext cx="4824360" cy="440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Rectangle 7"/>
            <p:cNvSpPr/>
            <p:nvPr/>
          </p:nvSpPr>
          <p:spPr>
            <a:xfrm>
              <a:off x="4225680" y="4622760"/>
              <a:ext cx="2305080" cy="20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79280" y="1341360"/>
            <a:ext cx="3888000" cy="52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have a relatively simple body construc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basic body plan is a sac with a central digestive compartment,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gastrovascular cavity      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تجويف الوائي-معوي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Hydra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exist only in the polyp form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hen environmental conditions are favorable, a hydra reproduces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asexuall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by budding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تبرعم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201600" y="105264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1979640" y="2667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1- </a:t>
            </a:r>
            <a:r>
              <a:rPr b="1" i="1" lang="en-GB" sz="3600" spc="-1" strike="noStrike">
                <a:solidFill>
                  <a:srgbClr val="0000ff"/>
                </a:solidFill>
                <a:latin typeface="Times New Roman"/>
              </a:rPr>
              <a:t>Hyd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12"/>
          <p:cNvGrpSpPr/>
          <p:nvPr/>
        </p:nvGrpSpPr>
        <p:grpSpPr>
          <a:xfrm>
            <a:off x="4067280" y="1617840"/>
            <a:ext cx="4897440" cy="4690800"/>
            <a:chOff x="4067280" y="1617840"/>
            <a:chExt cx="4897440" cy="4690800"/>
          </a:xfrm>
        </p:grpSpPr>
        <p:pic>
          <p:nvPicPr>
            <p:cNvPr id="219" name="Picture 7" descr="nocircsys"/>
            <p:cNvPicPr/>
            <p:nvPr/>
          </p:nvPicPr>
          <p:blipFill>
            <a:blip r:embed="rId1"/>
            <a:srcRect l="0" t="0" r="19398" b="0"/>
            <a:stretch/>
          </p:blipFill>
          <p:spPr>
            <a:xfrm>
              <a:off x="4067280" y="1617840"/>
              <a:ext cx="4897440" cy="46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Rectangle 9"/>
            <p:cNvSpPr/>
            <p:nvPr/>
          </p:nvSpPr>
          <p:spPr>
            <a:xfrm>
              <a:off x="8459640" y="3213000"/>
              <a:ext cx="505080" cy="2880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10"/>
            <p:cNvSpPr/>
            <p:nvPr/>
          </p:nvSpPr>
          <p:spPr>
            <a:xfrm>
              <a:off x="7020000" y="5300640"/>
              <a:ext cx="1944720" cy="865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Oval 11"/>
            <p:cNvSpPr/>
            <p:nvPr/>
          </p:nvSpPr>
          <p:spPr>
            <a:xfrm>
              <a:off x="8029440" y="5084640"/>
              <a:ext cx="503280" cy="28908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476360" y="72720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riploblastica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ial"/>
              </a:rPr>
              <a:t>ثلاثية الطبقات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6"/>
          <p:cNvSpPr/>
          <p:nvPr/>
        </p:nvSpPr>
        <p:spPr>
          <a:xfrm>
            <a:off x="990720" y="1600200"/>
            <a:ext cx="72388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1116000" y="1916280"/>
            <a:ext cx="755964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Kingdom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 </a:t>
            </a:r>
            <a:r>
              <a:rPr b="1" lang="ar-SA" sz="3200" spc="-1" strike="noStrike">
                <a:solidFill>
                  <a:srgbClr val="f63f1b"/>
                </a:solidFill>
                <a:latin typeface="Times New Roman"/>
                <a:ea typeface="Arial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imalia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يوانات المتقدمة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ubkingdom: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etazo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عدي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hylum: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latyhelminthes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فلطحا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1- Class :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  <a:ea typeface="Arial"/>
              </a:rPr>
              <a:t>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Trematod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تريماتود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chistosom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لهارسيا</a:t>
            </a:r>
            <a:r>
              <a:rPr b="1" i="1" lang="ar-SA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2- Class:</a:t>
            </a:r>
            <a:r>
              <a:rPr b="1" lang="en-GB" sz="3200" spc="-1" strike="noStrike">
                <a:solidFill>
                  <a:srgbClr val="f63f1b"/>
                </a:solidFill>
                <a:latin typeface="Times New Roman"/>
                <a:ea typeface="Arial"/>
              </a:rPr>
              <a:t>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estoide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سيستودا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aeni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peworm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الدودة الشريطي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د أشرف مشالي</cp:lastModifiedBy>
  <cp:lastPrinted>2001-01-06T03:20:03Z</cp:lastPrinted>
  <dcterms:modified xsi:type="dcterms:W3CDTF">2013-09-01T08:43:30Z</dcterms:modified>
  <cp:revision>316</cp:revision>
  <dc:subject/>
  <dc:title>Nerve activates contraction</dc:title>
</cp:coreProperties>
</file>