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51212-9C83-49B6-A3D2-BA4FEB769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B3BDA-0AF0-4195-9257-87D75C3B2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7F8E7-E2F3-4FC7-8889-43EA3159F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840A0-6371-488F-AE79-63145FD33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80EB7-B2EB-425D-BA66-8CFF4F7D5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02676-84C6-4FE2-BE9B-B177DB4E4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56242-577F-4A7E-81BE-2CDD2AB48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C6F23-893B-4E44-BF1A-491D05FFC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90FEA-1E4B-4718-9A00-5C427394E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57933-AF0C-4352-B6E2-4BFFBF70A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3224F-9150-4625-9D7F-6B4E67087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F0213-E613-4946-896B-B3999783A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577F-01F9-47FA-853C-9806363C975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06DBB-C835-437F-8405-108D3DF6669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C822C-0FBB-440B-8342-EAEF1CE0D79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94D2-29E3-42E8-B1EE-427D1C31D18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F68F-925B-4E2D-96A0-E58A3F67F97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7F89-80B2-45C7-8EF2-D9062D728D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A406-D357-4B1B-AE4D-38CCAD44635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 </a:t>
            </a:r>
            <a:r>
              <a:rPr b="0" lang="en-US" sz="2000" spc="-1" strike="noStrike">
                <a:solidFill>
                  <a:srgbClr val="ff0000"/>
                </a:solidFill>
                <a:latin typeface="Arial"/>
                <a:ea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4A46-DBF6-4747-BD06-9E88541E598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ralajmi</cp:lastModifiedBy>
  <dcterms:modified xsi:type="dcterms:W3CDTF">2014-02-02T04:47:44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