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001-8278-4892-B5F5-DC4A7A56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DA3-25DE-40A0-BBE3-98E661FB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36E-4E80-4825-A017-784AE2EA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7BB-3918-48D1-AA03-CACA065F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AC2-F406-406F-8456-3CB96004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4B9-E087-4E29-A743-CB2C98B0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AE5-D9FE-41E8-95A8-F8C3724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FD2-472C-4B7A-8FC1-ABB9731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83E-19FF-4242-9788-055B9DDC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535-2D6F-44F7-A85D-2CF0CF5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A81-F89A-4E1B-9BF8-1F4C1FDF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94D-516E-48D7-87BC-487A29A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BE7-4275-4C67-8C94-B650A6CF3E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7040" y="196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Class : Ascomyceteae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(sac fungi)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اسك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204040" cy="3151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class is characterized b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 hypha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 of ascospores enclosed inside sac-like asc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orms are unicellula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of this class are saprophytes and many are parasites on higher plants causing diseases such as the powdery mildews, ergot disease and apple scab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of fungi belonging to this class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zi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2040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تميز هذه الفئة بالتالي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قسم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تاج الجراثيم الاسك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sp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حاطة داخليا بشبه كيس حوله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أشكالها وحيدة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فراد هذه الفئة  مترممة ومتطفلة وكثير من المتطفلات  تتطفل على النباتات الراقية مسببة لها الأمراض مثل  البياض الدقيقي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wdery mildew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مرض الارغو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rgot dise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جرب التفاح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scab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ن أمثلة الفطريات التي تنتمي إلى هذه الفئة ه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Peziz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00000"/>
                </a:solidFill>
                <a:latin typeface="Calibri"/>
              </a:rPr>
              <a:t>فطر البنسيليوم والاسبيرجيلس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and   Aspergill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4292640"/>
            <a:ext cx="8640720" cy="172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s genera are commonly known as the black, blue or green mo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species have different other colours such as blue-green, yellow or brow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very widely distributed in all habita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4000" y="2133720"/>
            <a:ext cx="8640720" cy="1922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ذه الأجناس عادة تعرف بالعفن الأسود والأزرق أو العفن الاخض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أنواع المختلفة منها تمتلك ألوان أخرى مختلفة مثل اللون الاخضر المزرق و الأصفر أو البنى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هي تتوزع على نطاق واسع جداً في جميع الاوسا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wpe358.jpg (83711 bytes)"/>
          <p:cNvPicPr/>
          <p:nvPr/>
        </p:nvPicPr>
        <p:blipFill>
          <a:blip r:embed="rId1"/>
          <a:stretch/>
        </p:blipFill>
        <p:spPr>
          <a:xfrm>
            <a:off x="250920" y="1508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333360" y="3182760"/>
            <a:ext cx="3564000" cy="2460960"/>
          </a:xfrm>
          <a:prstGeom prst="rect">
            <a:avLst/>
          </a:prstGeom>
          <a:ln w="0">
            <a:noFill/>
          </a:ln>
        </p:spPr>
      </p:pic>
      <p:sp>
        <p:nvSpPr>
          <p:cNvPr id="49" name="Content Placeholder 2"/>
          <p:cNvSpPr/>
          <p:nvPr/>
        </p:nvSpPr>
        <p:spPr>
          <a:xfrm>
            <a:off x="250920" y="2549520"/>
            <a:ext cx="3646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24000" y="5918040"/>
            <a:ext cx="32400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14920" y="54936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تشابهة لكلا الجنسين هي ك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كلا الجنسين متفرعة ومقسم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نها تنمو مترممة على جميع أنواع المواد العضوية مثل المربيات، والخبز، واللحوم والحبوب والخشب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أن تنمو أيضا  مترممة في الفواكة والخضروات المخزنة مسببة لها تسوس وأضمحلا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مكن تنميتها  بسهولة على الاوساط الغذائية الاصطناع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اهما تتكاثر لاجنسيا بواسطة الكونيد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ي تحمل بواسطة الحامل الكونيد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oph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ذه الكونيدات تحمل عن طريق تيارات الهواء، وأنها قادرة على الإنبات فورا إذا وقعت على بيئة جيد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د لوحظ التكاثر الجنسي في العديد من أنوا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356760"/>
            <a:ext cx="4614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ilar characters for both genera are listed below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ycelium of both genera is branched and sept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row saprophytically on all kinds of organic materials such as jams, bread, meats, grains and w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grow also as saprophytes on stored fruits and vegetables causing their dec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be subcultured easily on synthetic nutritive me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multiply asexually by conidia, which are carried on conidioph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nidia are carried by air-currents, and they are capable of immediate germination if they fall upon the proper substrat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reproduction has been observed in several species of bo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wpe358.jpg (83711 bytes)"/>
          <p:cNvPicPr/>
          <p:nvPr/>
        </p:nvPicPr>
        <p:blipFill>
          <a:blip r:embed="rId1"/>
          <a:stretch/>
        </p:blipFill>
        <p:spPr>
          <a:xfrm>
            <a:off x="5286240" y="5000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357880" y="371484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2"/>
          <p:cNvSpPr/>
          <p:nvPr/>
        </p:nvSpPr>
        <p:spPr>
          <a:xfrm>
            <a:off x="5357880" y="2962440"/>
            <a:ext cx="3645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357880" y="6175440"/>
            <a:ext cx="323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pe358.jpg (83711 bytes)"/>
          <p:cNvPicPr/>
          <p:nvPr/>
        </p:nvPicPr>
        <p:blipFill>
          <a:blip r:embed="rId1"/>
          <a:stretch/>
        </p:blipFill>
        <p:spPr>
          <a:xfrm>
            <a:off x="19080" y="500040"/>
            <a:ext cx="3206880" cy="244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-52560" y="3201840"/>
            <a:ext cx="3278520" cy="2460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25960" y="455760"/>
            <a:ext cx="5557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ختلفة في كلا الجنسين هي كالتا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في فطر البنسيليوم الحامل الكونيدي مقسمة ومتفرع  . نهايات الفروع الأخيرة مع ستيريجمات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a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التي تحمل سلاسل الكوني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في النسيليوم الستيريجماتا تكون في مجموعات، وقد تكون مترتبة بستيريجماتا ابتدائية وثانوية وثالث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اسبيرجيليس الحامل الكونيدي غير مقسم وغير متفرع ونهاية الحامل الكونيدي تنتهي براس متضخم ، تخرج منهاستيريجمات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لاسل الكونيدات ، مرتبة في سلسلة متوالية (الاكبر في النهايات الطرفية) يقوم بحملها ستيريجماتا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ظهر الحامل الكونيدي في الاسبيرجليس يتفرع ويشع من  جميع أنحاء الرأس بينما في البنسيليوم تبدو وكأنها مكن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63360" y="5141880"/>
            <a:ext cx="21322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00040"/>
            <a:ext cx="4829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ces characters for both genera are listed below 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 (fig. 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septated and branched. The last branches terminate with the sterigmata (called phialides), which carry the chains of coni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sterigmate are in clusters, which may be in the order of primary, secondary and sometimes tertiary sterigm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ASpergillus (fig. B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unbranched, non-septate and terminate with swollen heads, each of which carries radiating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ns of conidia, arranged in acropetal succession (the larger being terminal ) are carried by such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over appearance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pergill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idiophore is a radiating head whil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k like a b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wpe358.jpg (83711 bytes)"/>
          <p:cNvPicPr/>
          <p:nvPr/>
        </p:nvPicPr>
        <p:blipFill>
          <a:blip r:embed="rId1"/>
          <a:stretch/>
        </p:blipFill>
        <p:spPr>
          <a:xfrm>
            <a:off x="5643720" y="500040"/>
            <a:ext cx="3206520" cy="2440080"/>
          </a:xfrm>
          <a:prstGeom prst="rect">
            <a:avLst/>
          </a:prstGeom>
          <a:ln w="0">
            <a:noFill/>
          </a:ln>
        </p:spPr>
      </p:pic>
      <p:sp>
        <p:nvSpPr>
          <p:cNvPr id="63" name="Content Placeholder 2"/>
          <p:cNvSpPr/>
          <p:nvPr/>
        </p:nvSpPr>
        <p:spPr>
          <a:xfrm>
            <a:off x="8143920" y="500040"/>
            <a:ext cx="704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715000" y="3214800"/>
            <a:ext cx="3278160" cy="246060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8439120" y="3214800"/>
            <a:ext cx="49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أهمية الاقتصادية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3640" y="3645000"/>
            <a:ext cx="8589960" cy="3052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 Penicill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are utilized in the preparation of food and other materials useful to hum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itric and other organic acids are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. grown on s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The enzyme, Taka-Diastase, used in medicine, is form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ertain kinds of cheeses, such as Roquefort, Camembert and Gorogonzola have special taste and flavour due to the action of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, the powerful antibiotic, is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324000" y="1413000"/>
            <a:ext cx="858492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اسبرجيليس والبنسليوم تستخدم في إعداد الطعام وغيرها من المواد المفيدة للبش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ستريك أسيد  وبعض  الأحماض العضوية وأخرى تنتجه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 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تنمى على السك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إنزيم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Taka-Diasta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ستخدم في الطب، وهو ينتج من فطر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نواع معينة من الجبن، مثل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كفو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اممبي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جوروجونزول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ها طعم خاص ونكهة بسبب  فطرة البنسيليو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ضاد الحيوي البنسلين ينتج بواسطة الفطرة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2:27Z</dcterms:created>
  <dc:creator>DTK</dc:creator>
  <dc:description/>
  <dc:language>en-US</dc:language>
  <cp:lastModifiedBy>Khalid Al-Maary</cp:lastModifiedBy>
  <cp:lastPrinted>2013-11-24T06:58:47Z</cp:lastPrinted>
  <dcterms:modified xsi:type="dcterms:W3CDTF">2015-08-30T16:35:56Z</dcterms:modified>
  <cp:revision>17</cp:revision>
  <dc:subject/>
  <dc:title>CLASS  ASCOMYCETEAE (SAC FUNGI)</dc:title>
</cp:coreProperties>
</file>