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2F5C-1C41-4EBE-88DD-9D001B1E7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E664-01F8-4A97-BE47-B89C7E9FF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5DBA-6486-44C7-AC19-923483A73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7627-F8A3-4C7F-9436-053D51456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57E9-C032-4B3B-856E-B4D614CBB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8FA6-FE52-45D2-A90D-D0EB31199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733B-F2FD-46AE-B693-945D135E0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B74B-2888-4030-8FEE-1FE7D307C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BDCF-B334-4FDA-A1A1-2470A6100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482F-BE63-410E-9DAF-88C78AEB4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2F73-2035-4A91-B77A-E46191BD2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DB4D-29BA-4339-9769-38EFD9653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5CFBD-A4D8-42A1-9574-715C1C6D7769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97040" y="196920"/>
            <a:ext cx="777240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parajita"/>
                <a:ea typeface="Aparajita"/>
              </a:rPr>
              <a:t>Class : Ascomyceteae</a:t>
            </a:r>
            <a:r>
              <a:rPr b="0" lang="en-US" sz="2800" spc="-1" strike="noStrike">
                <a:solidFill>
                  <a:srgbClr val="000000"/>
                </a:solidFill>
                <a:latin typeface="Aparajita"/>
                <a:ea typeface="Aparajit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parajita"/>
                <a:ea typeface="Aparajita"/>
              </a:rPr>
              <a:t>(sac fungi)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parajita"/>
                <a:cs typeface="Aparajita"/>
              </a:rPr>
              <a:t>الفطريات الاسكية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94920" y="3573360"/>
            <a:ext cx="8204040" cy="315144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Autofit/>
          </a:bodyPr>
          <a:p>
            <a:pPr indent="0" algn="just">
              <a:lnSpc>
                <a:spcPct val="1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This class is characterized by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Septated hyphae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Production of ascospores enclosed inside sac-like asci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Some forms are unicellular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Members of this class are saprophytes and many are parasites on higher plants causing diseases such as the powdery mildews, ergot disease and apple scab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Examples of fungi belonging to this class a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Aspergillus, Penicillium, Saccharomyces, Claviceps,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Peziza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2"/>
          <p:cNvSpPr/>
          <p:nvPr/>
        </p:nvSpPr>
        <p:spPr>
          <a:xfrm>
            <a:off x="395280" y="981000"/>
            <a:ext cx="8204040" cy="256284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تتميز هذه الفئة بالتالي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خيوط الفطرية مقسمة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Septate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إنتاج الجراثيم الاسكي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cospor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المحاطة داخليا بشبه كيس حولها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بعض أشكالها وحيدة الخلية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أفراد هذه الفئة  مترممة ومتطفلة وكثير من المتطفلات  تتطفل على النباتات الراقية مسببة لها الأمراض مثل  البياض الدقيقي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powdery mildews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ومرض الارغوت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ergot disea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وجرب التفاح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apple scab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من أمثلة الفطريات التي تنتمي إلى هذه الفئة هي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Aspergillus, Penicillium, Saccharomyces, Claviceps, Peziza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284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000" spc="-1" strike="noStrike">
                <a:solidFill>
                  <a:srgbClr val="000000"/>
                </a:solidFill>
                <a:latin typeface="Calibri"/>
              </a:rPr>
              <a:t>فطر البنسيليوم والاسبيرجيلس</a:t>
            </a:r>
            <a:br>
              <a:rPr sz="4000"/>
            </a:b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Penicillium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  and   Aspergillu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24000" y="4292640"/>
            <a:ext cx="8640720" cy="172872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ses genera are commonly known as the black, blue or green mold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ifferent species have different other colours such as blue-green, yellow or brown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y are very widely distributed in all habitat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2"/>
          <p:cNvSpPr/>
          <p:nvPr/>
        </p:nvSpPr>
        <p:spPr>
          <a:xfrm>
            <a:off x="324000" y="2133720"/>
            <a:ext cx="8640720" cy="192276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هذه الأجناس عادة تعرف بالعفن الأسود والأزرق أو العفن الاخضر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الأنواع المختلفة منها تمتلك ألوان أخرى مختلفة مثل اللون الاخضر المزرق و الأصفر أو البنى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وهي تتوزع على نطاق واسع جداً في جميع الاوساط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wpe358.jpg (83711 bytes)"/>
          <p:cNvPicPr/>
          <p:nvPr/>
        </p:nvPicPr>
        <p:blipFill>
          <a:blip r:embed="rId1"/>
          <a:stretch/>
        </p:blipFill>
        <p:spPr>
          <a:xfrm>
            <a:off x="250920" y="150840"/>
            <a:ext cx="3564000" cy="24400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File:Aspergillus niger 01.jpg"/>
          <p:cNvPicPr/>
          <p:nvPr/>
        </p:nvPicPr>
        <p:blipFill>
          <a:blip r:embed="rId2"/>
          <a:stretch/>
        </p:blipFill>
        <p:spPr>
          <a:xfrm>
            <a:off x="333360" y="3182760"/>
            <a:ext cx="3564000" cy="2460960"/>
          </a:xfrm>
          <a:prstGeom prst="rect">
            <a:avLst/>
          </a:prstGeom>
          <a:ln w="0">
            <a:noFill/>
          </a:ln>
        </p:spPr>
      </p:pic>
      <p:sp>
        <p:nvSpPr>
          <p:cNvPr id="49" name="Content Placeholder 2"/>
          <p:cNvSpPr/>
          <p:nvPr/>
        </p:nvSpPr>
        <p:spPr>
          <a:xfrm>
            <a:off x="250920" y="2549520"/>
            <a:ext cx="364644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enicillium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s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Content Placeholder 2"/>
          <p:cNvSpPr/>
          <p:nvPr/>
        </p:nvSpPr>
        <p:spPr>
          <a:xfrm>
            <a:off x="324000" y="5918040"/>
            <a:ext cx="324000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Aspergillus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sp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"/>
          <p:cNvSpPr/>
          <p:nvPr/>
        </p:nvSpPr>
        <p:spPr>
          <a:xfrm>
            <a:off x="3814920" y="549360"/>
            <a:ext cx="51847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الخصائص المتشابهة لكلا الجنسين هي كالتالي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غزل الفطري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ycelium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في كلا الجنسين متفرعة ومقسمة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أنها تنمو مترممة على جميع أنواع المواد العضوية مثل المربيات، والخبز، واللحوم والحبوب والخشب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مكن أن تنمو أيضا  مترممة في الفواكة والخضروات المخزنة مسببة لها تسوس وأضمحلال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يمكن تنميتها  بسهولة على الاوساط الغذائية الاصطناعية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كلاهما تتكاثر لاجنسيا بواسطة الكونيدات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idia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التي تحمل بواسطة الحامل الكونيدي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idioph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هذه الكونيدات تحمل عن طريق تيارات الهواء، وأنها قادرة على الإنبات فورا إذا وقعت على بيئة جيدة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وقد لوحظ التكاثر الجنسي في العديد من أنواع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nicilliu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و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rgillu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28400" y="356760"/>
            <a:ext cx="461484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imilar characters for both genera are listed below :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mycelium of both genera is branched and septate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y grow saprophytically on all kinds of organic materials such as jams, bread, meats, grains and wood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y can grow also as saprophytes on stored fruits and vegetables causing their decay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y can be subcultured easily on synthetic nutritive media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oth multiply asexually by conidia, which are carried on conidiophore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se conidia are carried by air-currents, and they are capable of immediate germination if they fall upon the proper substratum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xual reproduction has been observed in several species of both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Penicillium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Aspergillu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 rtl="1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wpe358.jpg (83711 bytes)"/>
          <p:cNvPicPr/>
          <p:nvPr/>
        </p:nvPicPr>
        <p:blipFill>
          <a:blip r:embed="rId1"/>
          <a:stretch/>
        </p:blipFill>
        <p:spPr>
          <a:xfrm>
            <a:off x="5286240" y="500040"/>
            <a:ext cx="3564000" cy="2440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File:Aspergillus niger 01.jpg"/>
          <p:cNvPicPr/>
          <p:nvPr/>
        </p:nvPicPr>
        <p:blipFill>
          <a:blip r:embed="rId2"/>
          <a:stretch/>
        </p:blipFill>
        <p:spPr>
          <a:xfrm>
            <a:off x="5357880" y="3714840"/>
            <a:ext cx="3564000" cy="2460600"/>
          </a:xfrm>
          <a:prstGeom prst="rect">
            <a:avLst/>
          </a:prstGeom>
          <a:ln w="0">
            <a:noFill/>
          </a:ln>
        </p:spPr>
      </p:pic>
      <p:sp>
        <p:nvSpPr>
          <p:cNvPr id="55" name="Content Placeholder 2"/>
          <p:cNvSpPr/>
          <p:nvPr/>
        </p:nvSpPr>
        <p:spPr>
          <a:xfrm>
            <a:off x="5357880" y="2962440"/>
            <a:ext cx="364500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enicillium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s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Content Placeholder 2"/>
          <p:cNvSpPr/>
          <p:nvPr/>
        </p:nvSpPr>
        <p:spPr>
          <a:xfrm>
            <a:off x="5357880" y="6175440"/>
            <a:ext cx="323856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Aspergillus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sp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wpe358.jpg (83711 bytes)"/>
          <p:cNvPicPr/>
          <p:nvPr/>
        </p:nvPicPr>
        <p:blipFill>
          <a:blip r:embed="rId1"/>
          <a:stretch/>
        </p:blipFill>
        <p:spPr>
          <a:xfrm>
            <a:off x="19080" y="500040"/>
            <a:ext cx="3206880" cy="24400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File:Aspergillus niger 01.jpg"/>
          <p:cNvPicPr/>
          <p:nvPr/>
        </p:nvPicPr>
        <p:blipFill>
          <a:blip r:embed="rId2"/>
          <a:stretch/>
        </p:blipFill>
        <p:spPr>
          <a:xfrm>
            <a:off x="-52560" y="3201840"/>
            <a:ext cx="3278520" cy="246060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3"/>
          <p:cNvSpPr/>
          <p:nvPr/>
        </p:nvSpPr>
        <p:spPr>
          <a:xfrm>
            <a:off x="3225960" y="455760"/>
            <a:ext cx="55576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الخصائص المختلفة في كلا الجنسين هي كالتالي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في فطر البنسيليوم الحامل الكونيدي مقسمة ومتفرع  . نهايات الفروع الأخيرة مع ستيريجماتا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rigmat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تسم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alid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و التي تحمل سلاسل الكوني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  في النسيليوم الستيريجماتا تكون في مجموعات، وقد تكون مترتبة بستيريجماتا ابتدائية وثانوية وثالثة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في الاسبيرجيليس الحامل الكونيدي غير مقسم وغير متفرع ونهاية الحامل الكونيدي تنتهي براس متضخم ، تخرج منهاستيريجماتا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rigmat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سلاسل الكونيدات ، مرتبة في سلسلة متوالية (الاكبر في النهايات الطرفية) يقوم بحملها ستيريجماتا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مظهر الحامل الكونيدي في الاسبيرجليس يتفرع ويشع من  جميع أنحاء الرأس بينما في البنسيليوم تبدو وكأنها مكنسة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3"/>
          <a:stretch/>
        </p:blipFill>
        <p:spPr>
          <a:xfrm>
            <a:off x="63360" y="5141880"/>
            <a:ext cx="2132280" cy="17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457200" y="500040"/>
            <a:ext cx="482904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ifferences characters for both genera are listed below :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Penicillium (fig. A)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the conidiophores are septated and branched. The last branches terminate with the sterigmata (called phialides), which carry the chains of conidia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Penicillium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the sterigmate are in clusters, which may be in the order of primary, secondary and sometimes tertiary sterigmata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 ASpergillus (fig. B)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the conidiophores are unbranched, non-septate and terminate with swollen heads, each of which carries radiating sterigmat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hains of conidia, arranged in acropetal succession (the larger being terminal ) are carried by such sterigmat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y allover appearance of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Apergillu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conidiophore is a radiating head while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Penicillium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look like a broom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 rtl="1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wpe358.jpg (83711 bytes)"/>
          <p:cNvPicPr/>
          <p:nvPr/>
        </p:nvPicPr>
        <p:blipFill>
          <a:blip r:embed="rId1"/>
          <a:stretch/>
        </p:blipFill>
        <p:spPr>
          <a:xfrm>
            <a:off x="5643720" y="500040"/>
            <a:ext cx="3206520" cy="2440080"/>
          </a:xfrm>
          <a:prstGeom prst="rect">
            <a:avLst/>
          </a:prstGeom>
          <a:ln w="0">
            <a:noFill/>
          </a:ln>
        </p:spPr>
      </p:pic>
      <p:sp>
        <p:nvSpPr>
          <p:cNvPr id="63" name="Content Placeholder 2"/>
          <p:cNvSpPr/>
          <p:nvPr/>
        </p:nvSpPr>
        <p:spPr>
          <a:xfrm>
            <a:off x="8143920" y="500040"/>
            <a:ext cx="70488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" descr="File:Aspergillus niger 01.jpg"/>
          <p:cNvPicPr/>
          <p:nvPr/>
        </p:nvPicPr>
        <p:blipFill>
          <a:blip r:embed="rId2"/>
          <a:stretch/>
        </p:blipFill>
        <p:spPr>
          <a:xfrm>
            <a:off x="5715000" y="3214800"/>
            <a:ext cx="3278160" cy="2460600"/>
          </a:xfrm>
          <a:prstGeom prst="rect">
            <a:avLst/>
          </a:prstGeom>
          <a:ln w="0">
            <a:noFill/>
          </a:ln>
        </p:spPr>
      </p:pic>
      <p:sp>
        <p:nvSpPr>
          <p:cNvPr id="65" name="Content Placeholder 2"/>
          <p:cNvSpPr/>
          <p:nvPr/>
        </p:nvSpPr>
        <p:spPr>
          <a:xfrm>
            <a:off x="8439120" y="3214800"/>
            <a:ext cx="4906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Calibri"/>
              </a:rPr>
              <a:t>الأهمية الاقتصادية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conomic importa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23640" y="3645000"/>
            <a:ext cx="8589960" cy="30528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 fontScale="97000"/>
          </a:bodyPr>
          <a:p>
            <a:pPr marL="332640" indent="-3326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ndalus"/>
              </a:rPr>
              <a:t>Aspergillus 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</a:rPr>
              <a:t>and</a:t>
            </a:r>
            <a:r>
              <a:rPr b="0" i="1" lang="en-US" sz="2000" spc="-1" strike="noStrike">
                <a:solidFill>
                  <a:srgbClr val="000000"/>
                </a:solidFill>
                <a:latin typeface="Andalus"/>
              </a:rPr>
              <a:t> Penicillum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</a:rPr>
              <a:t> are utilized in the preparation of food and other materials useful to human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</a:rPr>
              <a:t>Citric and other organic acids are produced by </a:t>
            </a:r>
            <a:r>
              <a:rPr b="0" i="1" lang="en-US" sz="2000" spc="-1" strike="noStrike">
                <a:solidFill>
                  <a:srgbClr val="000000"/>
                </a:solidFill>
                <a:latin typeface="Andalus"/>
              </a:rPr>
              <a:t>Aspergillus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</a:rPr>
              <a:t> sp. grown on suga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</a:rPr>
              <a:t>The enzyme, Taka-Diastase, used in medicine, is formed by </a:t>
            </a:r>
            <a:r>
              <a:rPr b="0" i="1" lang="en-US" sz="2000" spc="-1" strike="noStrike">
                <a:solidFill>
                  <a:srgbClr val="000000"/>
                </a:solidFill>
                <a:latin typeface="Andalus"/>
              </a:rPr>
              <a:t>Aspergillus oryzae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</a:rPr>
              <a:t>Certain kinds of cheeses, such as Roquefort, Camembert and Gorogonzola have special taste and flavour due to the action of </a:t>
            </a:r>
            <a:r>
              <a:rPr b="0" i="1" lang="en-US" sz="2000" spc="-1" strike="noStrike">
                <a:solidFill>
                  <a:srgbClr val="000000"/>
                </a:solidFill>
                <a:latin typeface="Andalus"/>
              </a:rPr>
              <a:t>Penicillium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</a:rPr>
              <a:t> spp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ndalus"/>
              </a:rPr>
              <a:t>Penicillin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</a:rPr>
              <a:t>, the powerful antibiotic, is produced by </a:t>
            </a:r>
            <a:r>
              <a:rPr b="0" i="1" lang="en-US" sz="2000" spc="-1" strike="noStrike">
                <a:solidFill>
                  <a:srgbClr val="000000"/>
                </a:solidFill>
                <a:latin typeface="Andalus"/>
              </a:rPr>
              <a:t>Penicillium notatum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tangle 1"/>
          <p:cNvSpPr/>
          <p:nvPr/>
        </p:nvSpPr>
        <p:spPr>
          <a:xfrm>
            <a:off x="324000" y="1413000"/>
            <a:ext cx="8584920" cy="33858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فطر الاسبرجيليس والبنسليوم تستخدم في إعداد الطعام وغيرها من المواد المفيدة للبش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ستريك أسيد  وبعض  الأحماض العضوية وأخرى تنتجها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rgillus s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عندما تنمى على السك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 الإنزيم </a:t>
            </a:r>
            <a:r>
              <a:rPr b="0" lang="en-US" sz="1800" spc="-1" strike="noStrike">
                <a:solidFill>
                  <a:srgbClr val="000000"/>
                </a:solidFill>
                <a:latin typeface="Andalus"/>
              </a:rPr>
              <a:t>Taka-Diastase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يستخدم في الطب، وهو ينتج من فطر </a:t>
            </a:r>
            <a:r>
              <a:rPr b="0" i="1" lang="en-US" sz="1800" spc="-1" strike="noStrike">
                <a:solidFill>
                  <a:srgbClr val="000000"/>
                </a:solidFill>
                <a:latin typeface="Andalus"/>
              </a:rPr>
              <a:t>Aspergillus oryzae</a:t>
            </a:r>
            <a:r>
              <a:rPr b="0" lang="en-US" sz="1800" spc="-1" strike="noStrike">
                <a:solidFill>
                  <a:srgbClr val="000000"/>
                </a:solidFill>
                <a:latin typeface="Andalus"/>
              </a:rPr>
              <a:t>.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أنواع معينة من الجبن، مثل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روكفور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،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كاممبير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،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وجوروجونزولا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لها طعم خاص ونكهة بسبب  فطرة البنسيليو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المضاد الحيوي البنسلين ينتج بواسطة الفطرة </a:t>
            </a:r>
            <a:r>
              <a:rPr b="0" i="1" lang="en-US" sz="1800" spc="-1" strike="noStrike">
                <a:solidFill>
                  <a:srgbClr val="000000"/>
                </a:solidFill>
                <a:latin typeface="Andalus"/>
              </a:rPr>
              <a:t>Penicillium notatum</a:t>
            </a:r>
            <a:r>
              <a:rPr b="0" lang="en-US" sz="1800" spc="-1" strike="noStrike">
                <a:solidFill>
                  <a:srgbClr val="000000"/>
                </a:solidFill>
                <a:latin typeface="Andalus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9T05:02:27Z</dcterms:created>
  <dc:creator>DTK</dc:creator>
  <dc:description/>
  <dc:language>en-US</dc:language>
  <cp:lastModifiedBy>Khalid Al-Maary</cp:lastModifiedBy>
  <cp:lastPrinted>2013-11-24T06:58:47Z</cp:lastPrinted>
  <dcterms:modified xsi:type="dcterms:W3CDTF">2015-08-30T16:35:56Z</dcterms:modified>
  <cp:revision>17</cp:revision>
  <dc:subject/>
  <dc:title>CLASS  ASCOMYCETEAE (SAC FUNGI)</dc:title>
</cp:coreProperties>
</file>