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06A-D993-4A10-962E-4377F250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B5C-76AD-4DCA-A907-865DCE41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BEC-71F8-4F0B-A5B9-384BE630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B04-B890-4253-AD9B-CCF63D31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355-DB69-434A-90FC-509FDC24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7DA-2F34-4201-B604-E16CD360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79D-4620-42A1-8B59-9417566F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3FA-E708-46EB-89B7-96BFB246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641-34EB-4F0E-9121-2879C954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164-07B3-4435-A548-F33E929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018-2FA9-464B-8FC5-770E2BB6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E51-CC07-4565-98E2-ED36C7CB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53341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  <a:ea typeface="Times New Roman"/>
              </a:rPr>
              <a:t>Nervous System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entral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nervous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CN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composed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. spinal c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09_21"/>
          <p:cNvPicPr/>
          <p:nvPr/>
        </p:nvPicPr>
        <p:blipFill>
          <a:blip r:embed="rId1"/>
          <a:srcRect l="0" t="2736" r="0" b="0"/>
          <a:stretch/>
        </p:blipFill>
        <p:spPr>
          <a:xfrm>
            <a:off x="6829560" y="304920"/>
            <a:ext cx="223812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04920" y="193680"/>
            <a:ext cx="8153280" cy="66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바탕"/>
              </a:rPr>
              <a:t>Neu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are made up of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cell bod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,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axons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receiv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Ax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send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axons a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enclosed by sheath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of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mye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produc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by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Schwann cell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Narrow gaps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myelin shea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betwe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Schwann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are called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nodes of Ranvi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1"/>
          <p:cNvGrpSpPr/>
          <p:nvPr/>
        </p:nvGrpSpPr>
        <p:grpSpPr>
          <a:xfrm>
            <a:off x="4191120" y="1523880"/>
            <a:ext cx="4114800" cy="3454560"/>
            <a:chOff x="4191120" y="1523880"/>
            <a:chExt cx="4114800" cy="3454560"/>
          </a:xfrm>
        </p:grpSpPr>
        <p:pic>
          <p:nvPicPr>
            <p:cNvPr id="78" name="Picture 12" descr="09_04"/>
            <p:cNvPicPr/>
            <p:nvPr/>
          </p:nvPicPr>
          <p:blipFill>
            <a:blip r:embed="rId1"/>
            <a:srcRect l="0" t="2752" r="0" b="0"/>
            <a:stretch/>
          </p:blipFill>
          <p:spPr>
            <a:xfrm>
              <a:off x="4191120" y="1523880"/>
              <a:ext cx="4114800" cy="34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13"/>
            <p:cNvSpPr/>
            <p:nvPr/>
          </p:nvSpPr>
          <p:spPr>
            <a:xfrm>
              <a:off x="7240320" y="4270680"/>
              <a:ext cx="1012680" cy="68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Classification of Neu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(1) Mult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Many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바탕"/>
              </a:rPr>
              <a:t> processes arising from cell bod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Brain or spinal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  <a:ea typeface="바탕"/>
              </a:rPr>
              <a:t>(2)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B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바탕"/>
              </a:rPr>
              <a:t> processes (1 from each end of cell bo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Ear, eyes, n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Arial"/>
                <a:ea typeface="바탕"/>
              </a:rPr>
              <a:t>(3) </a:t>
            </a:r>
            <a:r>
              <a:rPr b="1" lang="en-US" sz="24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Un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Singl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바탕"/>
              </a:rPr>
              <a:t> process extends from cell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Outsid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바탕"/>
              </a:rPr>
              <a:t> of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brain &amp; spinal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09_06"/>
          <p:cNvPicPr/>
          <p:nvPr/>
        </p:nvPicPr>
        <p:blipFill>
          <a:blip r:embed="rId1"/>
          <a:stretch/>
        </p:blipFill>
        <p:spPr>
          <a:xfrm>
            <a:off x="4402080" y="1523880"/>
            <a:ext cx="474192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685440"/>
            <a:ext cx="4724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Sensory Neur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a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) have specializ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recep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ends that sens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 stimu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nd then car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impul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fro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periph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body parts to brain or spinal c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Can be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unipolar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 or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bipola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572000" cy="4948200"/>
          </a:xfrm>
          <a:prstGeom prst="rect">
            <a:avLst/>
          </a:prstGeom>
          <a:ln w="0">
            <a:noFill/>
          </a:ln>
        </p:spPr>
      </p:pic>
      <p:sp>
        <p:nvSpPr>
          <p:cNvPr id="85" name="Content Placeholder 2"/>
          <p:cNvSpPr/>
          <p:nvPr/>
        </p:nvSpPr>
        <p:spPr>
          <a:xfrm>
            <a:off x="1523880" y="0"/>
            <a:ext cx="4343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  <a:ea typeface="바탕"/>
              </a:rPr>
              <a:t>Classifying by Function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304812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Interneuron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lie entirely within the brain or spinal cord; direct incoming sensory impulses to appropriate parts for processing and interpre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바탕"/>
              </a:rPr>
              <a:t>Motor Neur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e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) car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impul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out of the brain or spinal cord t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effe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(muscles, glands)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Ner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cable-like bundl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3049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result for nerve structure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09_33"/>
          <p:cNvPicPr/>
          <p:nvPr/>
        </p:nvPicPr>
        <p:blipFill>
          <a:blip r:embed="rId1"/>
          <a:srcRect l="0" t="6093" r="0" b="10059"/>
          <a:stretch/>
        </p:blipFill>
        <p:spPr>
          <a:xfrm>
            <a:off x="6035760" y="1600200"/>
            <a:ext cx="3108240" cy="4572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304920" y="152280"/>
            <a:ext cx="685800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바탕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P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바탕"/>
              </a:rPr>
              <a:t>eripheral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바탕"/>
              </a:rPr>
              <a:t> nervous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 (PN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is made up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Periphe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 nerves that connect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C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 to the rest of the body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12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바탕"/>
              </a:rPr>
              <a:t> pairs of cranial ner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31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바탕"/>
              </a:rPr>
              <a:t> pairs of spinal ner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685800" y="-457200"/>
            <a:ext cx="58672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바탕"/>
              </a:rPr>
              <a:t>Peripheral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152280" y="114264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PNS can be subdivided into 2 divi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바탕"/>
              </a:rPr>
              <a:t>(1) 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Autono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바탕"/>
              </a:rPr>
              <a:t>(2)  </a:t>
            </a:r>
            <a:r>
              <a:rPr b="1" lang="en-US" sz="32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Somatic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바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바탕"/>
              </a:rPr>
              <a:t>(1)  </a:t>
            </a: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Auton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Cranial &amp; spinal nerves connect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C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to heart, stomach, intestines, g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Control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바탕"/>
              </a:rPr>
              <a:t>unconsci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419720" y="457200"/>
            <a:ext cx="4524120" cy="62294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바탕"/>
              </a:rPr>
              <a:t>Autonom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division of the nervous system can be subdivided into 2 div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(1) 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Arial"/>
                <a:ea typeface="바탕"/>
              </a:rPr>
              <a:t>Para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Decreases heart rate, bronchiole dilation, blood glucose, blood to skeletal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Increases digestion, pupil size, urinary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rest and dige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바탕"/>
              </a:rPr>
              <a:t>(2)  </a:t>
            </a:r>
            <a:r>
              <a:rPr b="1" lang="en-US" sz="3200" spc="-1" strike="noStrike" u="sng">
                <a:solidFill>
                  <a:srgbClr val="00b050"/>
                </a:solidFill>
                <a:uFillTx/>
                <a:latin typeface="Arial"/>
                <a:ea typeface="바탕"/>
              </a:rPr>
              <a:t>Sympath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Decreases digestion, pupil size, urinary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Increases heart rate, bronchiole dilation, blood glucose, blood to skeletal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바탕"/>
              </a:rPr>
              <a:t>fight or fligh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바탕"/>
              </a:rPr>
              <a:t>Peripheral Nervous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9144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바탕"/>
              </a:rPr>
              <a:t>(2)  </a:t>
            </a:r>
            <a:r>
              <a:rPr b="1" lang="en-US" sz="2400" spc="-1" strike="noStrike" u="sng">
                <a:solidFill>
                  <a:srgbClr val="008000"/>
                </a:solidFill>
                <a:uFillTx/>
                <a:latin typeface="Arial"/>
                <a:ea typeface="바탕"/>
              </a:rPr>
              <a:t>Somatic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바탕"/>
              </a:rPr>
              <a:t>Cranial &amp; spinal nerves connecting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바탕"/>
              </a:rPr>
              <a:t>CNS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바탕"/>
              </a:rPr>
              <a:t> to skin &amp;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  <a:ea typeface="바탕"/>
              </a:rPr>
              <a:t>skeletal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바탕"/>
              </a:rPr>
              <a:t>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0" t="8521" r="0" b="0"/>
          <a:stretch/>
        </p:blipFill>
        <p:spPr>
          <a:xfrm>
            <a:off x="407880" y="1841400"/>
            <a:ext cx="7974000" cy="461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04920" y="2579760"/>
            <a:ext cx="8610480" cy="427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228600" y="0"/>
            <a:ext cx="8153280" cy="251784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바탕"/>
              </a:rPr>
              <a:t>Organization of Nervou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04812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바탕"/>
              </a:rPr>
              <a:t>Nervou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52480" y="2590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바탕"/>
              </a:rPr>
              <a:t>Central Nervous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Straight Arrow Connector 6"/>
          <p:cNvCxnSpPr/>
          <p:nvPr/>
        </p:nvCxnSpPr>
        <p:spPr>
          <a:xfrm flipH="1">
            <a:off x="3351960" y="220968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Box 7"/>
          <p:cNvSpPr/>
          <p:nvPr/>
        </p:nvSpPr>
        <p:spPr>
          <a:xfrm>
            <a:off x="5181480" y="2666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바탕"/>
              </a:rPr>
              <a:t>Peripheral Nervous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9"/>
          <p:cNvCxnSpPr/>
          <p:nvPr/>
        </p:nvCxnSpPr>
        <p:spPr>
          <a:xfrm>
            <a:off x="4800600" y="220968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TextBox 11"/>
          <p:cNvSpPr/>
          <p:nvPr/>
        </p:nvSpPr>
        <p:spPr>
          <a:xfrm>
            <a:off x="1676520" y="3200400"/>
            <a:ext cx="266688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바탕"/>
                <a:ea typeface="바탕"/>
              </a:rPr>
              <a:t>Brain &amp; spinal c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4038480" y="3962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바탕"/>
              </a:rPr>
              <a:t>Autonomic N.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14"/>
          <p:cNvCxnSpPr/>
          <p:nvPr/>
        </p:nvCxnSpPr>
        <p:spPr>
          <a:xfrm flipH="1">
            <a:off x="5180760" y="3200400"/>
            <a:ext cx="686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TextBox 15"/>
          <p:cNvSpPr/>
          <p:nvPr/>
        </p:nvSpPr>
        <p:spPr>
          <a:xfrm>
            <a:off x="6705720" y="3962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575d1"/>
                </a:solidFill>
                <a:latin typeface="Arial"/>
                <a:ea typeface="바탕"/>
              </a:rPr>
              <a:t>Somatic N.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traight Arrow Connector 17"/>
          <p:cNvCxnSpPr/>
          <p:nvPr/>
        </p:nvCxnSpPr>
        <p:spPr>
          <a:xfrm>
            <a:off x="6705360" y="3276720"/>
            <a:ext cx="9910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رابط كسهم مستقيم 16"/>
          <p:cNvCxnSpPr/>
          <p:nvPr/>
        </p:nvCxnSpPr>
        <p:spPr>
          <a:xfrm flipH="1">
            <a:off x="2742840" y="4266720"/>
            <a:ext cx="22104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19"/>
          <p:cNvCxnSpPr/>
          <p:nvPr/>
        </p:nvCxnSpPr>
        <p:spPr>
          <a:xfrm>
            <a:off x="5638680" y="4343040"/>
            <a:ext cx="15249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مستطيل 16"/>
          <p:cNvSpPr/>
          <p:nvPr/>
        </p:nvSpPr>
        <p:spPr>
          <a:xfrm>
            <a:off x="1384200" y="563868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  <a:ea typeface="바탕"/>
              </a:rPr>
              <a:t>Parasympath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مستطيل 18"/>
          <p:cNvSpPr/>
          <p:nvPr/>
        </p:nvSpPr>
        <p:spPr>
          <a:xfrm>
            <a:off x="6562800" y="5562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  <a:ea typeface="바탕"/>
              </a:rPr>
              <a:t>sympathet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바탕"/>
              </a:rPr>
              <a:t>Parasympathetic vs. Sympathetic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0769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Nervous Tissue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is composed of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two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major cell types: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neuron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and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neuroglial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cells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09_01"/>
          <p:cNvPicPr/>
          <p:nvPr/>
        </p:nvPicPr>
        <p:blipFill>
          <a:blip r:embed="rId1"/>
          <a:srcRect l="17499" t="3171" r="10001" b="0"/>
          <a:stretch/>
        </p:blipFill>
        <p:spPr>
          <a:xfrm>
            <a:off x="3962520" y="1744560"/>
            <a:ext cx="4572000" cy="480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rcRect l="51368" t="9408" r="26848" b="0"/>
          <a:stretch/>
        </p:blipFill>
        <p:spPr>
          <a:xfrm>
            <a:off x="1143000" y="1817640"/>
            <a:ext cx="160020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مستطيل 4"/>
          <p:cNvSpPr/>
          <p:nvPr/>
        </p:nvSpPr>
        <p:spPr>
          <a:xfrm>
            <a:off x="304920" y="11095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Neuroglial cel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rovide physical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lati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yelin),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utri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for neuron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5:34:04Z</dcterms:created>
  <dc:creator>ITR</dc:creator>
  <dc:description/>
  <dc:language>en-US</dc:language>
  <cp:lastModifiedBy>المستخدم</cp:lastModifiedBy>
  <dcterms:modified xsi:type="dcterms:W3CDTF">2017-12-06T05:49:48Z</dcterms:modified>
  <cp:revision>129</cp:revision>
  <dc:subject/>
  <dc:title>PowerPoint Presentation</dc:title>
</cp:coreProperties>
</file>