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B677-21B4-4503-8E51-A7FDD1C40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D885-23B8-4954-90FC-82906CB9A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04D2-BEEB-43D7-83E0-DD5222CD7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90D2-0A55-4C96-802E-31931AC6B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B454-CAAD-4A79-BEB0-453FCBA75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7928-802D-4F36-9EB5-1F13F1DE3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FEBE-F79B-4360-8EF3-A7DFF32AA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83A0-BCB2-4600-A7FF-3D97EE9A4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2BB7-497C-44E8-B394-CC8A47707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4798-0530-4CBC-8F31-D9E1A609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7065-3473-4972-9EA9-68A715B76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8E91-0BA7-4296-9DED-E0BE87B4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5334120" cy="21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"/>
                <a:ea typeface="Times New Roman"/>
              </a:rPr>
              <a:t>Nervous System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25909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A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 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central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 nervous syst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(CN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s composed of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B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2. spinal co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" descr="09_21"/>
          <p:cNvPicPr/>
          <p:nvPr/>
        </p:nvPicPr>
        <p:blipFill>
          <a:blip r:embed="rId1"/>
          <a:srcRect l="0" t="2736" r="0" b="0"/>
          <a:stretch/>
        </p:blipFill>
        <p:spPr>
          <a:xfrm>
            <a:off x="6829560" y="304920"/>
            <a:ext cx="2238120" cy="655308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304920" y="193680"/>
            <a:ext cx="8153280" cy="66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바탕"/>
              </a:rPr>
              <a:t>Neur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바탕"/>
              </a:rPr>
              <a:t> are made up of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바탕"/>
              </a:rPr>
              <a:t>cell body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바탕"/>
              </a:rPr>
              <a:t>,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바탕"/>
              </a:rPr>
              <a:t>dendri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바탕"/>
              </a:rPr>
              <a:t>, an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바탕"/>
              </a:rPr>
              <a:t>axons.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바탕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  <a:ea typeface="바탕"/>
              </a:rPr>
              <a:t>Dendri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바탕"/>
              </a:rPr>
              <a:t> receive informa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  <a:ea typeface="바탕"/>
              </a:rPr>
              <a:t>Ax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바탕"/>
              </a:rPr>
              <a:t> send informa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바탕"/>
              </a:rPr>
              <a:t>Lar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바탕"/>
              </a:rPr>
              <a:t> axons ar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바탕"/>
              </a:rPr>
              <a:t>enclosed by sheath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바탕"/>
              </a:rPr>
              <a:t>of 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  <a:ea typeface="바탕"/>
              </a:rPr>
              <a:t>myel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바탕"/>
              </a:rPr>
              <a:t> produced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바탕"/>
              </a:rPr>
              <a:t>by 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  <a:ea typeface="바탕"/>
              </a:rPr>
              <a:t>Schwann cells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바탕"/>
              </a:rPr>
              <a:t>.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바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바탕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바탕"/>
              </a:rPr>
              <a:t>Narrow gaps in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바탕"/>
              </a:rPr>
              <a:t>myelin shea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바탕"/>
              </a:rPr>
              <a:t>betwee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바탕"/>
              </a:rPr>
              <a:t>Schwann cel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바탕"/>
              </a:rPr>
              <a:t> are called 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  <a:ea typeface="바탕"/>
              </a:rPr>
              <a:t>nodes of Ranvier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바탕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11"/>
          <p:cNvGrpSpPr/>
          <p:nvPr/>
        </p:nvGrpSpPr>
        <p:grpSpPr>
          <a:xfrm>
            <a:off x="4191120" y="1523880"/>
            <a:ext cx="4114800" cy="3454560"/>
            <a:chOff x="4191120" y="1523880"/>
            <a:chExt cx="4114800" cy="3454560"/>
          </a:xfrm>
        </p:grpSpPr>
        <p:pic>
          <p:nvPicPr>
            <p:cNvPr id="78" name="Picture 12" descr="09_04"/>
            <p:cNvPicPr/>
            <p:nvPr/>
          </p:nvPicPr>
          <p:blipFill>
            <a:blip r:embed="rId1"/>
            <a:srcRect l="0" t="2752" r="0" b="0"/>
            <a:stretch/>
          </p:blipFill>
          <p:spPr>
            <a:xfrm>
              <a:off x="4191120" y="1523880"/>
              <a:ext cx="4114800" cy="345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Rectangle 13"/>
            <p:cNvSpPr/>
            <p:nvPr/>
          </p:nvSpPr>
          <p:spPr>
            <a:xfrm>
              <a:off x="7240320" y="4270680"/>
              <a:ext cx="1012680" cy="68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sh dir="d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Classification of Neu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46483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2d050"/>
                </a:solidFill>
                <a:uFillTx/>
                <a:latin typeface="Arial"/>
                <a:ea typeface="바탕"/>
              </a:rPr>
              <a:t>(1) Multipo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  <a:ea typeface="바탕"/>
              </a:rPr>
              <a:t>Many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바탕"/>
              </a:rPr>
              <a:t> processes arising from cell bod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  <a:ea typeface="바탕"/>
              </a:rPr>
              <a:t>Brain or spinal c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Arial"/>
                <a:ea typeface="바탕"/>
              </a:rPr>
              <a:t>(2) </a:t>
            </a:r>
            <a:r>
              <a:rPr b="1" lang="en-US" sz="2400" spc="-1" strike="noStrike" u="sng">
                <a:solidFill>
                  <a:srgbClr val="92d050"/>
                </a:solidFill>
                <a:uFillTx/>
                <a:latin typeface="Arial"/>
                <a:ea typeface="바탕"/>
              </a:rPr>
              <a:t>Bipo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  <a:ea typeface="바탕"/>
              </a:rPr>
              <a:t>2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바탕"/>
              </a:rPr>
              <a:t> processes (1 from each end of cell bod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  <a:ea typeface="바탕"/>
              </a:rPr>
              <a:t>Ear, eyes, n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Arial"/>
                <a:ea typeface="바탕"/>
              </a:rPr>
              <a:t>(3) </a:t>
            </a:r>
            <a:r>
              <a:rPr b="1" lang="en-US" sz="2400" spc="-1" strike="noStrike" u="sng">
                <a:solidFill>
                  <a:srgbClr val="92d050"/>
                </a:solidFill>
                <a:uFillTx/>
                <a:latin typeface="Arial"/>
                <a:ea typeface="바탕"/>
              </a:rPr>
              <a:t>Unipo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  <a:ea typeface="바탕"/>
              </a:rPr>
              <a:t>Single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바탕"/>
              </a:rPr>
              <a:t> process extends from cell 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  <a:ea typeface="바탕"/>
              </a:rPr>
              <a:t>Outside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바탕"/>
              </a:rPr>
              <a:t> of 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  <a:ea typeface="바탕"/>
              </a:rPr>
              <a:t>brain &amp; spinal c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8" descr="09_06"/>
          <p:cNvPicPr/>
          <p:nvPr/>
        </p:nvPicPr>
        <p:blipFill>
          <a:blip r:embed="rId1"/>
          <a:stretch/>
        </p:blipFill>
        <p:spPr>
          <a:xfrm>
            <a:off x="4402080" y="1523880"/>
            <a:ext cx="4741920" cy="419112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-360" y="685440"/>
            <a:ext cx="47242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92d050"/>
                </a:solidFill>
                <a:uFillTx/>
                <a:latin typeface="Arial"/>
                <a:ea typeface="바탕"/>
              </a:rPr>
              <a:t>Sensory Neuron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바탕"/>
              </a:rPr>
              <a:t>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바탕"/>
              </a:rPr>
              <a:t>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바탕"/>
              </a:rPr>
              <a:t>affe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바탕"/>
              </a:rPr>
              <a:t>) have specialize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바탕"/>
              </a:rPr>
              <a:t>recepto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바탕"/>
              </a:rPr>
              <a:t>ends that sense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바탕"/>
              </a:rPr>
              <a:t> stimul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바탕"/>
              </a:rPr>
              <a:t>and then carry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바탕"/>
              </a:rPr>
              <a:t>impuls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바탕"/>
              </a:rPr>
              <a:t> from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바탕"/>
              </a:rPr>
              <a:t>peripher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바탕"/>
              </a:rPr>
              <a:t> body parts to brain or spinal cor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바탕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바탕"/>
              </a:rPr>
              <a:t>Can be 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  <a:ea typeface="바탕"/>
              </a:rPr>
              <a:t>unipolar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바탕"/>
              </a:rPr>
              <a:t> or 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  <a:ea typeface="바탕"/>
              </a:rPr>
              <a:t>bipolar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바탕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"/>
          <p:cNvPicPr/>
          <p:nvPr/>
        </p:nvPicPr>
        <p:blipFill>
          <a:blip r:embed="rId1"/>
          <a:stretch/>
        </p:blipFill>
        <p:spPr>
          <a:xfrm>
            <a:off x="4572000" y="1371600"/>
            <a:ext cx="4572000" cy="4948200"/>
          </a:xfrm>
          <a:prstGeom prst="rect">
            <a:avLst/>
          </a:prstGeom>
          <a:ln w="0">
            <a:noFill/>
          </a:ln>
        </p:spPr>
      </p:pic>
      <p:sp>
        <p:nvSpPr>
          <p:cNvPr id="85" name="Content Placeholder 2"/>
          <p:cNvSpPr/>
          <p:nvPr/>
        </p:nvSpPr>
        <p:spPr>
          <a:xfrm>
            <a:off x="1523880" y="0"/>
            <a:ext cx="4343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00000"/>
                </a:solidFill>
                <a:uFillTx/>
                <a:latin typeface="Arial"/>
                <a:ea typeface="바탕"/>
              </a:rPr>
              <a:t>Classifying by Function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0" y="3048120"/>
            <a:ext cx="4724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92d050"/>
                </a:solidFill>
                <a:uFillTx/>
                <a:latin typeface="Arial"/>
                <a:ea typeface="바탕"/>
              </a:rPr>
              <a:t>Interneurons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바탕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바탕"/>
              </a:rPr>
              <a:t>lie entirely within the brain or spinal cord; direct incoming sensory impulses to appropriate parts for processing and interpreting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바탕"/>
              </a:rPr>
              <a:t>	</a:t>
            </a:r>
            <a:r>
              <a:rPr b="1" lang="en-US" sz="2000" spc="-1" strike="noStrike" u="sng">
                <a:solidFill>
                  <a:srgbClr val="92d050"/>
                </a:solidFill>
                <a:uFillTx/>
                <a:latin typeface="Arial"/>
                <a:ea typeface="바탕"/>
              </a:rPr>
              <a:t>Motor Neuron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바탕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바탕"/>
              </a:rPr>
              <a:t>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바탕"/>
              </a:rPr>
              <a:t>effe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바탕"/>
              </a:rPr>
              <a:t>) carry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바탕"/>
              </a:rPr>
              <a:t>impuls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바탕"/>
              </a:rPr>
              <a:t> out of the brain or spinal cord to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바탕"/>
              </a:rPr>
              <a:t>effecto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바탕"/>
              </a:rPr>
              <a:t> (muscles, glands)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바탕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d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Nerv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are cable-like bundles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x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2"/>
          <p:cNvSpPr/>
          <p:nvPr/>
        </p:nvSpPr>
        <p:spPr>
          <a:xfrm>
            <a:off x="30492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Image result for nerve structure"/>
          <p:cNvPicPr/>
          <p:nvPr/>
        </p:nvPicPr>
        <p:blipFill>
          <a:blip r:embed="rId1"/>
          <a:stretch/>
        </p:blipFill>
        <p:spPr>
          <a:xfrm>
            <a:off x="457200" y="609480"/>
            <a:ext cx="8153280" cy="617220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09_33"/>
          <p:cNvPicPr/>
          <p:nvPr/>
        </p:nvPicPr>
        <p:blipFill>
          <a:blip r:embed="rId1"/>
          <a:srcRect l="0" t="6093" r="0" b="10059"/>
          <a:stretch/>
        </p:blipFill>
        <p:spPr>
          <a:xfrm>
            <a:off x="6035760" y="1600200"/>
            <a:ext cx="3108240" cy="4572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304920" y="152280"/>
            <a:ext cx="6858000" cy="50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바탕"/>
              </a:rPr>
              <a:t>B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바탕"/>
              </a:rPr>
              <a:t>P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  <a:ea typeface="바탕"/>
              </a:rPr>
              <a:t>eripheral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바탕"/>
              </a:rPr>
              <a:t> nervous syst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바탕"/>
              </a:rPr>
              <a:t> (PNS)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바탕"/>
              </a:rPr>
              <a:t>is made up of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바탕"/>
              </a:rPr>
              <a:t>Peripher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바탕"/>
              </a:rPr>
              <a:t> nerves that connect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바탕"/>
              </a:rPr>
              <a:t>C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바탕"/>
              </a:rPr>
              <a:t> to the rest of the body.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8000"/>
                </a:solidFill>
                <a:uFillTx/>
                <a:latin typeface="Arial"/>
                <a:ea typeface="바탕"/>
              </a:rPr>
              <a:t>12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  <a:ea typeface="바탕"/>
              </a:rPr>
              <a:t> pairs of cranial nerv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8000"/>
                </a:solidFill>
                <a:uFillTx/>
                <a:latin typeface="Arial"/>
                <a:ea typeface="바탕"/>
              </a:rPr>
              <a:t>31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  <a:ea typeface="바탕"/>
              </a:rPr>
              <a:t> pairs of spinal nerv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685800" y="-457200"/>
            <a:ext cx="586728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바탕"/>
              </a:rPr>
              <a:t>Peripheral Nervous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-152280" y="1142640"/>
            <a:ext cx="4572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바탕"/>
              </a:rPr>
              <a:t>PNS can be subdivided into 2 divis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  <a:ea typeface="바탕"/>
              </a:rPr>
              <a:t>(1)  </a:t>
            </a:r>
            <a:r>
              <a:rPr b="1" lang="en-US" sz="3200" spc="-1" strike="noStrike" u="sng">
                <a:solidFill>
                  <a:srgbClr val="008000"/>
                </a:solidFill>
                <a:uFillTx/>
                <a:latin typeface="Arial"/>
                <a:ea typeface="바탕"/>
              </a:rPr>
              <a:t>Autono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  <a:ea typeface="바탕"/>
              </a:rPr>
              <a:t>(2)  </a:t>
            </a:r>
            <a:r>
              <a:rPr b="1" lang="en-US" sz="3200" spc="-1" strike="noStrike" u="sng">
                <a:solidFill>
                  <a:srgbClr val="008000"/>
                </a:solidFill>
                <a:uFillTx/>
                <a:latin typeface="Arial"/>
                <a:ea typeface="바탕"/>
              </a:rPr>
              <a:t>Somatic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  <a:ea typeface="바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  <a:ea typeface="바탕"/>
              </a:rPr>
              <a:t>(1)  </a:t>
            </a:r>
            <a:r>
              <a:rPr b="1" lang="en-US" sz="2000" spc="-1" strike="noStrike" u="sng">
                <a:solidFill>
                  <a:srgbClr val="008000"/>
                </a:solidFill>
                <a:uFillTx/>
                <a:latin typeface="Arial"/>
                <a:ea typeface="바탕"/>
              </a:rPr>
              <a:t>Autono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바탕"/>
              </a:rPr>
              <a:t>Cranial &amp; spinal nerves connecting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바탕"/>
              </a:rPr>
              <a:t>C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바탕"/>
              </a:rPr>
              <a:t> to heart, stomach, intestines, gl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바탕"/>
              </a:rPr>
              <a:t>Control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바탕"/>
              </a:rPr>
              <a:t>unconscio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바탕"/>
              </a:rPr>
              <a:t>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4419720" y="457200"/>
            <a:ext cx="4524120" cy="622944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바탕"/>
              </a:rPr>
              <a:t>Autonomi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바탕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바탕"/>
              </a:rPr>
              <a:t>division of the nervous system can be subdivided into 2 divis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바탕"/>
              </a:rPr>
              <a:t>(1)  </a:t>
            </a:r>
            <a:r>
              <a:rPr b="1" lang="en-US" sz="3200" spc="-1" strike="noStrike" u="sng">
                <a:solidFill>
                  <a:srgbClr val="00b050"/>
                </a:solidFill>
                <a:uFillTx/>
                <a:latin typeface="Arial"/>
                <a:ea typeface="바탕"/>
              </a:rPr>
              <a:t>Parasympathe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바탕"/>
              </a:rPr>
              <a:t>Decreases heart rate, bronchiole dilation, blood glucose, blood to skeletal mus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바탕"/>
              </a:rPr>
              <a:t>Increases digestion, pupil size, urinary 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바탕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바탕"/>
              </a:rPr>
              <a:t>rest and diges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바탕"/>
              </a:rPr>
              <a:t>(2)  </a:t>
            </a:r>
            <a:r>
              <a:rPr b="1" lang="en-US" sz="3200" spc="-1" strike="noStrike" u="sng">
                <a:solidFill>
                  <a:srgbClr val="00b050"/>
                </a:solidFill>
                <a:uFillTx/>
                <a:latin typeface="Arial"/>
                <a:ea typeface="바탕"/>
              </a:rPr>
              <a:t>Sympathe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바탕"/>
              </a:rPr>
              <a:t>Decreases digestion, pupil size, urinary 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바탕"/>
              </a:rPr>
              <a:t>Increases heart rate, bronchiole dilation, blood glucose, blood to skeletal mus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바탕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바탕"/>
              </a:rPr>
              <a:t>fight or fligh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d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Arial"/>
                <a:ea typeface="바탕"/>
              </a:rPr>
              <a:t>Peripheral Nervous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33520" y="9144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  <a:ea typeface="바탕"/>
              </a:rPr>
              <a:t>(2)  </a:t>
            </a:r>
            <a:r>
              <a:rPr b="1" lang="en-US" sz="2400" spc="-1" strike="noStrike" u="sng">
                <a:solidFill>
                  <a:srgbClr val="008000"/>
                </a:solidFill>
                <a:uFillTx/>
                <a:latin typeface="Arial"/>
                <a:ea typeface="바탕"/>
              </a:rPr>
              <a:t>Somatic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  <a:ea typeface="바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  <a:ea typeface="바탕"/>
              </a:rPr>
              <a:t>Cranial &amp; spinal nerves connecting </a:t>
            </a:r>
            <a:r>
              <a:rPr b="0" lang="en-US" sz="2000" spc="-1" strike="noStrike" u="sng">
                <a:solidFill>
                  <a:srgbClr val="c00000"/>
                </a:solidFill>
                <a:uFillTx/>
                <a:latin typeface="Arial"/>
                <a:ea typeface="바탕"/>
              </a:rPr>
              <a:t>CNS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  <a:ea typeface="바탕"/>
              </a:rPr>
              <a:t> to skin &amp; </a:t>
            </a:r>
            <a:r>
              <a:rPr b="0" lang="en-US" sz="2000" spc="-1" strike="noStrike" u="sng">
                <a:solidFill>
                  <a:srgbClr val="c00000"/>
                </a:solidFill>
                <a:uFillTx/>
                <a:latin typeface="Arial"/>
                <a:ea typeface="바탕"/>
              </a:rPr>
              <a:t>skeletal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  <a:ea typeface="바탕"/>
              </a:rPr>
              <a:t>mus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rcRect l="0" t="8521" r="0" b="0"/>
          <a:stretch/>
        </p:blipFill>
        <p:spPr>
          <a:xfrm>
            <a:off x="407880" y="1841400"/>
            <a:ext cx="7974000" cy="461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304920" y="2579760"/>
            <a:ext cx="8610480" cy="4278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"/>
          <p:cNvPicPr/>
          <p:nvPr/>
        </p:nvPicPr>
        <p:blipFill>
          <a:blip r:embed="rId2"/>
          <a:stretch/>
        </p:blipFill>
        <p:spPr>
          <a:xfrm>
            <a:off x="228600" y="0"/>
            <a:ext cx="8153280" cy="251784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바탕"/>
              </a:rPr>
              <a:t>Organization of Nervous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3048120" y="18288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바탕"/>
              </a:rPr>
              <a:t>Nervous Syst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1752480" y="25909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바탕"/>
              </a:rPr>
              <a:t>Central Nervous Syst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Straight Arrow Connector 6"/>
          <p:cNvCxnSpPr/>
          <p:nvPr/>
        </p:nvCxnSpPr>
        <p:spPr>
          <a:xfrm flipH="1">
            <a:off x="3351960" y="2209680"/>
            <a:ext cx="76284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" name="TextBox 7"/>
          <p:cNvSpPr/>
          <p:nvPr/>
        </p:nvSpPr>
        <p:spPr>
          <a:xfrm>
            <a:off x="5181480" y="26668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바탕"/>
              </a:rPr>
              <a:t>Peripheral Nervous Syst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Straight Arrow Connector 9"/>
          <p:cNvCxnSpPr/>
          <p:nvPr/>
        </p:nvCxnSpPr>
        <p:spPr>
          <a:xfrm>
            <a:off x="4800600" y="2209680"/>
            <a:ext cx="9151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" name="TextBox 11"/>
          <p:cNvSpPr/>
          <p:nvPr/>
        </p:nvSpPr>
        <p:spPr>
          <a:xfrm>
            <a:off x="1676520" y="3200400"/>
            <a:ext cx="26668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바탕"/>
                <a:ea typeface="바탕"/>
              </a:rPr>
              <a:t>Brain &amp; spinal cor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2"/>
          <p:cNvSpPr/>
          <p:nvPr/>
        </p:nvSpPr>
        <p:spPr>
          <a:xfrm>
            <a:off x="4038480" y="396252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575d1"/>
                </a:solidFill>
                <a:latin typeface="Arial"/>
                <a:ea typeface="바탕"/>
              </a:rPr>
              <a:t>Autonomic N.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Straight Arrow Connector 14"/>
          <p:cNvCxnSpPr/>
          <p:nvPr/>
        </p:nvCxnSpPr>
        <p:spPr>
          <a:xfrm flipH="1">
            <a:off x="5180760" y="3200400"/>
            <a:ext cx="68652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4" name="TextBox 15"/>
          <p:cNvSpPr/>
          <p:nvPr/>
        </p:nvSpPr>
        <p:spPr>
          <a:xfrm>
            <a:off x="6705720" y="39625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575d1"/>
                </a:solidFill>
                <a:latin typeface="Arial"/>
                <a:ea typeface="바탕"/>
              </a:rPr>
              <a:t>Somatic N.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Straight Arrow Connector 17"/>
          <p:cNvCxnSpPr/>
          <p:nvPr/>
        </p:nvCxnSpPr>
        <p:spPr>
          <a:xfrm>
            <a:off x="6705360" y="3276720"/>
            <a:ext cx="991080" cy="76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6" name="رابط كسهم مستقيم 16"/>
          <p:cNvCxnSpPr/>
          <p:nvPr/>
        </p:nvCxnSpPr>
        <p:spPr>
          <a:xfrm flipH="1">
            <a:off x="2742840" y="4266720"/>
            <a:ext cx="2210400" cy="122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" name="رابط كسهم مستقيم 19"/>
          <p:cNvCxnSpPr/>
          <p:nvPr/>
        </p:nvCxnSpPr>
        <p:spPr>
          <a:xfrm>
            <a:off x="5638680" y="4343040"/>
            <a:ext cx="152496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8" name="مستطيل 16"/>
          <p:cNvSpPr/>
          <p:nvPr/>
        </p:nvSpPr>
        <p:spPr>
          <a:xfrm>
            <a:off x="1384200" y="5638680"/>
            <a:ext cx="20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b050"/>
                </a:solidFill>
                <a:uFillTx/>
                <a:latin typeface="Arial"/>
                <a:ea typeface="바탕"/>
              </a:rPr>
              <a:t>Parasympatheti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مستطيل 18"/>
          <p:cNvSpPr/>
          <p:nvPr/>
        </p:nvSpPr>
        <p:spPr>
          <a:xfrm>
            <a:off x="6562800" y="556272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b050"/>
                </a:solidFill>
                <a:uFillTx/>
                <a:latin typeface="Arial"/>
                <a:ea typeface="바탕"/>
              </a:rPr>
              <a:t>sympatheti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d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바탕"/>
              </a:rPr>
              <a:t>Parasympathetic vs. Sympathetic Div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8076960" cy="571500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Nervous Tissue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is composed of </a:t>
            </a:r>
            <a:r>
              <a:rPr b="0" lang="en-US" sz="2400" spc="-1" strike="noStrike" u="sng">
                <a:solidFill>
                  <a:srgbClr val="c00000"/>
                </a:solidFill>
                <a:uFillTx/>
                <a:latin typeface="Arial"/>
                <a:ea typeface="Times New Roman"/>
              </a:rPr>
              <a:t>two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 major cell types: </a:t>
            </a:r>
            <a:r>
              <a:rPr b="0" lang="en-US" sz="2800" spc="-1" strike="noStrike" u="sng">
                <a:solidFill>
                  <a:srgbClr val="c00000"/>
                </a:solidFill>
                <a:uFillTx/>
                <a:latin typeface="Arial"/>
                <a:ea typeface="Times New Roman"/>
              </a:rPr>
              <a:t>neurons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 and </a:t>
            </a:r>
            <a:r>
              <a:rPr b="0" lang="en-US" sz="2800" spc="-1" strike="noStrike" u="sng">
                <a:solidFill>
                  <a:srgbClr val="c00000"/>
                </a:solidFill>
                <a:uFillTx/>
                <a:latin typeface="Arial"/>
                <a:ea typeface="Times New Roman"/>
              </a:rPr>
              <a:t>neuroglial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 u="sng">
                <a:solidFill>
                  <a:srgbClr val="c00000"/>
                </a:solidFill>
                <a:uFillTx/>
                <a:latin typeface="Arial"/>
                <a:ea typeface="Times New Roman"/>
              </a:rPr>
              <a:t>cells</a:t>
            </a:r>
            <a:r>
              <a:rPr b="0" lang="en-US" sz="2400" spc="-1" strike="noStrike" u="sng">
                <a:solidFill>
                  <a:srgbClr val="c00000"/>
                </a:solidFill>
                <a:uFillTx/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09_01"/>
          <p:cNvPicPr/>
          <p:nvPr/>
        </p:nvPicPr>
        <p:blipFill>
          <a:blip r:embed="rId1"/>
          <a:srcRect l="17499" t="3171" r="10001" b="0"/>
          <a:stretch/>
        </p:blipFill>
        <p:spPr>
          <a:xfrm>
            <a:off x="3962520" y="1744560"/>
            <a:ext cx="4572000" cy="48085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"/>
          <p:cNvPicPr/>
          <p:nvPr/>
        </p:nvPicPr>
        <p:blipFill>
          <a:blip r:embed="rId2"/>
          <a:srcRect l="51368" t="9408" r="26848" b="0"/>
          <a:stretch/>
        </p:blipFill>
        <p:spPr>
          <a:xfrm>
            <a:off x="1143000" y="1817640"/>
            <a:ext cx="1600200" cy="5040360"/>
          </a:xfrm>
          <a:prstGeom prst="rect">
            <a:avLst/>
          </a:prstGeom>
          <a:ln w="0">
            <a:noFill/>
          </a:ln>
        </p:spPr>
      </p:pic>
      <p:sp>
        <p:nvSpPr>
          <p:cNvPr id="75" name="مستطيل 4"/>
          <p:cNvSpPr/>
          <p:nvPr/>
        </p:nvSpPr>
        <p:spPr>
          <a:xfrm>
            <a:off x="304920" y="110952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Times New Roman"/>
              </a:rPr>
              <a:t>Neuroglial cell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provide physical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suppor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insulation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myelin), and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nutrient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for neurons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4T15:34:04Z</dcterms:created>
  <dc:creator>ITR</dc:creator>
  <dc:description/>
  <dc:language>en-US</dc:language>
  <cp:lastModifiedBy>المستخدم</cp:lastModifiedBy>
  <dcterms:modified xsi:type="dcterms:W3CDTF">2017-12-06T05:49:48Z</dcterms:modified>
  <cp:revision>129</cp:revision>
  <dc:subject/>
  <dc:title>PowerPoint Presentation</dc:title>
</cp:coreProperties>
</file>