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9676-830F-4901-B35F-A248AD2BB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97F0-EFAB-4AA0-9968-B19965C49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FFAD-0E2F-47A9-9B48-1C510ED5C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8B07-CA9F-49E8-80A4-9AC67E89C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51543-1224-485D-BCB3-5021CA418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BF94D-1CDE-466C-8A11-109E6EE93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CB7B0-8302-4192-9BC2-766DB5700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57955-9848-4B37-96A0-316194DAD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51641-515D-4750-A185-6D8584A90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15C23-4633-40F6-A5AD-6D3289AF4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60841-7516-4222-8757-DB99B5BFA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9F46-3F95-4374-9A97-2A6D6D05E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E26D8-EF39-48B1-B2E5-71BFDB700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52A42-E04D-42C2-9620-C053CCF90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691A5-A3B8-468B-B6A8-5CB6C4189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22250-CF70-4179-A4DE-2CDC0ABE7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13DF6-E939-4485-B393-B13923535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9527E6-6C32-4107-B80D-BDEACA238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C98F81-92B3-4A5F-AB18-A0DF5CBB4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1DC81B-961B-4C9A-87B3-EDFF81EB5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BCA0EE-3CAC-4E75-BD74-5515C1192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7E72D1-FAF1-4669-AEB7-516265428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F8A3-B03C-4C61-B69C-D2E4E29B3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3EAE71-B2D6-4F33-ADFB-287098513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D12F66-3BB5-49E2-A85E-BEB1DD547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B63BD5-3586-4C6F-ACE5-F201FCA1D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13E2D5-07E3-402F-82B9-046DAE61E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1F1E63-2B83-4BD7-A9AF-547CFF85F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6A03AB-BEE3-4103-92A1-97A8034AB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3EADFA-2036-469A-B14D-4E77B89F8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CEE9C6-B498-49D4-9C21-C78125FEC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24A1FA-0511-4DEB-BEE9-840699C6D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F96F64-3D09-4C89-9DB6-FC07557EF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F636-A2D7-48FE-9635-3F43CE935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D6F3D1-E856-4A7C-A876-11D293144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7A4538-2CD6-4D18-9D8B-1BF8F750A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BB2E99-A202-4154-B9E7-A9E32E962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7A97F8-FBE8-4AD8-B64D-EE2C62173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B1AF8B-46DC-4439-87A0-70DC1ABE7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16BB2E-71A6-4792-B691-3E0ABA16B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AE0E49-5F60-4765-A6F5-B1139F0C8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019BFB-BC3C-4439-8E3D-B93A1C8BB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3A5B0F-93FC-417D-A9D0-4B8499390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0C30-00C2-4619-909F-F8F594C8E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902C-3BB8-4D76-B006-37AA50D25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83E9-78FC-4898-B3DC-42F49462A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5569-6C6D-4C25-9EFF-FA99D876C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BC21-8359-40FE-833C-B0E499BF9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95030-7FA0-45A7-887F-04815D3A641F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FC4A0-A608-4743-B10C-E6F6FEEDE889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F7888-43EA-41E6-990A-B7B52277A724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A37E8-3247-4725-A719-E2171AE2A2EB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3"/>
          <p:cNvSpPr/>
          <p:nvPr/>
        </p:nvSpPr>
        <p:spPr>
          <a:xfrm>
            <a:off x="1238400" y="2114640"/>
            <a:ext cx="6476760" cy="35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33"/>
                </a:solidFill>
                <a:latin typeface="Times New Roman"/>
              </a:rPr>
              <a:t>KINGDOM: ANIMAL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33"/>
                </a:solidFill>
                <a:latin typeface="Times New Roman"/>
              </a:rPr>
              <a:t>DIVISION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33"/>
                </a:solidFill>
                <a:latin typeface="Times New Roman"/>
              </a:rPr>
              <a:t>INVERTEBR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ial"/>
              </a:rPr>
              <a:t>اللافقريات 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(ليس لها عمود فِقَري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611360" y="580680"/>
            <a:ext cx="5603760" cy="5619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Lecture 16: Animal Classification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250920" y="1735200"/>
            <a:ext cx="86868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339933"/>
              </a:buClr>
              <a:buFont typeface="Time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llusca includes </a:t>
            </a:r>
            <a:r>
              <a:rPr b="1" lang="en-US" sz="2000" spc="-1" strike="noStrike">
                <a:solidFill>
                  <a:srgbClr val="f63f1b"/>
                </a:solidFill>
                <a:latin typeface="Times New Roman"/>
              </a:rPr>
              <a:t>snails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Arial"/>
              </a:rPr>
              <a:t>القواقع المائية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en-US" sz="2000" spc="-1" strike="noStrike">
                <a:solidFill>
                  <a:srgbClr val="f63f1b"/>
                </a:solidFill>
                <a:latin typeface="Times New Roman"/>
              </a:rPr>
              <a:t>slugs 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Arial"/>
              </a:rPr>
              <a:t>القواقع الأرضية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63f1b"/>
                </a:solidFill>
                <a:latin typeface="Times New Roman"/>
              </a:rPr>
              <a:t>octopuses 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Arial"/>
              </a:rPr>
              <a:t>الأخطبوط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nd </a:t>
            </a:r>
            <a:r>
              <a:rPr b="1" lang="en-US" sz="1800" spc="-1" strike="noStrike">
                <a:solidFill>
                  <a:srgbClr val="f63f1b"/>
                </a:solidFill>
                <a:latin typeface="Times New Roman"/>
                <a:ea typeface="Arial"/>
              </a:rPr>
              <a:t>squid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Arial"/>
              </a:rPr>
              <a:t>الحبا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339933"/>
              </a:buClr>
              <a:buFont typeface="Time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st mollusks are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mari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though some inhabit fresh water, and some snails and slugs live on la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339933"/>
              </a:buClr>
              <a:buFont typeface="Time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llusks are soft-bodied animals, but most are protected by a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hard shel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Arial"/>
              </a:rPr>
              <a:t>صدفة قوية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calcium carbon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339933"/>
              </a:buClr>
              <a:buFont typeface="Time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mollusks have a muscular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foo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or locomotion, a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visceral ma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Arial"/>
              </a:rPr>
              <a:t>جزء حشوي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most of the internal organs, and a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mantle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Arial"/>
              </a:rPr>
              <a:t>البرنس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339933"/>
              </a:buClr>
              <a:buFont typeface="Time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ost mollusks have 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separate sexe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with gonads located in the visceral mas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, and some are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hermaphrodite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Line 8"/>
          <p:cNvSpPr/>
          <p:nvPr/>
        </p:nvSpPr>
        <p:spPr>
          <a:xfrm>
            <a:off x="201600" y="119700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9"/>
          <p:cNvSpPr/>
          <p:nvPr/>
        </p:nvSpPr>
        <p:spPr>
          <a:xfrm>
            <a:off x="714240" y="635040"/>
            <a:ext cx="712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63f1b"/>
                </a:solidFill>
                <a:latin typeface="Times New Roman"/>
              </a:rPr>
              <a:t>Phylum:       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Mollusca</a:t>
            </a:r>
            <a:r>
              <a:rPr b="1" lang="en-US" sz="3200" spc="-1" strike="noStrike">
                <a:solidFill>
                  <a:srgbClr val="f63f1b"/>
                </a:solidFill>
                <a:latin typeface="Times New Roman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rial"/>
              </a:rPr>
              <a:t>شعبة</a:t>
            </a:r>
            <a:r>
              <a:rPr b="1" lang="ar-SA" sz="2000" spc="-1" strike="noStrike">
                <a:solidFill>
                  <a:srgbClr val="f63f1b"/>
                </a:solidFill>
                <a:latin typeface="Times New Roman"/>
                <a:ea typeface="Arial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Majalla UI"/>
              </a:rPr>
              <a:t>الرخوي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6" descr=""/>
          <p:cNvPicPr/>
          <p:nvPr/>
        </p:nvPicPr>
        <p:blipFill>
          <a:blip r:embed="rId1"/>
          <a:srcRect l="0" t="0" r="0" b="5069"/>
          <a:stretch/>
        </p:blipFill>
        <p:spPr>
          <a:xfrm>
            <a:off x="1547640" y="2717640"/>
            <a:ext cx="7490160" cy="4096080"/>
          </a:xfrm>
          <a:prstGeom prst="rect">
            <a:avLst/>
          </a:prstGeom>
          <a:ln w="0">
            <a:noFill/>
          </a:ln>
        </p:spPr>
      </p:pic>
      <p:sp>
        <p:nvSpPr>
          <p:cNvPr id="201" name="Line 8"/>
          <p:cNvSpPr/>
          <p:nvPr/>
        </p:nvSpPr>
        <p:spPr>
          <a:xfrm>
            <a:off x="201600" y="119700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9"/>
          <p:cNvSpPr/>
          <p:nvPr/>
        </p:nvSpPr>
        <p:spPr>
          <a:xfrm>
            <a:off x="1403280" y="293760"/>
            <a:ext cx="7272360" cy="9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63f1b"/>
                </a:solidFill>
                <a:latin typeface="Times New Roman"/>
              </a:rPr>
              <a:t>1- Class:       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Gastropoda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ial"/>
              </a:rPr>
              <a:t>البطنقدميات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e.g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nai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Arial"/>
              </a:rPr>
              <a:t>القوقع الحلزون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62240"/>
            <a:ext cx="8610480" cy="179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Most Gastropoda are </a:t>
            </a:r>
            <a:r>
              <a:rPr b="1" lang="en-US" sz="2200" spc="-1" strike="noStrike">
                <a:solidFill>
                  <a:srgbClr val="0000ff"/>
                </a:solidFill>
                <a:latin typeface="Constantia"/>
              </a:rPr>
              <a:t>marine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, but there are also many freshwater species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The anus and mantle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cavity are above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the head in adults. 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6" descr=""/>
          <p:cNvPicPr/>
          <p:nvPr/>
        </p:nvPicPr>
        <p:blipFill>
          <a:blip r:embed="rId1"/>
          <a:stretch/>
        </p:blipFill>
        <p:spPr>
          <a:xfrm>
            <a:off x="4143240" y="2286000"/>
            <a:ext cx="4965840" cy="3333600"/>
          </a:xfrm>
          <a:prstGeom prst="rect">
            <a:avLst/>
          </a:prstGeom>
          <a:ln w="0">
            <a:noFill/>
          </a:ln>
        </p:spPr>
      </p:pic>
      <p:sp>
        <p:nvSpPr>
          <p:cNvPr id="205" name="Line 8"/>
          <p:cNvSpPr/>
          <p:nvPr/>
        </p:nvSpPr>
        <p:spPr>
          <a:xfrm>
            <a:off x="201600" y="119700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108000" y="1426680"/>
            <a:ext cx="8299440" cy="446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83600" indent="-18360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Most gastropods are protected by a spiraled shell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صدفة حلزونية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474480" indent="-113040">
              <a:spcBef>
                <a:spcPts val="499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Other species have lost                                                                                 their shells entirely and                                                                                 may have chemical                                                                                     defenses against predator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474480" indent="-1130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183600" indent="-183600"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Many gastropods have distinct                                                                            heads with eyes at the tips of                                                                           tentacles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الملامس الرأسية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183600" indent="-18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183600" indent="-183600"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y move by their foot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183600" indent="-18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183600" indent="-183600"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Some species are predator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6" descr=""/>
          <p:cNvPicPr/>
          <p:nvPr/>
        </p:nvPicPr>
        <p:blipFill>
          <a:blip r:embed="rId1"/>
          <a:stretch/>
        </p:blipFill>
        <p:spPr>
          <a:xfrm>
            <a:off x="3249720" y="2809800"/>
            <a:ext cx="5859360" cy="393228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 txBox="1"/>
          <p:nvPr/>
        </p:nvSpPr>
        <p:spPr>
          <a:xfrm>
            <a:off x="107640" y="2492280"/>
            <a:ext cx="309564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The foot of a cephalopod (“head foot”) has been modified into the                                                                                         muscular siphon and parts of the tentacle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Most octopuses live on the seafloor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Cephalopods have an active, </a:t>
            </a:r>
            <a:r>
              <a:rPr b="1" lang="en-US" sz="1800" spc="-1" strike="noStrike">
                <a:solidFill>
                  <a:srgbClr val="f63f1b"/>
                </a:solidFill>
                <a:latin typeface="Constantia"/>
              </a:rPr>
              <a:t>predaceous 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cs typeface="Arial"/>
              </a:rPr>
              <a:t>مفترسات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lifestyle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They have a well-developed </a:t>
            </a:r>
            <a:r>
              <a:rPr b="1" lang="en-US" sz="1800" spc="-1" strike="noStrike">
                <a:solidFill>
                  <a:srgbClr val="f63f1b"/>
                </a:solidFill>
                <a:latin typeface="Constantia"/>
              </a:rPr>
              <a:t>nervous system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with a complex brain and well-developed sense organ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Line 8"/>
          <p:cNvSpPr/>
          <p:nvPr/>
        </p:nvSpPr>
        <p:spPr>
          <a:xfrm>
            <a:off x="201600" y="98100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1403280" y="109440"/>
            <a:ext cx="684216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63f1b"/>
                </a:solidFill>
                <a:latin typeface="Times New Roman"/>
              </a:rPr>
              <a:t>2- Class:    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Cephalopoda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ial"/>
              </a:rPr>
              <a:t>الرأسقدميات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Majalla U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e.g.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ctopus 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rial"/>
              </a:rPr>
              <a:t>الأخطبوط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10"/>
          <p:cNvSpPr/>
          <p:nvPr/>
        </p:nvSpPr>
        <p:spPr>
          <a:xfrm>
            <a:off x="250920" y="1123920"/>
            <a:ext cx="8713800" cy="138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buClr>
                <a:srgbClr val="3399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ephalopods use rapid movements toward their prey which they capture with several long tentac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3399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 mantle covers the visceral mass, but the shell is reduced and internal in squids 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rial"/>
              </a:rPr>
              <a:t>الحبار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issing in many octopu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9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8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ff"/>
                </a:solidFill>
                <a:latin typeface="Calibri"/>
              </a:rPr>
              <a:t>B)- Phylum:  Annelida </a:t>
            </a:r>
            <a:r>
              <a:rPr b="1" lang="ar-SA" sz="2500" spc="-1" strike="noStrike">
                <a:solidFill>
                  <a:srgbClr val="000000"/>
                </a:solidFill>
                <a:latin typeface="Calibri"/>
                <a:cs typeface="Arial"/>
              </a:rPr>
              <a:t>الحلقيات</a:t>
            </a:r>
            <a:br>
              <a:rPr sz="2500"/>
            </a:br>
            <a:r>
              <a:rPr b="1" lang="en-US" sz="25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Class: Oligochaeta</a:t>
            </a:r>
            <a:r>
              <a:rPr b="1" lang="en-US" sz="25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ar-SA" sz="1800" spc="-1" strike="noStrike">
                <a:solidFill>
                  <a:srgbClr val="000000"/>
                </a:solidFill>
                <a:latin typeface="Calibri"/>
                <a:cs typeface="Arial"/>
              </a:rPr>
              <a:t>قليلات الأشواك</a:t>
            </a:r>
            <a:br>
              <a:rPr sz="2500"/>
            </a:br>
            <a:r>
              <a:rPr b="1" lang="en-US" sz="2500" spc="-1" strike="noStrike">
                <a:solidFill>
                  <a:srgbClr val="0000ff"/>
                </a:solidFill>
                <a:latin typeface="Calibri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.g. earthworm </a:t>
            </a:r>
            <a:r>
              <a:rPr b="1" lang="ar-SA" sz="1600" spc="-1" strike="noStrike">
                <a:solidFill>
                  <a:srgbClr val="000000"/>
                </a:solidFill>
                <a:latin typeface="Calibri"/>
                <a:cs typeface="Arial"/>
              </a:rPr>
              <a:t>دودة الأرض</a:t>
            </a:r>
            <a:endParaRPr b="0" lang="en-US" sz="1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228600" y="1660320"/>
            <a:ext cx="8686800" cy="50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All annelids (“little rings”) have segmented bodie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Annelids live in the sea, most freshwater habitats, and damp soil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The coelom of the earthworm, a typical annelid, is partitioned by septa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Arial"/>
              </a:rPr>
              <a:t>مقسم بفواصل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, but the digestive tract, longitudinal blood vessels, and nerve cords penetrate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the septa and run the animal’s length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nstantia"/>
              </a:rPr>
              <a:t>Most annelids, including earthworms, burrow in sand and silt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4" name="Line 5"/>
          <p:cNvSpPr/>
          <p:nvPr/>
        </p:nvSpPr>
        <p:spPr>
          <a:xfrm>
            <a:off x="152280" y="134136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28600" y="672840"/>
            <a:ext cx="4557600" cy="7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8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e.g. Earthworm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04560" y="1515600"/>
            <a:ext cx="838188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 digestive system consists of a pharynx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مريء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 an esophagus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بلعوم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 crop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حوصلة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 gizzard </a:t>
            </a:r>
            <a:r>
              <a:rPr b="1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قانصة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 and intestine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أمعاء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 closed circulatory system carries blood with oxygen-carrying hemoglobin through dorsal and ventral vessels connected by segmental vessel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In each segment is a pair of excretory tubes, </a:t>
            </a:r>
            <a:r>
              <a:rPr b="1" lang="en-US" sz="2400" spc="-1" strike="noStrike">
                <a:solidFill>
                  <a:srgbClr val="f63f1b"/>
                </a:solidFill>
                <a:latin typeface="Constantia"/>
              </a:rPr>
              <a:t>metanephridia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كلية بدائية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at remove wastes from the blood and coelomic flui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Earthworms are </a:t>
            </a:r>
            <a:r>
              <a:rPr b="1" lang="en-US" sz="2400" spc="-1" strike="noStrike">
                <a:solidFill>
                  <a:srgbClr val="f63f1b"/>
                </a:solidFill>
                <a:latin typeface="Constantia"/>
              </a:rPr>
              <a:t>cross-fertilizing hermaphrodites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Some earthworms can also reproduce </a:t>
            </a:r>
            <a:r>
              <a:rPr b="1" lang="en-US" sz="2400" spc="-1" strike="noStrike">
                <a:solidFill>
                  <a:srgbClr val="f63f1b"/>
                </a:solidFill>
                <a:latin typeface="Constantia"/>
              </a:rPr>
              <a:t>asexually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by fragmentation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بالتقطيع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followed by regeneratio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Line 5"/>
          <p:cNvSpPr/>
          <p:nvPr/>
        </p:nvSpPr>
        <p:spPr>
          <a:xfrm>
            <a:off x="152280" y="134136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2603520" y="0"/>
            <a:ext cx="6361200" cy="685800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7"/>
          <p:cNvSpPr/>
          <p:nvPr/>
        </p:nvSpPr>
        <p:spPr>
          <a:xfrm>
            <a:off x="142920" y="132876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Earthw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10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8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Phylum Nematoda:</a:t>
            </a:r>
            <a:r>
              <a:rPr b="1" lang="en-US" sz="20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0000ff"/>
                </a:solidFill>
                <a:latin typeface="Calibri"/>
                <a:ea typeface="Arial"/>
              </a:rPr>
              <a:t> </a:t>
            </a:r>
            <a:r>
              <a:rPr b="1" lang="ar-SA" sz="1800" spc="-1" strike="noStrike">
                <a:solidFill>
                  <a:srgbClr val="000000"/>
                </a:solidFill>
                <a:latin typeface="Calibri"/>
                <a:cs typeface="Arial"/>
              </a:rPr>
              <a:t>شعبة النيماتودا (الديدان الخيطية)</a:t>
            </a:r>
            <a:br>
              <a:rPr sz="2000"/>
            </a:br>
            <a:r>
              <a:rPr b="1" lang="en-US" sz="2000" spc="-1" strike="noStrike">
                <a:solidFill>
                  <a:srgbClr val="0000ff"/>
                </a:solidFill>
                <a:latin typeface="Calibri"/>
              </a:rPr>
              <a:t>Roundworms are pseudocoelomates covered by tough cuticles </a:t>
            </a:r>
            <a:r>
              <a:rPr b="1" lang="ar-SA" sz="1800" spc="-1" strike="noStrike">
                <a:solidFill>
                  <a:srgbClr val="000000"/>
                </a:solidFill>
                <a:latin typeface="Calibri"/>
                <a:cs typeface="Arial"/>
              </a:rPr>
              <a:t>جليد قوي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e.g. 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Ascaris</a:t>
            </a: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107640" y="1679040"/>
            <a:ext cx="4608360" cy="483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Roundworms are found in most aquatic habitats, wet soil, moist tissues of plants, and the body fluids and tissues of animal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Some species parasitize animals </a:t>
            </a:r>
            <a:r>
              <a:rPr b="1" lang="ar-SA" sz="1600" spc="-1" strike="noStrike">
                <a:solidFill>
                  <a:srgbClr val="000000"/>
                </a:solidFill>
                <a:latin typeface="Constantia"/>
                <a:cs typeface="Arial"/>
              </a:rPr>
              <a:t>تتطفل على الحيوان</a:t>
            </a: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y range in length from less than 1 mm to more than a mete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 body of Nematode is covered with a tough exoskeleton, the cuticl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y have a complete digestive tract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قناة هضمية كاملة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Nematodes usually engage in sexual reproduction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التكاثر الجنسي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" name="Line 5"/>
          <p:cNvSpPr/>
          <p:nvPr/>
        </p:nvSpPr>
        <p:spPr>
          <a:xfrm>
            <a:off x="179280" y="14842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Picture 6" descr=""/>
          <p:cNvPicPr/>
          <p:nvPr/>
        </p:nvPicPr>
        <p:blipFill>
          <a:blip r:embed="rId1"/>
          <a:srcRect l="0" t="5556" r="0" b="0"/>
          <a:stretch/>
        </p:blipFill>
        <p:spPr>
          <a:xfrm>
            <a:off x="4716360" y="1677960"/>
            <a:ext cx="4326120" cy="513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1T01:39:32Z</dcterms:created>
  <dc:creator>Karl Miyajima</dc:creator>
  <dc:description/>
  <dc:language>en-US</dc:language>
  <cp:lastModifiedBy>د أشرف مشالي</cp:lastModifiedBy>
  <cp:lastPrinted>2001-01-06T03:20:03Z</cp:lastPrinted>
  <dcterms:modified xsi:type="dcterms:W3CDTF">2013-09-01T08:48:05Z</dcterms:modified>
  <cp:revision>354</cp:revision>
  <dc:subject/>
  <dc:title>Nerve activates contraction</dc:title>
</cp:coreProperties>
</file>