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C88-AB5D-4157-88FF-A3FA8E62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487-5EA2-4466-9A92-20F2056E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016-1796-45E2-BF15-0D391774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5B6-F2AD-450E-931D-CF8D1F68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5606-A4F4-49A3-80EB-D2475A1F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F9EE-F59B-49EE-A72A-EB9A4420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5B63-A2B1-4CCE-BDFA-ED7B7EA1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B670-DF3A-4FC6-BBD6-061DD9EC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0FC5-39C2-46FE-84F7-5532EC5B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0078-E254-4777-9354-5559509D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4ABD-F8C2-4579-AB01-DDD1449F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47E-E0F5-42FB-A34F-EC09563E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6954-ACC9-433A-9D1C-494364C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AA03-314C-415B-8595-8FDB857E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7B4B-0C60-425E-ADF9-F48D8EA9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D305-E41B-4AC6-82FC-00AEDABA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B90F-414A-4975-8AE5-F15C74BE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EF37-D908-4C78-B1F8-64D64F0D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99D2-6706-4C21-B18D-A24E82E7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4934-CA64-482D-B9C6-C35030B4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693A-95B6-4958-A623-EE61B4FD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AC80-FC67-47B2-ABE7-AD6CA922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2B5-FA91-45E6-986A-C1573B5C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1E3C-C541-4FC3-A2C4-B2E3450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D709-B858-4868-BBAB-D91D1D4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42CC-1475-4461-80EB-6A577422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03E0-B594-4620-9F40-AE99BA50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DC7A-084C-4AE2-BA79-C8E41172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CB50-1F67-4135-BA27-52AF5392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894E-DA3D-472B-B9FB-247AA9A9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45546-88D8-4755-B093-B5DCB135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9A57-F869-4D55-8D5A-3F1116E2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FB94-D704-4A7D-B2AF-5AF733B6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9E3-9BA3-4703-9EBE-EF2E92D6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54AF8-D464-47F7-BF7C-178791BC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440D4-C3E8-4864-8279-3DA7A224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32D0F-4E66-48AF-A75F-F6DE3DF1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78C1-803A-4018-884F-A343696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381C-1430-4CE1-B12B-179286F7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AD939-98A8-47E5-A580-A9561B8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5E20-0E11-42CB-AC63-039A48AA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50FC-6EB6-414E-8887-2984ED1D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F90F9-4D27-41E3-A05A-CE9299CB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725-B8B9-41F2-BB2E-A8752346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2A1-E943-447F-8741-B5049D9F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674-1900-4FDA-B972-3DEADF4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C6C-A8B8-446A-BB49-8088A262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D29-ED1E-4847-A886-5D3A813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C24B-B5F9-4756-87A0-ACA8EF32209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7F73-0088-4A87-80B0-7AEC170043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E969-3BB9-4728-8428-AF3761D6A4B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9418-ECA9-4163-9CF5-E15D084D23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8:05Z</dcterms:modified>
  <cp:revision>354</cp:revision>
  <dc:subject/>
  <dc:title>Nerve activates contraction</dc:title>
</cp:coreProperties>
</file>