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73C-0894-4798-AFF6-5D410E95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1D9-E9A2-47F7-B21B-C8FF3DBB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C97-B8B8-41EE-BF0A-9A31AB3F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B6F-E310-44C4-93C0-4ED85CB6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23DC-4A43-41A7-A44A-57E193B3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C816-AFED-427B-9ABC-1A90B47F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4EE3-3640-4C95-9832-FDD2FC6E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6343-5F48-43FE-A89B-3C1F18B3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2EFB-BD8A-4653-ABF5-A79F457B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3243-A283-4739-AE76-9BC43160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5873-9EFE-4054-BFCB-E80F9FFE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928-7E96-4ED0-A20A-5C972BB7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30DA-DF13-4F21-9553-0AEF7616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26B0-34D6-46B9-B5C5-C4EFD7C8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46DE-5600-4C13-8890-0DE8E081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8E1B-B964-45B2-A838-0CC35F11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B986-06B9-465B-9902-7ED3E781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0815-2F76-4662-9083-E437634C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20535-4113-46AD-8E3A-982E20D6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7F39-FEF3-41AF-B70B-4C2BA637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8111-AB04-4E5E-8E2F-84982738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135D0-476B-441C-9B8F-86864F3E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964-2327-460A-B87F-4CA3C331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38FA-96F4-4A8B-878F-DCE9FC79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CE81-9CCA-4E5E-94DF-B2211CF0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A748-BE0C-4981-A487-07789C6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7F6C-D41F-49F1-896C-C61ABDE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052D-A3C0-4EE5-9DC8-9D319485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86B9-7931-4C8B-82E7-391B428E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7045-9968-4B8B-9D98-766DB753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ECE4-C4C8-46B3-BE47-8B35CE53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2E99B-EA2D-4090-8B7F-2B1EF642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E448B-2347-4836-BCC7-A94C511C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521-B403-4920-9261-C5FBE54E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E41B9-03F0-4E91-8B27-9E7C2BC2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45DB-D77B-4B76-89A5-B4364D33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DD791-1BD6-4EC3-961C-0CA44D21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AA7F-BAAF-4B5A-868A-4C1B32C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DBC8-82C8-46DD-A922-4B24FD2B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3519-96BA-4750-B41E-CEF69510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813E1-94E1-4170-8514-E30D17AA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8866B-1516-484D-97C6-B2D8843B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EED0-AC35-4ADF-ADFD-2CAAC75A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003-A173-40BC-BD7F-E05C7609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4CB-C9B3-43C6-8BC4-5598D8B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D81-068E-4AD7-878D-B39DEBD4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A48-4495-4D04-AB8B-1FB88B76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ACB-DDBA-490C-9DC7-8F71E174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D536-1E44-4044-A5E7-528B61A20B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99B7-65AB-4E3D-AEBC-19910E467C8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67D9-F854-4F2D-9BD0-72B18E880C7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10E2-A36B-479B-B60D-EE32ACE461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238400" y="2114640"/>
            <a:ext cx="6476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KINGDOM: ANIMA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VI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ial"/>
              </a:rPr>
              <a:t>اللافقريات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ليس لها عمود فِقَري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1360" y="580680"/>
            <a:ext cx="560376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6: Animal Classif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250920" y="1735200"/>
            <a:ext cx="8686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ca includes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nail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مائ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lug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اقع الأرض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octopuse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1800" spc="-1" strike="noStrike">
                <a:solidFill>
                  <a:srgbClr val="f63f1b"/>
                </a:solidFill>
                <a:latin typeface="Times New Roman"/>
                <a:ea typeface="Arial"/>
              </a:rPr>
              <a:t>squi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mollusks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r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ough some inhabit fresh water, and some snails and slugs live on 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lusks are soft-bodied animals, but most are protected by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ard sh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صدفة قوي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alcium carbo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llusks have a muscula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comotion,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ceral 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جزء حشوي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ost of the internal organs, and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antl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رن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mollusks have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eparate sex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ith gonads located in the visceral m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some ar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ermaphrodi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14240" y="6350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Phylum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ollusc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شعبة</a:t>
            </a:r>
            <a:r>
              <a:rPr b="1" lang="ar-SA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رخو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1547640" y="2717640"/>
            <a:ext cx="7490160" cy="4096080"/>
          </a:xfrm>
          <a:prstGeom prst="rect">
            <a:avLst/>
          </a:prstGeom>
          <a:ln w="0">
            <a:noFill/>
          </a:ln>
        </p:spPr>
      </p:pic>
      <p:sp>
        <p:nvSpPr>
          <p:cNvPr id="201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03280" y="293760"/>
            <a:ext cx="727236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1- Class: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astropod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طنقدم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قوقع الحلزون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62240"/>
            <a:ext cx="86104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Gastropoda are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marine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but there are also many freshwater spec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anus and mantl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vity are abov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head in adults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143240" y="2286000"/>
            <a:ext cx="4965840" cy="3333600"/>
          </a:xfrm>
          <a:prstGeom prst="rect">
            <a:avLst/>
          </a:prstGeom>
          <a:ln w="0">
            <a:noFill/>
          </a:ln>
        </p:spPr>
      </p:pic>
      <p:sp>
        <p:nvSpPr>
          <p:cNvPr id="205" name="Line 8"/>
          <p:cNvSpPr/>
          <p:nvPr/>
        </p:nvSpPr>
        <p:spPr>
          <a:xfrm>
            <a:off x="201600" y="1197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426680"/>
            <a:ext cx="8299440" cy="446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gastropods are protected by a spiraled shel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صدفة حلزون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474480" indent="-11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gastropods have distinct                                                                            heads with eyes at the tips of                                                                           tentacl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لامس الرأس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ove by their foo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3600" indent="-183600"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are predato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3249720" y="280980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07640" y="2492280"/>
            <a:ext cx="3095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ost octopuses live on the seafloo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ephalopods have an active,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predaceous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مفترس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ifesty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ave a well-developed </a:t>
            </a:r>
            <a:r>
              <a:rPr b="1" lang="en-US" sz="1800" spc="-1" strike="noStrike">
                <a:solidFill>
                  <a:srgbClr val="f63f1b"/>
                </a:solidFill>
                <a:latin typeface="Constantia"/>
              </a:rPr>
              <a:t>nervous system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ith a complex brain and well-developed sense org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201600" y="981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03280" y="109440"/>
            <a:ext cx="68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2- Class: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ephalopoda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أسقدم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pu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خطبوط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1123920"/>
            <a:ext cx="87138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phalopods use rapid movements toward their prey which they capture with several long tenta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antle covers the visceral mass, but the shell is reduced and internal in squids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با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ng in many octopu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B)- Phylum:  Annelida 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الحلقيات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lass: Oligochaeta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قليلات الأشواك</a:t>
            </a:r>
            <a:br>
              <a:rPr sz="2500"/>
            </a:b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.g. earthworm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Arial"/>
              </a:rPr>
              <a:t>دودة الأرض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660320"/>
            <a:ext cx="868680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coelom of the earthworm, a typical annelid, is partitioned by sep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قسم بفواصل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but the digestive tract, longitudinal blood vessels, and nerve cords penetrat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672840"/>
            <a:ext cx="4557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.g. Earthw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560" y="1515600"/>
            <a:ext cx="838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digestive system consists of a pharynx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ري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 esophagu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لعو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crop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حوص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gizzard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انص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intestin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أمعاء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each segment is a pair of excretory tubes,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metanephrid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كلية بدائ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worms ar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cross-fertilizing hermaphrodit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earthworms can also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fragmenta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بالتقط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llowed by regen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13413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603520" y="0"/>
            <a:ext cx="63612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42920" y="1328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hylum Nematoda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عبة النيماتودا (الديدان الخيطية)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oundworms are pseudocoelomates covered by tough cuticles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جليد قو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.g.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cari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7640" y="1679040"/>
            <a:ext cx="4608360" cy="48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oundworms are found in most aquatic habitats, wet soil, moist tissues of plants, and the body fluids and tissues of anima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 species parasitize animals 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 الحيوان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range in length from less than 1 mm to more than a me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ody of Nematode is covered with a tough exoskeleton, the cutic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have a complete digestive tract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ناة هضمية كامل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ematodes usually engage in sexual reproduction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كاثر الجنس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79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rcRect l="0" t="5556" r="0" b="0"/>
          <a:stretch/>
        </p:blipFill>
        <p:spPr>
          <a:xfrm>
            <a:off x="4716360" y="1677960"/>
            <a:ext cx="43261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5-03-11T03:34:06Z</dcterms:modified>
  <cp:revision>355</cp:revision>
  <dc:subject/>
  <dc:title>Nerve activates contraction</dc:title>
</cp:coreProperties>
</file>