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C698-6F2F-469C-8D5A-F95910DAC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CF7F-567A-4CD6-8D92-D3B9025E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644C-8F3E-4E2A-8268-A43DCDB4B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0FAE-4224-4303-9ACE-7880FAB04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C452-3978-4576-9FF1-3A73AC5A5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D7E1-232D-4AF9-9BA9-DEAD8ED3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84A6-0DD1-43E1-93DA-D8B6D176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FF52-7E5C-4D6A-B87F-16B543BA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B7DA-56FA-4363-A3E9-A57102A4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3A2C-96F2-4FF0-A0F2-E7765F5D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66FF-F8DB-4227-9009-556B2EFC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0671-3870-4A8F-9051-8A6A46BD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982D-EEBA-4111-B235-8B830BFD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9DBC-6622-472B-9343-EA00EBE9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CEA6-CBC9-4A97-9645-E14C8D00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8BB9-56D0-45F4-8E91-291FD2B90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951B-A91C-40D6-8244-FE4C1406B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4053C-34DE-4DDE-B60D-9BAA4926F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4BFC8-6B9C-4E88-B0F7-AAF6A559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2D9DC-C20F-48B9-96A3-B8EE08A2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F67FC-5DE8-442B-9810-659FFBE1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40679-09A2-4462-9444-268B91DD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B487-DDC7-4DF1-81FF-3D0A26E6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D17F2-A659-45D5-90A0-D5A79BB5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A3116-0F50-473B-83A0-6C6DF982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10D33-FBDF-4B27-9C4F-3041756B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B5E0A-CBFF-49E7-A17E-E29C9DA6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80BAF-3D25-441E-91EF-C6F44CDC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FCC5B-C89F-4ED1-94F5-18ADE59A2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B1CBF-68F9-4431-ABFE-AAB56A95A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AA7CC-C3F5-458A-A5E2-AEAE91A7A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E0533-2074-489F-9DDE-AAA976BB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9C61E-1A38-40C8-9965-8DB7FD4B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515E-3C3B-41BD-9AED-967A6041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21F27-C9C4-4778-9E8C-7ECA654C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6D4BB-45C3-4CEE-9333-C03F6FCB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0CF01-B4E8-4D43-A607-65E03094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035DE-0B0F-42D6-B8E4-A399C125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08721-45DC-4CC7-8CE3-5E03F766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9D66F-F112-4DB0-8CE6-6750902C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B21D3-CF4C-4101-8F24-ED37072B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5730C-944D-4E08-9DAD-44E667FF1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C1CD0-E50F-463B-B4C8-AF6D66BFE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EF83-360D-4226-ABB2-5F360DD6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7CA2-6DAD-45D2-BA3B-165FF1F5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3FFC-901B-45C0-8322-1084456F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DA61-C799-46B6-B03B-23299B02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0AD1-B414-4502-BB14-6604189D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8859-299D-47E1-A2E9-0AC7A6F7A57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88EC-0592-4B5E-A264-DA17023CEC4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3FA2-6C3E-4161-9F3B-45536F5ED92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D890-CDB8-451C-BAB7-8461B67273A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3"/>
          <p:cNvSpPr/>
          <p:nvPr/>
        </p:nvSpPr>
        <p:spPr>
          <a:xfrm>
            <a:off x="1238400" y="2114640"/>
            <a:ext cx="6476760" cy="35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KINGDOM: ANIMAL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DIVIS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INVERTEB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ial"/>
              </a:rPr>
              <a:t>اللافقريات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(ليس لها عمود فِقَري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11360" y="580680"/>
            <a:ext cx="560376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6: Animal Classifica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250920" y="1735200"/>
            <a:ext cx="8686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llusca includes </a:t>
            </a: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snails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قواقع المائية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slugs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قواقع الأرضي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octopuses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أخطبو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nd </a:t>
            </a:r>
            <a:r>
              <a:rPr b="1" lang="en-US" sz="1800" spc="-1" strike="noStrike">
                <a:solidFill>
                  <a:srgbClr val="f63f1b"/>
                </a:solidFill>
                <a:latin typeface="Times New Roman"/>
                <a:ea typeface="Arial"/>
              </a:rPr>
              <a:t>squi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با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mollusks ar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ar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ough some inhabit fresh water, and some snails and slugs live on l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llusks are soft-bodied animals, but most are protected by a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hard she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صدفة قوي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calcium carbo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mollusks have a muscular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fo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locomotion, a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visceral m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جزء حشوي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most of the internal organs, and a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antle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رن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st mollusks have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parate sex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with gonads located in the visceral ma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, and some ar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hermaphrodit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8"/>
          <p:cNvSpPr/>
          <p:nvPr/>
        </p:nvSpPr>
        <p:spPr>
          <a:xfrm>
            <a:off x="20160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714240" y="63504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Phylum: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ollusca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شعبة</a:t>
            </a:r>
            <a:r>
              <a:rPr b="1" lang="ar-SA" sz="2000" spc="-1" strike="noStrike">
                <a:solidFill>
                  <a:srgbClr val="f63f1b"/>
                </a:solidFill>
                <a:latin typeface="Times New Roman"/>
                <a:ea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Majalla UI"/>
              </a:rPr>
              <a:t>الرخوي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6" descr=""/>
          <p:cNvPicPr/>
          <p:nvPr/>
        </p:nvPicPr>
        <p:blipFill>
          <a:blip r:embed="rId1"/>
          <a:srcRect l="0" t="0" r="0" b="5069"/>
          <a:stretch/>
        </p:blipFill>
        <p:spPr>
          <a:xfrm>
            <a:off x="1547640" y="2717640"/>
            <a:ext cx="7490160" cy="4096080"/>
          </a:xfrm>
          <a:prstGeom prst="rect">
            <a:avLst/>
          </a:prstGeom>
          <a:ln w="0">
            <a:noFill/>
          </a:ln>
        </p:spPr>
      </p:pic>
      <p:sp>
        <p:nvSpPr>
          <p:cNvPr id="201" name="Line 8"/>
          <p:cNvSpPr/>
          <p:nvPr/>
        </p:nvSpPr>
        <p:spPr>
          <a:xfrm>
            <a:off x="20160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403280" y="293760"/>
            <a:ext cx="727236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1- Class: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Gastropoda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طنقدمي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i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قوقع الحلزون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62240"/>
            <a:ext cx="8610480" cy="17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Most Gastropoda are </a:t>
            </a: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marine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, but there are also many freshwater speci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 anus and mantle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cavity are above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 head in adults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4143240" y="2286000"/>
            <a:ext cx="4965840" cy="3333600"/>
          </a:xfrm>
          <a:prstGeom prst="rect">
            <a:avLst/>
          </a:prstGeom>
          <a:ln w="0">
            <a:noFill/>
          </a:ln>
        </p:spPr>
      </p:pic>
      <p:sp>
        <p:nvSpPr>
          <p:cNvPr id="205" name="Line 8"/>
          <p:cNvSpPr/>
          <p:nvPr/>
        </p:nvSpPr>
        <p:spPr>
          <a:xfrm>
            <a:off x="20160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08000" y="1426680"/>
            <a:ext cx="8299440" cy="446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3600" indent="-1836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gastropods are protected by a spiraled shel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صدفة حلزون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74480" indent="-11304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ther species have lost                                                                                 their shells entirely and                                                                                 may have chemical                                                                                     defenses against predato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474480" indent="-113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any gastropods have distinct                                                                            heads with eyes at the tips of                                                                           tentacle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ملامس الرأس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move by their foo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ome species are predato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6" descr=""/>
          <p:cNvPicPr/>
          <p:nvPr/>
        </p:nvPicPr>
        <p:blipFill>
          <a:blip r:embed="rId1"/>
          <a:stretch/>
        </p:blipFill>
        <p:spPr>
          <a:xfrm>
            <a:off x="3249720" y="2809800"/>
            <a:ext cx="5859360" cy="39322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107640" y="2492280"/>
            <a:ext cx="30956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 foot of a cephalopod (“head foot”) has been modified into the                                                                                         muscular siphon and parts of the tentacl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ost octopuses live on the seafloo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ephalopods have an active, </a:t>
            </a:r>
            <a:r>
              <a:rPr b="1" lang="en-US" sz="1800" spc="-1" strike="noStrike">
                <a:solidFill>
                  <a:srgbClr val="f63f1b"/>
                </a:solidFill>
                <a:latin typeface="Constantia"/>
              </a:rPr>
              <a:t>predaceous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مفترسات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lifestyl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y have a well-developed </a:t>
            </a:r>
            <a:r>
              <a:rPr b="1" lang="en-US" sz="1800" spc="-1" strike="noStrike">
                <a:solidFill>
                  <a:srgbClr val="f63f1b"/>
                </a:solidFill>
                <a:latin typeface="Constantia"/>
              </a:rPr>
              <a:t>nervous system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with a complex brain and well-developed sense orga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201600" y="981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1403280" y="109440"/>
            <a:ext cx="68421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2- Class: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ephalopoda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رأسقدميات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topus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أخطبوط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250920" y="1123920"/>
            <a:ext cx="8713800" cy="13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phalopods use rapid movements toward their prey which they capture with several long tentac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mantle covers the visceral mass, but the shell is reduced and internal in squids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بار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ssing in many octopu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B)- Phylum:  Annelida 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  <a:cs typeface="Arial"/>
              </a:rPr>
              <a:t>الحلقيات</a:t>
            </a:r>
            <a:br>
              <a:rPr sz="2500"/>
            </a:b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Class: Oligochaeta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قليلات الأشواك</a:t>
            </a:r>
            <a:br>
              <a:rPr sz="2500"/>
            </a:b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.g. earthworm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Arial"/>
              </a:rPr>
              <a:t>دودة الأرض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28600" y="1660320"/>
            <a:ext cx="8686800" cy="50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ll annelids (“little rings”) have segmented bodi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nnelids live in the sea, most freshwater habitats, and damp soi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 coelom of the earthworm, a typical annelid, is partitioned by septa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مقسم بفواصل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, but the digestive tract, longitudinal blood vessels, and nerve cords penetrat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 septa and run the animal’s length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Most annelids, including earthworms, burrow in sand and sil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Line 5"/>
          <p:cNvSpPr/>
          <p:nvPr/>
        </p:nvSpPr>
        <p:spPr>
          <a:xfrm>
            <a:off x="152280" y="134136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672840"/>
            <a:ext cx="455760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e.g. Earthworm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560" y="1515600"/>
            <a:ext cx="83818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digestive system consists of a pharynx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مريء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 esophagu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بلعوم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crop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حوصل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gizzard 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قانص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d intestin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أمعاء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closed circulatory system carries blood with oxygen-carrying hemoglobin through dorsal and ventral vessels connected by segmental vess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each segment is a pair of excretory tubes,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metanephridi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كلية بدائ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at remove wastes from the blood and coelomic flui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arthworms are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cross-fertilizing hermaphrodite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ome earthworms can also reproduce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asexuall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by fragmentation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بالتقطيع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ollowed by regener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152280" y="134136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603520" y="0"/>
            <a:ext cx="63612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"/>
          <p:cNvSpPr/>
          <p:nvPr/>
        </p:nvSpPr>
        <p:spPr>
          <a:xfrm>
            <a:off x="142920" y="13287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arthw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Phylum Nematoda: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  <a:ea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شعبة النيماتودا (الديدان الخيطية)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Roundworms are pseudocoelomates covered by tough cuticles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جليد قوي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.g.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caris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07640" y="1679040"/>
            <a:ext cx="4608360" cy="483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oundworms are found in most aquatic habitats, wet soil, moist tissues of plants, and the body fluids and tissues of anima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ome species parasitize animals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تتطفل على الحيوان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range in length from less than 1 mm to more than a mete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body of Nematode is covered with a tough exoskeleton, the cutic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have a complete digestive tract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قناة هضمية كامل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ematodes usually engage in sexual reproduction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تكاثر الجنسي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179280" y="1484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rcRect l="0" t="5556" r="0" b="0"/>
          <a:stretch/>
        </p:blipFill>
        <p:spPr>
          <a:xfrm>
            <a:off x="4716360" y="1677960"/>
            <a:ext cx="432612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User</cp:lastModifiedBy>
  <cp:lastPrinted>2001-01-06T03:20:03Z</cp:lastPrinted>
  <dcterms:modified xsi:type="dcterms:W3CDTF">2015-03-11T03:34:06Z</dcterms:modified>
  <cp:revision>355</cp:revision>
  <dc:subject/>
  <dc:title>Nerve activates contraction</dc:title>
</cp:coreProperties>
</file>