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B1A-8395-48D7-9CB4-6905BC79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ADE-6C7F-4E9F-9B47-1D26477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782-F2A5-4858-B820-C405AD15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76E-F5C8-45E4-936E-1C982898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AC3D-9271-49E9-9E3B-CD9E5662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B0D-BEB3-442F-B8E8-3B1B42D3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E245-61DB-4BD5-AE0E-419BBC73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ECBA-A5AE-414D-857A-6F1EB0B4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0FA7-F264-466A-9D1E-60A6CDD3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3368-B35C-4CA1-90ED-1780684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6871-9795-4DA9-9DC1-34988F7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B2E-C410-48C9-82F6-BD3F4AEB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371A-4D60-46DD-9393-1F23E5D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D25-0D04-4A48-B7CB-DD6CE19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2392-0011-4C2A-9C54-D4A55015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875-8257-4AAC-9765-237A0027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C208-5581-44A6-BAE1-397510DF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BB02-047A-4CC6-8A4D-5D839C30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3C20-926F-4537-B9D8-D0FF85D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9B33-E258-4DA6-9FBE-48E98888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784B-3928-4586-B7C8-D049A91A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5EDE-297A-425C-9FBA-34C403B7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506-51B2-4A60-9456-1AD1F0E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EAAD-8A41-44A0-A693-BE2AC1E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AAF4-8F87-46C2-A0AC-B693F6E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23C7-ECE3-4F7B-A269-050B3C5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6D9A-8054-450A-A54D-88CEEA0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4DCF-1C7C-4495-A086-012E5B7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0A42-9001-4FD0-BE92-05AA931B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FD48-4598-4AD5-87A9-8CC8C25A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F1ED-87B7-4108-BFFF-DBEA3538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221B-A68E-468D-BE4E-8E09060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018B-EA2E-4774-801B-2D1CA94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386-D1D5-48BC-960B-088CA6EF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D1D3-A656-4B34-8B32-BA8FC03D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B0BDA-BC27-4878-A57F-502B8E2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7A4D-5355-4FEA-8BA4-17FCA1CB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B689-1583-4911-85BB-16998AC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EF34F-D96A-4945-AE5C-F3362B7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C83E-F817-42CE-A933-627C374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504A-EEDE-47D9-B42A-4BD2BBA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A3180-DF2D-4FE0-A04C-D7E5B8AF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095C-2D58-4C72-8C7A-61F4D36C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9FE-7E54-4171-AD6D-2AF6FA06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F4E-AA84-42C1-B74E-252A679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FAD-DD50-4C3F-8E2A-99E5E6B1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BEB-8C93-4A55-B3CE-B5E8E88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AB5-483F-4B7C-970E-BC57F59E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EB8B-61C1-49A2-8F37-2CCAB8F437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5D28-B8F7-4617-8606-34E72C25168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BC6E-C4CD-4F66-B66A-CA62CA2680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3FE-CD47-458E-923C-F4897E616A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568600"/>
            <a:ext cx="64767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nstantia"/>
              </a:rPr>
              <a:t>INVERTEB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لافقريات (ليس لها عمود فِقَر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: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7640" y="1703160"/>
            <a:ext cx="460836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ناة هضمية كامل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941720" y="1749600"/>
            <a:ext cx="4023000" cy="47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08000" y="333360"/>
            <a:ext cx="85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4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Nematoda (Round wor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Ascaris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08000" y="134136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8000" y="2060640"/>
            <a:ext cx="868680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ll annelids (“little rings”) have segmented bod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nnelids live in the sea, most freshwater habitats, and wet s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The coelom of the earthworm is partitioned by septa </a:t>
            </a:r>
            <a:r>
              <a:rPr b="0" lang="ar-SA" sz="2400" spc="-1" strike="noStrike">
                <a:solidFill>
                  <a:srgbClr val="0d0d0d"/>
                </a:solidFill>
                <a:latin typeface="Constantia"/>
                <a:cs typeface="Arial"/>
              </a:rPr>
              <a:t>بفواصل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, but the digestive tract, longitudinal blood vessels, and nerve cords penetrate the septa and run the animal’s leng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nstantia"/>
              </a:rPr>
              <a:t>Most annelids, including earthworms, burrow in sand and s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08000" y="33336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5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Annelida (</a:t>
            </a: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Segmented worms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lass: Oligochaeta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ليلة الأشواك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Example: Earthworm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أرض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08000" y="17002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1125360"/>
            <a:ext cx="878508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عو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ئ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ص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التقطيع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Earthwo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93680"/>
            <a:ext cx="6073560" cy="65484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142920" y="318780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08000" y="11970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ca includes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nai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واقع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lug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زاق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octopus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خطب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squ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ks are soft-bodied animals, but most are protected by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قو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calcium carbo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mollusks have a muscular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locomotion, and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nt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ُرنّ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hav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gon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, and som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6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Mollu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08000" y="98100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116000" y="2924280"/>
            <a:ext cx="6946920" cy="380052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20160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403280" y="355680"/>
            <a:ext cx="7272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alibri"/>
              </a:rPr>
              <a:t>1- </a:t>
            </a: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Gastrop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نقدم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nai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زون (القوقع الأرض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8000" y="1617840"/>
            <a:ext cx="8928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nus and mantle cavity are above the head in adult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4143240" y="292428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08000" y="407880"/>
            <a:ext cx="88567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حلزون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species have lost their shells entirely and  may have chemical  defenses against predat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gastropods have distinct  heads with eyes at the tips of  tenta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3635280" y="3139920"/>
            <a:ext cx="5367600" cy="360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08000" y="2997360"/>
            <a:ext cx="34560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octopuses live on the seafloo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ع البح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predator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فترسات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2- 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phalopod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أسقد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topu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خطبوط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08000" y="112392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mantle covers the visceral mass, but the shell is reduced and internal in squi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issing in many octop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4T18:51:41Z</dcterms:modified>
  <cp:revision>402</cp:revision>
  <dc:subject/>
  <dc:title>Nerve activates contraction</dc:title>
</cp:coreProperties>
</file>