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408-565A-4BE3-B116-3B809D62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5F7-6DC7-4519-981F-14D374BA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6B2-BA19-4FD1-A3A4-F14445DB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1EF-AA6D-4516-8ED1-59AD8E74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C0EF-B640-474A-88B2-55967EF8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2AFA-E8FE-4C7F-87E8-4B9EC4DF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E22B-0590-414F-99AB-25356E27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8D53-8581-4E51-97E7-50645145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6990-39B6-4559-8452-4CCF036B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D11A-AD4E-44C5-8B08-A134E722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4AC9-EFA1-47A7-AD00-5D7FBBF5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B37-98E0-4F70-9398-67943B49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218C-A6A7-4F56-A6C5-33313B23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8AD2-3E56-486C-BCD3-36F499C6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313F-B229-446C-B7A6-B737B80D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E04B-A4C5-4AFD-ACB0-227B1758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BDB7-C493-460D-9592-9A82E0FF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E75A5-6D98-4226-B400-FECC0E06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D48CF-B2FD-4041-8951-A7C84D81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24E8-4D98-4287-A14E-718A485E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079F4-45E7-4EC7-BAD1-B2EDEE2C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403C5-C7B6-4293-B53D-D8961CC3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3B3-185D-4672-A67C-345D5048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C650E-E38E-4C5D-8368-B947E3B8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7C32-DE76-43E9-99CB-B4BD8729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ADD9-207B-4412-9662-8F8A8F1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DA9B-137F-4047-85E9-DC5B361C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763C0-61D4-4DE7-BB5C-8C317B31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3DA7-86FC-4D3F-8DD2-8C7D9F0B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180E3-89A1-4E62-A5CF-23550F84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06F8E-D536-4409-A73F-D6F86742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235C-5191-428A-A925-F4D3AD97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80E22-7B11-4974-8ED2-2F3DDA7D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2EA-A8A6-46ED-BB4E-C73C239C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676C-0AB6-4859-992C-A5458361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1A45-4A54-41A3-8745-AA9D873F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A9424-1111-4B5B-8F14-460925DE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1EBE3-5685-4B26-9D13-12C54B73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936AB-627E-44AD-935C-74EB5F88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738B1-6638-4C4E-9982-EDE31075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70176-CDC3-43E6-B187-1004D97C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AB9E0-11B8-43FD-BC3E-9759DEAF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0ABDC-A53C-4B7A-8946-4FC56589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B50-7C00-4DB2-91EB-EF2B1A5B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B60-14C7-4352-BE71-2DC6B097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889-B5FD-4B12-A984-D096A539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CD2-530B-4CDD-A4F2-C831067C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8EE-E8E9-403C-AFD9-60CD2E17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5E0B-371E-42DD-8AC1-F4CFCBD24E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E5D2-B46A-41A0-8F9F-46A6E01E9F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848B-09A6-4992-859C-B3493F47E52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218E-F1C7-4D94-8FC6-C46A9B08A2F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568600"/>
            <a:ext cx="647676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nstantia"/>
              </a:rPr>
              <a:t>INVERTEB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لافقريات (ليس لها عمود فِقَري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30320" y="380880"/>
            <a:ext cx="885816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Kingdom: Anim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07640" y="1703160"/>
            <a:ext cx="4608360" cy="52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ناة هضمية كامل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كاثر الجنس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941720" y="1749600"/>
            <a:ext cx="4023000" cy="47750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108000" y="333360"/>
            <a:ext cx="85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4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Nematoda (Round wor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1" i="1" lang="en-GB" sz="2400" spc="-1" strike="noStrike">
                <a:solidFill>
                  <a:srgbClr val="000000"/>
                </a:solidFill>
                <a:latin typeface="Constantia"/>
              </a:rPr>
              <a:t>Ascaris 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108000" y="134136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8000" y="2060640"/>
            <a:ext cx="8686800" cy="50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All annelids (“little rings”) have segmented bod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Annelids live in the sea, most freshwater habitats, and wet soi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The coelom of the earthworm is partitioned by septa </a:t>
            </a:r>
            <a:r>
              <a:rPr b="0" lang="ar-SA" sz="2400" spc="-1" strike="noStrike">
                <a:solidFill>
                  <a:srgbClr val="0d0d0d"/>
                </a:solidFill>
                <a:latin typeface="Constantia"/>
                <a:cs typeface="Arial"/>
              </a:rPr>
              <a:t>بفواصل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, but the digestive tract, longitudinal blood vessels, and nerve cords penetrate the septa and run the animal’s leng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nstantia"/>
              </a:rPr>
              <a:t>Most annelids, including earthworms, burrow in sand and si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08000" y="333360"/>
            <a:ext cx="85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5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Annelida (</a:t>
            </a:r>
            <a:r>
              <a:rPr b="1" lang="en-GB" sz="3200" spc="-1" strike="noStrike">
                <a:solidFill>
                  <a:srgbClr val="0000ff"/>
                </a:solidFill>
                <a:latin typeface="Constantia"/>
              </a:rPr>
              <a:t>Segmented worms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lass: Oligochaeta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قليلة الأشواك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Example: Earthworm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ديدان الأرض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108000" y="17002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7640" y="1125360"/>
            <a:ext cx="878508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لعو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ئ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حوصل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قانص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معاء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التقطيع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08000" y="33336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Earthwo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108000" y="90792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195640" y="193680"/>
            <a:ext cx="6073560" cy="65484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142920" y="318780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108000" y="119700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lusca includes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snail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واقع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slug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زاقا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octopus 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خطبوط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nd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  <a:ea typeface="Arial"/>
              </a:rPr>
              <a:t>squi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با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mollusks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ome inhabit fresh water, and some snails and slugs live on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lusks are soft-bodied animals, but most are protected by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ar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صدفة قو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calcium carbo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mollusks have a muscular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oo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locomotion, and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ntl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ُرنّس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mollusks hav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eparate sex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ith gona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, and some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ermaphrodi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08000" y="33336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6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Mollus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108000" y="98100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116000" y="2924280"/>
            <a:ext cx="6946920" cy="3800520"/>
          </a:xfrm>
          <a:prstGeom prst="rect">
            <a:avLst/>
          </a:prstGeom>
          <a:ln w="0">
            <a:noFill/>
          </a:ln>
        </p:spPr>
      </p:pic>
      <p:sp>
        <p:nvSpPr>
          <p:cNvPr id="214" name="Line 8"/>
          <p:cNvSpPr/>
          <p:nvPr/>
        </p:nvSpPr>
        <p:spPr>
          <a:xfrm>
            <a:off x="20160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403280" y="355680"/>
            <a:ext cx="72723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Calibri"/>
              </a:rPr>
              <a:t>1- </a:t>
            </a:r>
            <a:r>
              <a:rPr b="1" lang="en-US" sz="3200" spc="-1" strike="noStrike">
                <a:solidFill>
                  <a:srgbClr val="f63f1b"/>
                </a:solidFill>
                <a:latin typeface="Constantia"/>
              </a:rPr>
              <a:t>Class: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Gastropo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طنقدم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nail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لزون (القوقع الأرضي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8000" y="1617840"/>
            <a:ext cx="892800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anus and mantle cavity are above the head in adults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4143240" y="292428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08000" y="407880"/>
            <a:ext cx="8856720" cy="31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صدفة حلزون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species have lost their shells entirely and  may have chemical  defenses against predato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gastropods have distinct  heads with eyes at the tips of  tenta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3635280" y="3139920"/>
            <a:ext cx="5367600" cy="3602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08000" y="2997360"/>
            <a:ext cx="345600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octopuses live on the seafloor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اع البح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0" lang="en-US" sz="2000" spc="-1" strike="noStrike">
                <a:solidFill>
                  <a:srgbClr val="f63f1b"/>
                </a:solidFill>
                <a:latin typeface="Constantia"/>
              </a:rPr>
              <a:t>predator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فترسات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0" lang="en-US" sz="20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Constantia"/>
              </a:rPr>
              <a:t>2- Class: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ephalopoda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رأسقدم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topu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خطبوط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108000" y="1123920"/>
            <a:ext cx="88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03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phalopods use rapid movements toward their prey which they capture with several long tenta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03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mantle covers the visceral mass, but the shell is reduced and internal in squi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missing in many octopu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14T18:51:41Z</dcterms:modified>
  <cp:revision>402</cp:revision>
  <dc:subject/>
  <dc:title>Nerve activates contraction</dc:title>
</cp:coreProperties>
</file>