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CCE-8AD6-47DC-9439-F3DCF240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D11-AB66-4B27-8D5F-EA880B1C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23EA-5CD1-4A3B-B729-B1675800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DB2-FB08-430A-B203-139E6119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E5FC-52A6-46BF-9038-BD8C873F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3290-F24C-4D4A-A219-7CEEC66C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7E49-21BD-4B6D-9E12-DBCCF230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E5C5-79A5-467D-A27D-547D885A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D1AC-4720-4868-98D9-9AC700E4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1853-2BA3-4DAD-B640-0A463B91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1178-8A23-42B5-9404-EDB0C0DB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C57-3FD9-41CC-9D56-A4366D24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B0EE-DE48-4C43-9C63-5FC155BF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C315-973A-4784-8D6D-AE79F23A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732B-9B83-40B8-BA2F-C0A54827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F092-B2B1-4F96-A2EA-0B793738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B541-566F-44D4-BECE-3B2E35B7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F2C01-BEA7-42C3-A65C-B56D1A6E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2E2AE-D126-46B8-BEDE-5C35300F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DB60A-1655-403F-81DD-83091C94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FE64C-A89B-4B9F-AD68-346C466C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253A0-911D-4078-A39D-4E9F2934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6FBE-47A8-4BDC-B0D5-0EB8D9C2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E24A-3A4E-4B0C-A710-E559C621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93B52-0712-4BC8-9351-DE16684B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E49A7-E790-4AD2-933C-1F2F5404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4FCF6-38E4-4349-9BCD-63AD411F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0921B-550D-4B4E-896B-8C7F2D24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10427-6C0F-4712-847F-36BF0562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41007-58E0-4F74-82C1-B76F13A4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CDA26-2207-4456-9729-88B43551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C2112-8114-447A-9757-B5C0CE6F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4B1C9-9E0B-4EDB-9270-5D05179F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02C-C9F7-4D0B-B99C-5CF7D822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FBDB4-8AEF-46C0-88AD-DC6FDB70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AD8ED-AFBC-4929-BA47-34426AA4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42BF8-BC5C-4060-871D-861F252F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9B8AB-ED64-472E-AFF4-EBFB42E1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8302B-59ED-48AC-B1E1-1BCC808A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C449F-4068-4A47-853C-2B14681B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AC3DF-4E56-4D77-9DBE-82E0AC8A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DA83A-9F5F-43BB-8940-77506D49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5C092-7E3C-43E2-8E77-472DCDD8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852-ADA8-4C2B-BC49-CB2DFB85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7EA-B91B-4997-AABE-976A1BB9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E13-3757-45B9-A9CD-DCFB5771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4261-C4A4-46ED-82E0-C1DDB74F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5DE-9EA4-4E45-85E0-DED76F7C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C18B-25DF-44FF-B5E8-3CFDC6FB54A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C137-510B-484A-8069-9D542D794AB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8518-FA5F-4EDF-8EEC-8A3CDD29205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6C54-CC2E-4221-AE01-9B84613DACB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238400" y="2568600"/>
            <a:ext cx="647676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onstantia"/>
              </a:rPr>
              <a:t>INVERTEBR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لافقريات (ليس لها عمود فِقَري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30320" y="380880"/>
            <a:ext cx="8858160" cy="7034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5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Kingdom: Anim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15228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07640" y="1703160"/>
            <a:ext cx="4608360" cy="521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oundworms are found in most aquatic habitats, wet soil, moist tissues of plants, and the body fluids and tissues of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species parasitize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y range in length from less than 1 mm to more than a me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body of Nematode is covered with a tough exoskeleton, the cuti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y have a complete digestive trac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ناة هضمية كامل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ematodes usually engage in sexual reproduc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كاثر الجنس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rcRect l="0" t="5556" r="0" b="0"/>
          <a:stretch/>
        </p:blipFill>
        <p:spPr>
          <a:xfrm>
            <a:off x="4941720" y="1749600"/>
            <a:ext cx="4023000" cy="47750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"/>
          <p:cNvSpPr/>
          <p:nvPr/>
        </p:nvSpPr>
        <p:spPr>
          <a:xfrm>
            <a:off x="108000" y="333360"/>
            <a:ext cx="85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4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Nematoda (Round wor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Example: </a:t>
            </a:r>
            <a:r>
              <a:rPr b="1" i="1" lang="en-GB" sz="2400" spc="-1" strike="noStrike">
                <a:solidFill>
                  <a:srgbClr val="000000"/>
                </a:solidFill>
                <a:latin typeface="Constantia"/>
              </a:rPr>
              <a:t>Ascaris 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108000" y="134136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8000" y="2060640"/>
            <a:ext cx="8686800" cy="50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All annelids (“little rings”) have segmented bod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Annelids live in the sea, most freshwater habitats, and wet soi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The coelom of the earthworm is partitioned by septa </a:t>
            </a:r>
            <a:r>
              <a:rPr b="0" lang="ar-SA" sz="2400" spc="-1" strike="noStrike">
                <a:solidFill>
                  <a:srgbClr val="0d0d0d"/>
                </a:solidFill>
                <a:latin typeface="Constantia"/>
                <a:cs typeface="Arial"/>
              </a:rPr>
              <a:t>بفواصل</a:t>
            </a: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, but the digestive tract, longitudinal blood vessels, and nerve cords penetrate the septa and run the animal’s lengt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nstantia"/>
              </a:rPr>
              <a:t>Most annelids, including earthworms, burrow in sand and sil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08000" y="333360"/>
            <a:ext cx="85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5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Annelida (</a:t>
            </a:r>
            <a:r>
              <a:rPr b="1" lang="en-GB" sz="3200" spc="-1" strike="noStrike">
                <a:solidFill>
                  <a:srgbClr val="0000ff"/>
                </a:solidFill>
                <a:latin typeface="Constantia"/>
              </a:rPr>
              <a:t>Segmented worms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lass: Oligochaeta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قليلة الأشواك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d0d0d"/>
                </a:solidFill>
                <a:latin typeface="Constantia"/>
              </a:rPr>
              <a:t>Example: Earthworm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ديدان الأرض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108000" y="170028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07640" y="1125360"/>
            <a:ext cx="8785080" cy="66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gestive system consists of a pharynx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لعوم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 esophagu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رئ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crop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حوصل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gizzard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قانص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intestin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أمعاء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each segment is a pair of excretory tubes,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metanephridi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كلية بدائ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rthworms are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cross-fertilizing hermaphrodit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earthworms can also reproduce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y fragmentation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بالتقطيع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llowed by re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108000" y="33336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Earthwo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"/>
          <p:cNvSpPr/>
          <p:nvPr/>
        </p:nvSpPr>
        <p:spPr>
          <a:xfrm>
            <a:off x="108000" y="90792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195640" y="193680"/>
            <a:ext cx="6073560" cy="65484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142920" y="318780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108000" y="119700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llusca includes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snails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واقع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slug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زاقات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</a:rPr>
              <a:t>octopus 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خطبوط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and </a:t>
            </a:r>
            <a:r>
              <a:rPr b="0" lang="en-US" sz="2400" spc="-1" strike="noStrike">
                <a:solidFill>
                  <a:srgbClr val="f63f1b"/>
                </a:solidFill>
                <a:latin typeface="Constantia"/>
                <a:ea typeface="Arial"/>
              </a:rPr>
              <a:t>squi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بار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mollusks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some inhabit fresh water, and some snails and slugs live on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llusks are soft-bodied animals, but most are protected by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ard she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صدفة قوية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calcium carbon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mollusks have a muscular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oo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locomotion, and 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antle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ُرنّس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mollusks hav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eparate sex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ith gona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, and some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ermaphrodit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08000" y="33336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6- </a:t>
            </a: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Phylum: Mollus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108000" y="981000"/>
            <a:ext cx="89056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1116000" y="2924280"/>
            <a:ext cx="6946920" cy="3800520"/>
          </a:xfrm>
          <a:prstGeom prst="rect">
            <a:avLst/>
          </a:prstGeom>
          <a:ln w="0">
            <a:noFill/>
          </a:ln>
        </p:spPr>
      </p:pic>
      <p:sp>
        <p:nvSpPr>
          <p:cNvPr id="214" name="Line 8"/>
          <p:cNvSpPr/>
          <p:nvPr/>
        </p:nvSpPr>
        <p:spPr>
          <a:xfrm>
            <a:off x="20160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403280" y="355680"/>
            <a:ext cx="72723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Calibri"/>
              </a:rPr>
              <a:t>1- </a:t>
            </a:r>
            <a:r>
              <a:rPr b="1" lang="en-US" sz="3200" spc="-1" strike="noStrike">
                <a:solidFill>
                  <a:srgbClr val="f63f1b"/>
                </a:solidFill>
                <a:latin typeface="Constantia"/>
              </a:rPr>
              <a:t>Class: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Gastropo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طنقدم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nail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لزون (القوقع الأرضي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8000" y="1617840"/>
            <a:ext cx="892800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Gastropoda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but there are also many freshwater spec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anus and mantle cavity are above the head in adults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4143240" y="2924280"/>
            <a:ext cx="4965840" cy="3333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08000" y="407880"/>
            <a:ext cx="8856720" cy="31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gastropods are protected by a spiraled shell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صدفة حلزوني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lnSpc>
                <a:spcPct val="120000"/>
              </a:lnSpc>
              <a:buClr>
                <a:srgbClr val="339933"/>
              </a:buClr>
              <a:buSzPct val="101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ther species have lost their shells entirely and  may have chemical  defenses against predato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101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gastropods have distinct  heads with eyes at the tips of  tenta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101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move by their foo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3635280" y="3139920"/>
            <a:ext cx="5367600" cy="36021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08000" y="2997360"/>
            <a:ext cx="345600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octopuses live on the seafloor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اع البح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phalopods have an active, </a:t>
            </a:r>
            <a:r>
              <a:rPr b="0" lang="en-US" sz="2000" spc="-1" strike="noStrike">
                <a:solidFill>
                  <a:srgbClr val="f63f1b"/>
                </a:solidFill>
                <a:latin typeface="Constantia"/>
              </a:rPr>
              <a:t>predator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فترسات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y have a well-developed </a:t>
            </a:r>
            <a:r>
              <a:rPr b="0" lang="en-US" sz="2000" spc="-1" strike="noStrike">
                <a:solidFill>
                  <a:srgbClr val="f63f1b"/>
                </a:solidFill>
                <a:latin typeface="Constantia"/>
              </a:rPr>
              <a:t>nervous syste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ith a complex brain and well-developed sense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20160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403280" y="109440"/>
            <a:ext cx="68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Constantia"/>
              </a:rPr>
              <a:t>2- Class: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Cephalopoda </a:t>
            </a:r>
            <a:r>
              <a:rPr b="1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رأسقدميات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ctopu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خطبوط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108000" y="1123920"/>
            <a:ext cx="88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03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ephalopods use rapid movements toward their prey which they capture with several long tenta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103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mantle covers the visceral mass, but the shell is reduced and internal in squi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حبا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missing in many octopu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Dell</cp:lastModifiedBy>
  <cp:lastPrinted>2001-01-06T03:20:03Z</cp:lastPrinted>
  <dcterms:modified xsi:type="dcterms:W3CDTF">2015-11-14T18:51:41Z</dcterms:modified>
  <cp:revision>402</cp:revision>
  <dc:subject/>
  <dc:title>Nerve activates contraction</dc:title>
</cp:coreProperties>
</file>