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B9FB-4805-4B02-9824-E1DF0908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8030-C311-4A53-B682-E95FC3A7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75BC-2EFC-4A0E-BCF4-ADC23EDAD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76B1-7DA7-4BF3-A015-1554705C2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551C-C4DC-4158-A076-17558A957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4C61-9524-44B7-85BD-141BB6F7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3CD9-3BFF-423D-9B72-5CD8C228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45B7-243C-49C5-AE9E-9810BFA0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7845-7431-4200-839B-DAF7A789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71E7-A006-4F67-B876-A2071A38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0255-D42E-44FC-8B4A-EAC0808D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ABFF-14AA-4EE2-93A6-C4497468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B2B4-2ADA-4A13-B9D7-7B1A04A8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89C8-6114-4FF3-9F4F-2FD452EA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5F2D-4A00-4726-8302-8F53114D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C419-B7DC-471E-A817-5D0059DC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D3EF-0B8F-4437-8353-B129F7A54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8A7D9-DFEC-4321-9B0A-7C02B78AD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EDE8D-991A-4E55-92F2-5DB87EDE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18309-EDE0-436D-B130-4D740AB0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DBE65-3C35-495D-8C65-401C2AC8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FC348-DE2D-4D18-9B7A-BDE4EA76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CBB9-7007-4F24-A1C0-2BDA0F69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2DB51-9415-433F-AA94-10D8368B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1E29B-6015-474E-BC63-DEB373B8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56679-029E-4D9D-AEF1-12D4D4D3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5F64B-F67B-40C0-B945-BE2F165D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724FD-F138-46B2-83F0-52603371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4CD9F-16FA-45B4-9B6C-8CF2D561F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1B448-2948-4BBB-9A38-B65AF6EC0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4AAAA-60A7-49B0-88F3-F6BA92816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3FB99-D21E-42F9-80FF-F0598B37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27606-F924-47EA-AD5E-04C02019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0F45-33F7-4796-992F-63E2FB90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5C10C-FD7C-4E02-90BA-219565A4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4086E-161B-4F6A-9DA5-AB70838C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3DFD6-FBF1-4A39-B004-89E8ACB1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39B99-FB56-4F2F-9240-BAC5FC8D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92040-967D-4520-AC65-A2332B0A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63438-5E0F-4A24-98A3-A8A6D34F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CD86D-A9FB-4596-BE48-C9B7757C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86245-7476-46C3-8655-6270CA6B7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3B6CC-24BD-4D97-94F3-3949EBB97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9C77-2043-4238-B638-43001480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9B13-7429-40B5-874A-B3DC27C3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16E5-A9B4-4B30-B842-6DBDC085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6717-35D2-4079-909E-6DEA8C3E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019F-BA7F-4BE5-98D0-DC0EBF0E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97DE-2713-4FF5-9D1B-60B5E9C3159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EB46-BB38-4E07-B781-1CAEA372E26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CFB8-BD30-47D6-BE33-8D2DD72F1F5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9E20-78CD-4605-9211-74287F7896D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3"/>
          <p:cNvSpPr/>
          <p:nvPr/>
        </p:nvSpPr>
        <p:spPr>
          <a:xfrm>
            <a:off x="1238400" y="2568600"/>
            <a:ext cx="6476760" cy="10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onstantia"/>
              </a:rPr>
              <a:t>INVERTEBR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Majalla UI"/>
              </a:rPr>
              <a:t>اللافقريات (ليس لها عمود فِقَري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30320" y="380880"/>
            <a:ext cx="8858160" cy="703440"/>
          </a:xfrm>
          <a:prstGeom prst="rect">
            <a:avLst/>
          </a:prstGeom>
          <a:solidFill>
            <a:srgbClr val="b3e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Lecture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15</a:t>
            </a: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: Kingdom: Anim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5"/>
          <p:cNvSpPr/>
          <p:nvPr/>
        </p:nvSpPr>
        <p:spPr>
          <a:xfrm>
            <a:off x="15228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07640" y="1703160"/>
            <a:ext cx="4608360" cy="521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oundworms are found in most aquatic habitats, wet soil, moist tissues of plants, and the body fluids and tissues of anima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ome species parasitize anima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y range in length from less than 1 mm to more than a mete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body of Nematode is covered with a tough exoskeleton, the cutic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y have a complete digestive tract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قناة هضمية كامل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ematodes usually engage in sexual reproduction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كاثر الجنسي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1"/>
          <a:srcRect l="0" t="5556" r="0" b="0"/>
          <a:stretch/>
        </p:blipFill>
        <p:spPr>
          <a:xfrm>
            <a:off x="4941720" y="1749600"/>
            <a:ext cx="4023000" cy="47750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6"/>
          <p:cNvSpPr/>
          <p:nvPr/>
        </p:nvSpPr>
        <p:spPr>
          <a:xfrm>
            <a:off x="108000" y="333360"/>
            <a:ext cx="856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4- </a:t>
            </a:r>
            <a:r>
              <a:rPr b="1" lang="en-GB" sz="3600" spc="-1" strike="noStrike">
                <a:solidFill>
                  <a:srgbClr val="0000ff"/>
                </a:solidFill>
                <a:latin typeface="Constantia"/>
              </a:rPr>
              <a:t>Phylum: Nematoda (Round wor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Example: </a:t>
            </a:r>
            <a:r>
              <a:rPr b="1" i="1" lang="en-GB" sz="2400" spc="-1" strike="noStrike">
                <a:solidFill>
                  <a:srgbClr val="000000"/>
                </a:solidFill>
                <a:latin typeface="Constantia"/>
              </a:rPr>
              <a:t>Ascaris 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3"/>
          <p:cNvSpPr/>
          <p:nvPr/>
        </p:nvSpPr>
        <p:spPr>
          <a:xfrm>
            <a:off x="108000" y="1341360"/>
            <a:ext cx="890568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08000" y="2060640"/>
            <a:ext cx="8686800" cy="50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nstantia"/>
              </a:rPr>
              <a:t>All annelids (“little rings”) have segmented bodi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nstantia"/>
              </a:rPr>
              <a:t>Annelids live in the sea, most freshwater habitats, and wet soi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nstantia"/>
              </a:rPr>
              <a:t>The coelom of the earthworm is partitioned by septa </a:t>
            </a:r>
            <a:r>
              <a:rPr b="0" lang="ar-SA" sz="2400" spc="-1" strike="noStrike">
                <a:solidFill>
                  <a:srgbClr val="0d0d0d"/>
                </a:solidFill>
                <a:latin typeface="Constantia"/>
                <a:cs typeface="Arial"/>
              </a:rPr>
              <a:t>بفواصل</a:t>
            </a:r>
            <a:r>
              <a:rPr b="0" lang="en-US" sz="2400" spc="-1" strike="noStrike">
                <a:solidFill>
                  <a:srgbClr val="0d0d0d"/>
                </a:solidFill>
                <a:latin typeface="Constantia"/>
              </a:rPr>
              <a:t>, but the digestive tract, longitudinal blood vessels, and nerve cords penetrate the septa and run the animal’s length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d0d"/>
                </a:solidFill>
                <a:latin typeface="Constantia"/>
              </a:rPr>
              <a:t>Most annelids, including earthworms, burrow in sand and sil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108000" y="333360"/>
            <a:ext cx="856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5- </a:t>
            </a:r>
            <a:r>
              <a:rPr b="1" lang="en-GB" sz="3600" spc="-1" strike="noStrike">
                <a:solidFill>
                  <a:srgbClr val="0000ff"/>
                </a:solidFill>
                <a:latin typeface="Constantia"/>
              </a:rPr>
              <a:t>Phylum: Annelida (</a:t>
            </a:r>
            <a:r>
              <a:rPr b="1" lang="en-GB" sz="3200" spc="-1" strike="noStrike">
                <a:solidFill>
                  <a:srgbClr val="0000ff"/>
                </a:solidFill>
                <a:latin typeface="Constantia"/>
              </a:rPr>
              <a:t>Segmented worms</a:t>
            </a:r>
            <a:r>
              <a:rPr b="1" lang="en-GB" sz="3600" spc="-1" strike="noStrike">
                <a:solidFill>
                  <a:srgbClr val="0000ff"/>
                </a:solidFill>
                <a:latin typeface="Constanti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Class: Oligochaeta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قليلة الأشواك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     </a:t>
            </a:r>
            <a:r>
              <a:rPr b="0" lang="en-US" sz="2400" spc="-1" strike="noStrike">
                <a:solidFill>
                  <a:srgbClr val="0d0d0d"/>
                </a:solidFill>
                <a:latin typeface="Constantia"/>
              </a:rPr>
              <a:t>Example: Earthworm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ديدان الأرض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3"/>
          <p:cNvSpPr/>
          <p:nvPr/>
        </p:nvSpPr>
        <p:spPr>
          <a:xfrm>
            <a:off x="108000" y="1700280"/>
            <a:ext cx="890568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07640" y="1125360"/>
            <a:ext cx="8785080" cy="667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digestive system consists of a pharynx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بلعوم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n esophagu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مرئ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crop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حوصل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gizzard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قانص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nd intestine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أمعاء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closed circulatory system carries blood with oxygen-carrying hemoglobin through dorsal and ventral vessels connected by segmental vess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each segment is a pair of excretory tubes,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</a:rPr>
              <a:t>metanephridi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كلية بدائي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at remove wastes from the blood and coelomic flui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arthworms are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</a:rPr>
              <a:t>cross-fertilizing hermaphrodit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me earthworms can also reproduce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</a:rPr>
              <a:t>asexuall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by fragmentation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بالتقطيع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llowed by regener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108000" y="333360"/>
            <a:ext cx="85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onstantia"/>
              </a:rPr>
              <a:t>Earthwo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3"/>
          <p:cNvSpPr/>
          <p:nvPr/>
        </p:nvSpPr>
        <p:spPr>
          <a:xfrm>
            <a:off x="108000" y="907920"/>
            <a:ext cx="890568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195640" y="193680"/>
            <a:ext cx="6073560" cy="65484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7"/>
          <p:cNvSpPr/>
          <p:nvPr/>
        </p:nvSpPr>
        <p:spPr>
          <a:xfrm>
            <a:off x="142920" y="3187800"/>
            <a:ext cx="19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Earthw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108000" y="1197000"/>
            <a:ext cx="8686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llusca includes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</a:rPr>
              <a:t>snail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قواقع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</a:rPr>
              <a:t>slug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زاقات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</a:rPr>
              <a:t>octopus 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خطبوط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and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  <a:ea typeface="Arial"/>
              </a:rPr>
              <a:t>squi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حبار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mollusks ar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marin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some inhabit fresh water, and some snails and slugs live on 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llusks are soft-bodied animals, but most are protected by a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hard shel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صدفة قوية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f calcium carbon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l mollusks have a muscular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foo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or locomotion, and a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mantle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ُرنّس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mollusks hav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separate sex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with gonad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, and some ar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hermaphrodit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08000" y="333360"/>
            <a:ext cx="85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6- </a:t>
            </a:r>
            <a:r>
              <a:rPr b="1" lang="en-GB" sz="3600" spc="-1" strike="noStrike">
                <a:solidFill>
                  <a:srgbClr val="0000ff"/>
                </a:solidFill>
                <a:latin typeface="Constantia"/>
              </a:rPr>
              <a:t>Phylum: Mollus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3"/>
          <p:cNvSpPr/>
          <p:nvPr/>
        </p:nvSpPr>
        <p:spPr>
          <a:xfrm>
            <a:off x="108000" y="981000"/>
            <a:ext cx="890568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"/>
          <p:cNvPicPr/>
          <p:nvPr/>
        </p:nvPicPr>
        <p:blipFill>
          <a:blip r:embed="rId1"/>
          <a:srcRect l="0" t="0" r="0" b="5069"/>
          <a:stretch/>
        </p:blipFill>
        <p:spPr>
          <a:xfrm>
            <a:off x="1116000" y="2924280"/>
            <a:ext cx="6946920" cy="3800520"/>
          </a:xfrm>
          <a:prstGeom prst="rect">
            <a:avLst/>
          </a:prstGeom>
          <a:ln w="0">
            <a:noFill/>
          </a:ln>
        </p:spPr>
      </p:pic>
      <p:sp>
        <p:nvSpPr>
          <p:cNvPr id="214" name="Line 8"/>
          <p:cNvSpPr/>
          <p:nvPr/>
        </p:nvSpPr>
        <p:spPr>
          <a:xfrm>
            <a:off x="201600" y="134136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1403280" y="355680"/>
            <a:ext cx="727236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3f1b"/>
                </a:solidFill>
                <a:latin typeface="Calibri"/>
              </a:rPr>
              <a:t>1- </a:t>
            </a:r>
            <a:r>
              <a:rPr b="1" lang="en-US" sz="3200" spc="-1" strike="noStrike">
                <a:solidFill>
                  <a:srgbClr val="f63f1b"/>
                </a:solidFill>
                <a:latin typeface="Constantia"/>
              </a:rPr>
              <a:t>Class: 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Gastropod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طنقدم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Constantia"/>
              </a:rPr>
              <a:t>e.g.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nail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حلزون (القوقع الأرضي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08000" y="1617840"/>
            <a:ext cx="8928000" cy="116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Gastropoda ar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marin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but there are also many freshwater speci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anus and mantle cavity are above the head in adults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6" descr=""/>
          <p:cNvPicPr/>
          <p:nvPr/>
        </p:nvPicPr>
        <p:blipFill>
          <a:blip r:embed="rId1"/>
          <a:stretch/>
        </p:blipFill>
        <p:spPr>
          <a:xfrm>
            <a:off x="4143240" y="2924280"/>
            <a:ext cx="4965840" cy="33336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108000" y="407880"/>
            <a:ext cx="8856720" cy="31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gastropods are protected by a spiraled shell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صدفة حلزوني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20000"/>
              </a:lnSpc>
              <a:buClr>
                <a:srgbClr val="339933"/>
              </a:buClr>
              <a:buSzPct val="101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ther species have lost their shells entirely and  may have chemical  defenses against predator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101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y gastropods have distinct  heads with eyes at the tips of  tentac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101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move by their foo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3635280" y="3139920"/>
            <a:ext cx="5367600" cy="36021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108000" y="2997360"/>
            <a:ext cx="3456000" cy="46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st octopuses live on the seafloor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قاع البحر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ephalopods have an active, </a:t>
            </a:r>
            <a:r>
              <a:rPr b="0" lang="en-US" sz="2000" spc="-1" strike="noStrike">
                <a:solidFill>
                  <a:srgbClr val="f63f1b"/>
                </a:solidFill>
                <a:latin typeface="Constantia"/>
              </a:rPr>
              <a:t>predator 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فترسات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y have a well-developed </a:t>
            </a:r>
            <a:r>
              <a:rPr b="0" lang="en-US" sz="2000" spc="-1" strike="noStrike">
                <a:solidFill>
                  <a:srgbClr val="f63f1b"/>
                </a:solidFill>
                <a:latin typeface="Constantia"/>
              </a:rPr>
              <a:t>nervous system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with a complex brain and well-developed sense orga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201600" y="981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1403280" y="109440"/>
            <a:ext cx="68421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3f1b"/>
                </a:solidFill>
                <a:latin typeface="Constantia"/>
              </a:rPr>
              <a:t>2- Class: 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Cephalopoda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رأسقدميات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              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.g.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ctopus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خطبوط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108000" y="1123920"/>
            <a:ext cx="885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103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ephalopods use rapid movements toward their prey which they capture with several long tentac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103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mantle covers the visceral mass, but the shell is reduced and internal in squid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حبار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missing in many octopu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Dell</cp:lastModifiedBy>
  <cp:lastPrinted>2001-01-06T03:20:03Z</cp:lastPrinted>
  <dcterms:modified xsi:type="dcterms:W3CDTF">2015-11-14T18:51:41Z</dcterms:modified>
  <cp:revision>402</cp:revision>
  <dc:subject/>
  <dc:title>Nerve activates contraction</dc:title>
</cp:coreProperties>
</file>