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3DF6-DCB2-4AFA-9F35-24027F653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17B9-26C9-44CB-9925-F25F4E33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096B-7BE6-4D42-822D-E90E90A18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10F0-D15D-4D32-BF0C-8DD6C83FE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1BDA-4CFA-4F1E-AE64-B8CACECAD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AD27-78EA-48BE-94DC-A6548102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CFCF-0D2D-4099-8BD2-C8A8C78F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7076-AF05-4E50-9665-AE4E7999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0315-823D-4216-81AF-95A061F5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8CF4-77B1-42F6-9B34-2D57C10A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7A2C-D764-4C6C-B75C-DF45C5C1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0EDE-CE61-4B40-85DC-F1B398BA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961A-7651-4F2F-B5AE-D3D443B4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8988-9B08-48AA-996D-B815784E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DE21-01A2-415B-AA0E-5EF3D3F8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13E6-E7D8-433D-B661-0539C9756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8A3B-C25F-4E7C-9794-8BF227202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C31E1-D238-455B-9D74-2C55F91A0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56015-0503-48E1-AB4F-397B4A14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51ECA-76B2-490F-AB75-150E9517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47B29-8BB5-4BC4-9856-0E82A072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1C47D-F5CB-44B7-903F-B0A40C16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169D-FC20-4BCE-959A-462BD0B9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8D75D-E234-4959-8056-08300161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75558-7321-4FDF-AEE2-8AC13896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3A561-9F18-4DC0-BA77-91B6C264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8039F-7DED-47B0-982B-283A3EB4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F2B40-FA30-4106-BF3E-CBB75C2D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73ED1-739A-45CB-B6AC-15C1036D4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468C3-A556-4F91-8F23-ABBB7A370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0196F-161B-4608-8881-AF96C7E27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C312C-9103-4072-ABF3-3A3412E4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1E431-5794-4CF3-95B8-062B40D4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B086-5A5E-4CEB-8AF3-9205711D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7B444-011E-4A26-9D5C-7CBB1BD3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5A3AA-607A-411B-94C7-CA141A37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5B04F-FE17-4EE3-B423-0E7042F1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A9A2B-A985-4E18-860B-995D93F0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95F18-CB5D-4FD9-92E1-15100394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A0520-782F-4619-BA00-646196BA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D22C0-C12B-421A-9046-3C695B2B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45A2F-CA7A-419D-8C25-6091D73CD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47161-55B6-48BC-876D-314DBF69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1A50-C22F-45A3-AACB-1F29440B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09F6-3B0D-43EC-8FBB-DAEFB764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7F88-90E1-45D7-8C51-A337C665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5483-B8DD-4E4C-B344-7C71CD8E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837B-7121-4CA0-85E5-239FB609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C35D-D9E9-4F0B-B45C-6503B2E05A5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DE00-9936-4A00-8196-145E4F833A5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5901-2DEB-4CD6-B686-EF2C3384860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3BE2-1444-4D7C-8DB2-556C193B666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3"/>
          <p:cNvSpPr/>
          <p:nvPr/>
        </p:nvSpPr>
        <p:spPr>
          <a:xfrm>
            <a:off x="1238400" y="2114640"/>
            <a:ext cx="6476760" cy="35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KINGDOM: ANIMAL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DIVIS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INVERTEB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ial"/>
              </a:rPr>
              <a:t>اللافقريات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(ليس لها عمود فِقَري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11360" y="580680"/>
            <a:ext cx="560376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6: Animal Classifica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250920" y="1735200"/>
            <a:ext cx="8686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llusca includes </a:t>
            </a: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snails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قواقع المائية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slugs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قواقع الأرضي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octopuses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أخطبو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nd </a:t>
            </a:r>
            <a:r>
              <a:rPr b="1" lang="en-US" sz="1800" spc="-1" strike="noStrike">
                <a:solidFill>
                  <a:srgbClr val="f63f1b"/>
                </a:solidFill>
                <a:latin typeface="Times New Roman"/>
                <a:ea typeface="Arial"/>
              </a:rPr>
              <a:t>squi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با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mollusks ar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ar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ough some inhabit fresh water, and some snails and slugs live on l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llusks are soft-bodied animals, but most are protected by a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hard she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صدفة قوي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calcium carbo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mollusks have a muscular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fo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locomotion, a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visceral m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جزء حشوي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most of the internal organs, and a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antle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رن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st mollusks have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parate sex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with gonads located in the visceral ma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, and some ar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hermaphrodit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8"/>
          <p:cNvSpPr/>
          <p:nvPr/>
        </p:nvSpPr>
        <p:spPr>
          <a:xfrm>
            <a:off x="20160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714240" y="63504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Phylum: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ollusca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شعبة</a:t>
            </a:r>
            <a:r>
              <a:rPr b="1" lang="ar-SA" sz="2000" spc="-1" strike="noStrike">
                <a:solidFill>
                  <a:srgbClr val="f63f1b"/>
                </a:solidFill>
                <a:latin typeface="Times New Roman"/>
                <a:ea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Majalla UI"/>
              </a:rPr>
              <a:t>الرخوي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6" descr=""/>
          <p:cNvPicPr/>
          <p:nvPr/>
        </p:nvPicPr>
        <p:blipFill>
          <a:blip r:embed="rId1"/>
          <a:srcRect l="0" t="0" r="0" b="5069"/>
          <a:stretch/>
        </p:blipFill>
        <p:spPr>
          <a:xfrm>
            <a:off x="1547640" y="2717640"/>
            <a:ext cx="7490160" cy="4096080"/>
          </a:xfrm>
          <a:prstGeom prst="rect">
            <a:avLst/>
          </a:prstGeom>
          <a:ln w="0">
            <a:noFill/>
          </a:ln>
        </p:spPr>
      </p:pic>
      <p:sp>
        <p:nvSpPr>
          <p:cNvPr id="201" name="Line 8"/>
          <p:cNvSpPr/>
          <p:nvPr/>
        </p:nvSpPr>
        <p:spPr>
          <a:xfrm>
            <a:off x="20160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403280" y="293760"/>
            <a:ext cx="727236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1- Class: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Gastropoda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طنقدمي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i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قوقع الحلزون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62240"/>
            <a:ext cx="8610480" cy="17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Most Gastropoda are </a:t>
            </a: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marine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, but there are also many freshwater speci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 anus and mantle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cavity are above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 head in adults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4143240" y="2286000"/>
            <a:ext cx="4965840" cy="3333600"/>
          </a:xfrm>
          <a:prstGeom prst="rect">
            <a:avLst/>
          </a:prstGeom>
          <a:ln w="0">
            <a:noFill/>
          </a:ln>
        </p:spPr>
      </p:pic>
      <p:sp>
        <p:nvSpPr>
          <p:cNvPr id="205" name="Line 8"/>
          <p:cNvSpPr/>
          <p:nvPr/>
        </p:nvSpPr>
        <p:spPr>
          <a:xfrm>
            <a:off x="20160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08000" y="1426680"/>
            <a:ext cx="8299440" cy="446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3600" indent="-1836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gastropods are protected by a spiraled shel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صدفة حلزون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74480" indent="-11304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ther species have lost                                                                                 their shells entirely and                                                                                 may have chemical                                                                                     defenses against predato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474480" indent="-113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any gastropods have distinct                                                                            heads with eyes at the tips of                                                                           tentacle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ملامس الرأس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move by their foo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ome species are predato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6" descr=""/>
          <p:cNvPicPr/>
          <p:nvPr/>
        </p:nvPicPr>
        <p:blipFill>
          <a:blip r:embed="rId1"/>
          <a:stretch/>
        </p:blipFill>
        <p:spPr>
          <a:xfrm>
            <a:off x="3249720" y="2809800"/>
            <a:ext cx="5859360" cy="39322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107640" y="2492280"/>
            <a:ext cx="30956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 foot of a cephalopod (“head foot”) has been modified into the                                                                                         muscular siphon and parts of the tentacl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ost octopuses live on the seafloo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ephalopods have an active, </a:t>
            </a:r>
            <a:r>
              <a:rPr b="1" lang="en-US" sz="1800" spc="-1" strike="noStrike">
                <a:solidFill>
                  <a:srgbClr val="f63f1b"/>
                </a:solidFill>
                <a:latin typeface="Constantia"/>
              </a:rPr>
              <a:t>predaceous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مفترسات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lifestyl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y have a well-developed </a:t>
            </a:r>
            <a:r>
              <a:rPr b="1" lang="en-US" sz="1800" spc="-1" strike="noStrike">
                <a:solidFill>
                  <a:srgbClr val="f63f1b"/>
                </a:solidFill>
                <a:latin typeface="Constantia"/>
              </a:rPr>
              <a:t>nervous system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with a complex brain and well-developed sense orga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201600" y="981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1403280" y="109440"/>
            <a:ext cx="68421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2- Class: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ephalopoda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رأسقدميات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topus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أخطبوط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250920" y="1123920"/>
            <a:ext cx="8713800" cy="13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phalopods use rapid movements toward their prey which they capture with several long tentac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mantle covers the visceral mass, but the shell is reduced and internal in squids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بار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ssing in many octopu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B)- Phylum:  Annelida 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  <a:cs typeface="Arial"/>
              </a:rPr>
              <a:t>الحلقيات</a:t>
            </a:r>
            <a:br>
              <a:rPr sz="2500"/>
            </a:b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Class: Oligochaeta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قليلات الأشواك</a:t>
            </a:r>
            <a:br>
              <a:rPr sz="2500"/>
            </a:b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.g. earthworm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Arial"/>
              </a:rPr>
              <a:t>دودة الأرض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28600" y="1660320"/>
            <a:ext cx="8686800" cy="50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ll annelids (“little rings”) have segmented bodi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nnelids live in the sea, most freshwater habitats, and damp soi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 coelom of the earthworm, a typical annelid, is partitioned by septa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مقسم بفواصل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, but the digestive tract, longitudinal blood vessels, and nerve cords penetrat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 septa and run the animal’s length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Most annelids, including earthworms, burrow in sand and sil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Line 5"/>
          <p:cNvSpPr/>
          <p:nvPr/>
        </p:nvSpPr>
        <p:spPr>
          <a:xfrm>
            <a:off x="152280" y="134136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672840"/>
            <a:ext cx="455760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e.g. Earthworm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560" y="1515600"/>
            <a:ext cx="83818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digestive system consists of a pharynx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مريء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 esophagu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بلعوم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crop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حوصل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gizzard 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قانص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d intestin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أمعاء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closed circulatory system carries blood with oxygen-carrying hemoglobin through dorsal and ventral vessels connected by segmental vess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each segment is a pair of excretory tubes,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metanephridi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كلية بدائ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at remove wastes from the blood and coelomic flui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arthworms are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cross-fertilizing hermaphrodite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ome earthworms can also reproduce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asexuall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by fragmentation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بالتقطيع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ollowed by regener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152280" y="134136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603520" y="0"/>
            <a:ext cx="63612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"/>
          <p:cNvSpPr/>
          <p:nvPr/>
        </p:nvSpPr>
        <p:spPr>
          <a:xfrm>
            <a:off x="142920" y="13287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arthw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Phylum Nematoda: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  <a:ea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شعبة النيماتودا (الديدان الخيطية)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Roundworms are pseudocoelomates covered by tough cuticles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جليد قوي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.g.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caris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07640" y="1679040"/>
            <a:ext cx="4608360" cy="483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oundworms are found in most aquatic habitats, wet soil, moist tissues of plants, and the body fluids and tissues of anima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ome species parasitize animals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تتطفل على الحيوان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range in length from less than 1 mm to more than a mete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body of Nematode is covered with a tough exoskeleton, the cutic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have a complete digestive tract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قناة هضمية كامل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ematodes usually engage in sexual reproduction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تكاثر الجنسي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179280" y="1484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rcRect l="0" t="5556" r="0" b="0"/>
          <a:stretch/>
        </p:blipFill>
        <p:spPr>
          <a:xfrm>
            <a:off x="4716360" y="1677960"/>
            <a:ext cx="432612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د أشرف مشالي</cp:lastModifiedBy>
  <cp:lastPrinted>2001-01-06T03:20:03Z</cp:lastPrinted>
  <dcterms:modified xsi:type="dcterms:W3CDTF">2013-09-01T08:48:05Z</dcterms:modified>
  <cp:revision>354</cp:revision>
  <dc:subject/>
  <dc:title>Nerve activates contraction</dc:title>
</cp:coreProperties>
</file>