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6E6B-1CBF-4E8C-8E5B-404C57045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9E4D-6D8C-4D65-8B80-8F8B2E9F7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CA41-D857-41EC-BC69-C67D82844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77ED-F69C-41E8-83F7-EEAF71DC1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FDC49-7EDD-4DBC-8BDD-B50CB7AEE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1F896-221E-4706-944A-BC821561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FE8CE-4791-44BB-9632-9EBC052D7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582AB-DA11-47AE-876C-4E004F574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75B57-58CB-47DA-B879-19DBCFD9B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16330-FAF7-4A19-AB73-7B08C342A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7603B-F789-4223-94AE-B9021D15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95CB-13D6-4E89-98C8-B97921837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0A5EB-63A5-4110-8EB4-9C73D467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094DA-AF81-4745-907F-BEC701BA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8A976-90AE-4DE9-BDA2-5D8204B09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291D6-A4F2-48C3-896C-BB45DF6C2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4E611-B653-4281-B6A9-C00DD8FC7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C79F9-49F1-4958-8978-0CAB8C2FE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18760-60CD-475B-A7E5-6310C550C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E99D9-4F0D-49CD-96F3-51E01F193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21417-833D-4FBF-BCF7-BC7D3020C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B151B-CAFF-442D-A13E-9B270FEB2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215C-6EF4-4AD8-BD35-DFE9E24EE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9FC8F-EC32-42B5-8B6A-F7575EC84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D11DA-9CFB-4473-A6C2-3BC6C39F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7DB62-80C9-4D49-BB91-DAEE908E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D379A-F4D6-47A5-BF50-C4A7AE92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C1C12-B54C-43F5-B955-3368C84FA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C9B3F-A445-4ACB-885D-0320E95A6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D9FD9-17D9-4E67-9755-4029B0FCC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284F2-53EF-4C12-A406-C056B6EAA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07D95-9570-48C7-A667-5AF3C136B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4C150-B802-463B-A539-849EB9125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8425-31C6-4CAA-87D0-6E06399B0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5618A-730D-492E-BC09-E6DDDA7AF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CF9B4-FA25-4C21-8096-84E3B74B7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AADC2-9296-46FC-9FC8-7603EC43D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FBDF7-55B8-46BE-B54E-3AA902B6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A011C-3539-4F9F-8FC8-D56EC294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A997C-E0EF-4CFF-A14B-240F3AAD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DE2EF-FC60-445E-A856-90B4C8D2D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730B6-51BB-4EC9-96CD-219FAA619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AFBAC-D3AD-4035-B4C2-B524E18C4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7ADA-6C2C-400A-A3D8-B6D5B07C6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3E5A-76F3-4C71-81A5-1E083279B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29AC-CC98-437A-B6DE-218F2E18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EF98-34BA-400B-89B3-3164CE18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3E3B-40C3-40AF-9E4E-08A14288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2ADC1-18C7-41AE-B751-2814D9C41F6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7F8C5-AFC1-4F3F-903F-9DDEF9717B2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DBC23-3054-4455-B642-BC1CBE4CF57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FFF83-DD4A-41DF-98B1-0275B362FF7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3"/>
          <p:cNvSpPr/>
          <p:nvPr/>
        </p:nvSpPr>
        <p:spPr>
          <a:xfrm>
            <a:off x="1238400" y="2114640"/>
            <a:ext cx="6476760" cy="35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KINGDOM: ANIMAL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DIVISIO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INVERTEBR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ial"/>
              </a:rPr>
              <a:t>اللافقريات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(ليس لها عمود فِقَري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611360" y="580680"/>
            <a:ext cx="5603760" cy="5619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ecture 16: Animal Classificatio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250920" y="1735200"/>
            <a:ext cx="8686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llusca includes </a:t>
            </a:r>
            <a:r>
              <a:rPr b="1" lang="en-US" sz="2000" spc="-1" strike="noStrike">
                <a:solidFill>
                  <a:srgbClr val="f63f1b"/>
                </a:solidFill>
                <a:latin typeface="Times New Roman"/>
              </a:rPr>
              <a:t>snails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قواقع المائية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000" spc="-1" strike="noStrike">
                <a:solidFill>
                  <a:srgbClr val="f63f1b"/>
                </a:solidFill>
                <a:latin typeface="Times New Roman"/>
              </a:rPr>
              <a:t>slugs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قواقع الأرضي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63f1b"/>
                </a:solidFill>
                <a:latin typeface="Times New Roman"/>
              </a:rPr>
              <a:t>octopuses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أخطبو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nd </a:t>
            </a:r>
            <a:r>
              <a:rPr b="1" lang="en-US" sz="1800" spc="-1" strike="noStrike">
                <a:solidFill>
                  <a:srgbClr val="f63f1b"/>
                </a:solidFill>
                <a:latin typeface="Times New Roman"/>
                <a:ea typeface="Arial"/>
              </a:rPr>
              <a:t>squi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حبا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t mollusks are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mari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though some inhabit fresh water, and some snails and slugs live on la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llusks are soft-bodied animals, but most are protected by a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hard she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صدفة قوي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calcium carbon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mollusks have a muscular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fo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locomotion, a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visceral m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جزء حشوي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most of the internal organs, and a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mantle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برن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st mollusks have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separate sexe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with gonads located in the visceral mas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, and some are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hermaphrodite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8"/>
          <p:cNvSpPr/>
          <p:nvPr/>
        </p:nvSpPr>
        <p:spPr>
          <a:xfrm>
            <a:off x="201600" y="1197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714240" y="63504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Phylum: 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Mollusca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rial"/>
              </a:rPr>
              <a:t>شعبة</a:t>
            </a:r>
            <a:r>
              <a:rPr b="1" lang="ar-SA" sz="2000" spc="-1" strike="noStrike">
                <a:solidFill>
                  <a:srgbClr val="f63f1b"/>
                </a:solidFill>
                <a:latin typeface="Times New Roman"/>
                <a:ea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Majalla UI"/>
              </a:rPr>
              <a:t>الرخوي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6" descr=""/>
          <p:cNvPicPr/>
          <p:nvPr/>
        </p:nvPicPr>
        <p:blipFill>
          <a:blip r:embed="rId1"/>
          <a:srcRect l="0" t="0" r="0" b="5069"/>
          <a:stretch/>
        </p:blipFill>
        <p:spPr>
          <a:xfrm>
            <a:off x="1547640" y="2717640"/>
            <a:ext cx="7490160" cy="4096080"/>
          </a:xfrm>
          <a:prstGeom prst="rect">
            <a:avLst/>
          </a:prstGeom>
          <a:ln w="0">
            <a:noFill/>
          </a:ln>
        </p:spPr>
      </p:pic>
      <p:sp>
        <p:nvSpPr>
          <p:cNvPr id="201" name="Line 8"/>
          <p:cNvSpPr/>
          <p:nvPr/>
        </p:nvSpPr>
        <p:spPr>
          <a:xfrm>
            <a:off x="201600" y="1197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1403280" y="293760"/>
            <a:ext cx="7272360" cy="9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1- Class: 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Gastropoda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بطنقدميات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nai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قوقع الحلزون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62240"/>
            <a:ext cx="8610480" cy="179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Most Gastropoda are </a:t>
            </a:r>
            <a:r>
              <a:rPr b="1" lang="en-US" sz="2200" spc="-1" strike="noStrike">
                <a:solidFill>
                  <a:srgbClr val="0000ff"/>
                </a:solidFill>
                <a:latin typeface="Constantia"/>
              </a:rPr>
              <a:t>marine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, but there are also many freshwater specie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he anus and mantle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cavity are above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he head in adults.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6" descr=""/>
          <p:cNvPicPr/>
          <p:nvPr/>
        </p:nvPicPr>
        <p:blipFill>
          <a:blip r:embed="rId1"/>
          <a:stretch/>
        </p:blipFill>
        <p:spPr>
          <a:xfrm>
            <a:off x="4143240" y="2286000"/>
            <a:ext cx="4965840" cy="3333600"/>
          </a:xfrm>
          <a:prstGeom prst="rect">
            <a:avLst/>
          </a:prstGeom>
          <a:ln w="0">
            <a:noFill/>
          </a:ln>
        </p:spPr>
      </p:pic>
      <p:sp>
        <p:nvSpPr>
          <p:cNvPr id="205" name="Line 8"/>
          <p:cNvSpPr/>
          <p:nvPr/>
        </p:nvSpPr>
        <p:spPr>
          <a:xfrm>
            <a:off x="201600" y="1197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08000" y="1426680"/>
            <a:ext cx="8299440" cy="446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83600" indent="-18360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ost gastropods are protected by a spiraled shell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صدفة حلزوني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74480" indent="-11304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ther species have lost                                                                                 their shells entirely and                                                                                 may have chemical                                                                                     defenses against predator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474480" indent="-113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183600" indent="-183600"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any gastropods have distinct                                                                            heads with eyes at the tips of                                                                           tentacles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ملامس الرأسي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3600" indent="-18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3600" indent="-183600"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y move by their foo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3600" indent="-18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3600" indent="-183600"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Some species are predator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6" descr=""/>
          <p:cNvPicPr/>
          <p:nvPr/>
        </p:nvPicPr>
        <p:blipFill>
          <a:blip r:embed="rId1"/>
          <a:stretch/>
        </p:blipFill>
        <p:spPr>
          <a:xfrm>
            <a:off x="3249720" y="2809800"/>
            <a:ext cx="5859360" cy="39322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107640" y="2492280"/>
            <a:ext cx="30956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The foot of a cephalopod (“head foot”) has been modified into the                                                                                         muscular siphon and parts of the tentacl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ost octopuses live on the seafloo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Cephalopods have an active, </a:t>
            </a:r>
            <a:r>
              <a:rPr b="1" lang="en-US" sz="1800" spc="-1" strike="noStrike">
                <a:solidFill>
                  <a:srgbClr val="f63f1b"/>
                </a:solidFill>
                <a:latin typeface="Constantia"/>
              </a:rPr>
              <a:t>predaceous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Arial"/>
              </a:rPr>
              <a:t>مفترسات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lifestyl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y have a well-developed </a:t>
            </a:r>
            <a:r>
              <a:rPr b="1" lang="en-US" sz="1800" spc="-1" strike="noStrike">
                <a:solidFill>
                  <a:srgbClr val="f63f1b"/>
                </a:solidFill>
                <a:latin typeface="Constantia"/>
              </a:rPr>
              <a:t>nervous system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with a complex brain and well-developed sense organ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Line 8"/>
          <p:cNvSpPr/>
          <p:nvPr/>
        </p:nvSpPr>
        <p:spPr>
          <a:xfrm>
            <a:off x="201600" y="981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1403280" y="109440"/>
            <a:ext cx="68421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2- Class: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ephalopoda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رأسقدميات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topus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أخطبوط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250920" y="1123920"/>
            <a:ext cx="8713800" cy="13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ephalopods use rapid movements toward their prey which they capture with several long tentac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mantle covers the visceral mass, but the shell is reduced and internal in squids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حبار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issing in many octopu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9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8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ff"/>
                </a:solidFill>
                <a:latin typeface="Calibri"/>
              </a:rPr>
              <a:t>B)- Phylum:  Annelida </a:t>
            </a:r>
            <a:r>
              <a:rPr b="1" lang="ar-SA" sz="2500" spc="-1" strike="noStrike">
                <a:solidFill>
                  <a:srgbClr val="000000"/>
                </a:solidFill>
                <a:latin typeface="Calibri"/>
                <a:cs typeface="Arial"/>
              </a:rPr>
              <a:t>الحلقيات</a:t>
            </a:r>
            <a:br>
              <a:rPr sz="2500"/>
            </a:b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Class: Oligochaeta</a:t>
            </a: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قليلات الأشواك</a:t>
            </a:r>
            <a:br>
              <a:rPr sz="2500"/>
            </a:b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.g. earthworm </a:t>
            </a:r>
            <a:r>
              <a:rPr b="1" lang="ar-SA" sz="1600" spc="-1" strike="noStrike">
                <a:solidFill>
                  <a:srgbClr val="000000"/>
                </a:solidFill>
                <a:latin typeface="Calibri"/>
                <a:cs typeface="Arial"/>
              </a:rPr>
              <a:t>دودة الأرض</a:t>
            </a:r>
            <a:endParaRPr b="0" lang="en-US" sz="1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28600" y="1660320"/>
            <a:ext cx="8686800" cy="50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All annelids (“little rings”) have segmented bodi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Annelids live in the sea, most freshwater habitats, and damp soil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The coelom of the earthworm, a typical annelid, is partitioned by septa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مقسم بفواصل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, but the digestive tract, longitudinal blood vessels, and nerve cords penetrat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the septa and run the animal’s length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nstantia"/>
              </a:rPr>
              <a:t>Most annelids, including earthworms, burrow in sand and sil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Line 5"/>
          <p:cNvSpPr/>
          <p:nvPr/>
        </p:nvSpPr>
        <p:spPr>
          <a:xfrm>
            <a:off x="152280" y="134136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600" y="672840"/>
            <a:ext cx="4557600" cy="7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8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e.g. Earthworm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560" y="1515600"/>
            <a:ext cx="838188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digestive system consists of a pharynx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مريء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an esophagus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بلعوم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crop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حوصل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gizzard 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قانص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and intestine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أمعاء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closed circulatory system carries blood with oxygen-carrying hemoglobin through dorsal and ventral vessels connected by segmental vesse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n each segment is a pair of excretory tubes, 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metanephridia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كلية بدائية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at remove wastes from the blood and coelomic flui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arthworms are 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cross-fertilizing hermaphrodite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ome earthworms can also reproduce 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asexually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by fragmentation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بالتقطيع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followed by regenera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Line 5"/>
          <p:cNvSpPr/>
          <p:nvPr/>
        </p:nvSpPr>
        <p:spPr>
          <a:xfrm>
            <a:off x="152280" y="134136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2603520" y="0"/>
            <a:ext cx="63612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7"/>
          <p:cNvSpPr/>
          <p:nvPr/>
        </p:nvSpPr>
        <p:spPr>
          <a:xfrm>
            <a:off x="142920" y="13287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arthw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10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Phylum Nematoda: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  <a:ea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شعبة النيماتودا (الديدان الخيطية)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Roundworms are pseudocoelomates covered by tough cuticles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جليد قوي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.g.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scaris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07640" y="1679040"/>
            <a:ext cx="4608360" cy="483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Roundworms are found in most aquatic habitats, wet soil, moist tissues of plants, and the body fluids and tissues of anima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Some species parasitize animals </a:t>
            </a:r>
            <a:r>
              <a:rPr b="1" lang="ar-SA" sz="1600" spc="-1" strike="noStrike">
                <a:solidFill>
                  <a:srgbClr val="000000"/>
                </a:solidFill>
                <a:latin typeface="Constantia"/>
                <a:cs typeface="Arial"/>
              </a:rPr>
              <a:t>تتطفل على الحيوان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y range in length from less than 1 mm to more than a mete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body of Nematode is covered with a tough exoskeleton, the cuticl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y have a complete digestive tract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قناة هضمية كامل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Nematodes usually engage in sexual reproduction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تكاثر الجنسي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Line 5"/>
          <p:cNvSpPr/>
          <p:nvPr/>
        </p:nvSpPr>
        <p:spPr>
          <a:xfrm>
            <a:off x="179280" y="14842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6" descr=""/>
          <p:cNvPicPr/>
          <p:nvPr/>
        </p:nvPicPr>
        <p:blipFill>
          <a:blip r:embed="rId1"/>
          <a:srcRect l="0" t="5556" r="0" b="0"/>
          <a:stretch/>
        </p:blipFill>
        <p:spPr>
          <a:xfrm>
            <a:off x="4716360" y="1677960"/>
            <a:ext cx="4326120" cy="51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1:39:32Z</dcterms:created>
  <dc:creator>Karl Miyajima</dc:creator>
  <dc:description/>
  <dc:language>en-US</dc:language>
  <cp:lastModifiedBy>د أشرف مشالي</cp:lastModifiedBy>
  <cp:lastPrinted>2001-01-06T03:20:03Z</cp:lastPrinted>
  <dcterms:modified xsi:type="dcterms:W3CDTF">2013-09-01T08:48:05Z</dcterms:modified>
  <cp:revision>354</cp:revision>
  <dc:subject/>
  <dc:title>Nerve activates contraction</dc:title>
</cp:coreProperties>
</file>