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DD7-3E5B-436A-B7DE-B67C29F8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4F2-F70C-4BB6-B69C-2E410EB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EFF-AEFA-4400-AF36-CA88C26A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546-9DD5-4605-966B-579455D5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CF91-2601-44F6-9BB8-BAB652E8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3DD-1A09-4432-A6B8-AFC74BE9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321-DA66-4C8D-926F-D12644A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A1A-82AA-4803-8A1E-34B012F3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FC8A-C52F-44A5-B3DF-FE4E2EC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BC2D-B904-4D73-96C6-94DA45E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BBAD-8EF0-480A-AE1D-7A6D4B8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E34-94A3-4DD2-8877-4398141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C43-81EA-4C7A-B127-A5C054D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474-0D4D-45EE-A4B3-C2BBAA5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877-848D-4D2D-B63E-4401D843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F8A-8580-4C85-B463-CB46621B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A95-28C5-464A-975E-6366B9D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AD41-D768-49CC-A6FC-AEDEE12E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F98C-ADAF-480F-87F3-D67B5D9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AFD0-50E8-497E-AAFD-053F093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63B1-5897-46CA-8C86-86F701CA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189C-FC3D-4DD2-9277-B12EE06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928-DF0A-4261-BD08-7B62089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80A5-0DBE-4707-B9B2-8D74997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5F48-DCDC-45FC-87B8-4176229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1A55-40BB-42CC-8A35-FCB18F8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1D36-B9C4-46C6-9D92-65DCDA4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0851-D3AA-4EB1-99D0-9E73A2A2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ECF0-03B7-4268-BCDE-26B89CC5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2C26-A65F-4655-A4FF-A856A9BA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288F-92D0-4D18-A3C1-09036898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8299-2D75-4B15-89DA-CA9CB971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5993-7616-4EFA-B0CF-238691B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5DA-8192-45D6-991F-5725C85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2567-095C-47AF-996C-03F32810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386D-615B-4B12-99E8-5C85F4B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4C7D-0509-4D07-97C8-E835A6F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D374-FFE0-41C0-8A7F-2E73E12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8A81-B9B1-490F-A6CC-08E08CD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0C80-AD96-462E-AFBE-F3AA5AF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9725-CB4D-41F1-AFCC-FF2576F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A42A-2BA7-4D6F-9990-D3BEA345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F96C-F54B-4848-BB5D-458AE726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8A3-1479-4D05-852F-F8A878C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4D8-A645-4549-A2A7-25804AF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442-B3D3-4418-8E25-580ACB8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4F0-5F69-403F-8DFB-12E0DE1F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C33-26E2-4DD5-8268-364545A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7727-0412-48BA-AC36-46ABDD4271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1B8F-CA93-499F-ADAB-F73F14897A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D130-6AED-4BDD-A45D-6B71D1DD01F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DB5-E03C-4D05-BB70-4A9C69CC62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3:24Z</dcterms:modified>
  <cp:revision>354</cp:revision>
  <dc:subject/>
  <dc:title>Nerve activates contraction</dc:title>
</cp:coreProperties>
</file>