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E79-C46A-4E03-8A5B-9A5093C9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4FD-C8E6-42BD-A706-E969E1A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022-DD4C-4E59-BAC0-BE14E807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9EB-D7A3-4979-9234-C9FB0EFC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A022-DBF1-46AE-BD27-2BE03003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050D-B919-4838-B890-2287B121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7D57-C3C6-457F-B93E-822AC1BD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6AAB-FBF9-43DB-9FB2-5F4C11E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1FAC-2581-40D4-8B84-6AB372EE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BE50-CD92-4445-B4DD-2CA8A9C8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1D7A-AFA5-4AC9-A3FB-20119720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98D-C15A-42E5-BEBB-C560AC1F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A17A-DC9F-478D-BA94-AE636169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E847-184D-4309-953E-7C20AA6D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C5F3-2084-4782-8436-28CB2A3A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14FC-363A-4F48-BAFB-2A2A1E55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B8EE-6D2B-4DA2-B97F-70743B6F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78AFE-F739-4B4D-85EA-0BC26154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05A3-5E59-4E65-856F-17D87FF8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CBA0-BF47-43BB-8A4C-A288B3CB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4D46-DDFC-44C9-A60B-9EE13612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1FA2-A18D-41B0-A137-BEF37CA7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69E-C2E0-4AA2-8E31-F8E92A22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D012-CB13-4E56-8E6C-DC406EC6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09BF-F5B1-4E56-8B05-BD142E2D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3A04-6169-4C9E-9788-ACA86F87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0A612-E4AA-455E-8ECB-E091AA39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052D-42E0-4A8A-B1A5-A80934F6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B586-B26D-4594-BE46-90BE5C79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8C3C-491F-44AF-8098-CD39603F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5AEA-3E90-425E-BA55-18081077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68CFA-820C-44F6-8AE9-D365DB1D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16261-F67B-4E1E-94DF-B95E10DB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C58-B8EE-4123-A9B5-838EFED0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D669-8402-49D3-8DFB-93F6F8A0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23287-BCAC-4ABE-A28A-BCBF52E8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DDE2A-4C20-4F8A-8A31-74A1DA75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00CC5-360E-4FB2-88A7-52466FD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9388-91DB-4505-809B-CCCFDE9E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76B62-FD03-4495-A986-8A17DC7C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4543-CC0D-4481-AB31-F498A432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54C99-0A1E-4A24-90DA-5F5E0FAD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1DF3-D2A0-42DF-9BF0-AFCE935E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2B4-81F0-4BD3-A518-86004D0C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6B9-0C93-4A3A-9D16-53E7F71A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8A9-492D-4BC4-AF28-118E4C0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5F4-A2F8-424D-B750-28351073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072-5705-485F-A7B4-FE10610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B533-6DCB-4452-8BED-DA6272EA6AA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C5CA-4B83-4995-A3E4-F65EABE918E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B506-BAF0-49F6-8FE6-B990CA752F7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042C-E5D1-40F0-A9C7-F922A5E022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4-08-27T10:23:24Z</dcterms:modified>
  <cp:revision>354</cp:revision>
  <dc:subject/>
  <dc:title>Nerve activates contraction</dc:title>
</cp:coreProperties>
</file>