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B93-10A2-490B-A814-64D03C33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7DA-EC08-42C3-9900-691E3C31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701-260F-49B1-A421-0D3F78C3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FCC-4295-4D18-B890-7ED8AE5A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CBA9-5D11-4605-A78A-F4B25AEA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8AE0-0FFA-4041-BCA1-AA7ED1B7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1DA1-5D8B-4276-A6D3-FE4F8636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C383-5E0A-4346-B97C-C40A45D0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9FE5-8398-4367-ACE9-AC62CEC4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D0CD-D026-4987-A25F-CEF84810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EBCC-B25D-45CD-8CCC-265BEC2C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65C-6E01-45D9-A192-39479549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8CC7-5003-4C32-B545-A720907A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1AF4-11D8-4DAB-A4DC-B75EF91F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C6CC-BB45-49F2-AC8B-30FBFAA1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2707-89E2-4FB4-AB7D-81905ECE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04FC-0ED5-48EF-BF93-9469C25C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6A3B2-DAF2-4619-A0FF-D0615A24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472DD-1E00-4C6E-905C-85DE8F8E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06D24-4C0B-470F-BF04-D58923F4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086D2-52F8-4F00-B806-1250C884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33651-4576-4124-ADA7-6EE1FA28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400-1C0B-41F2-ABF7-9A4EAD0A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53F17-85C4-454E-B10C-ECFD3FB7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D5C8E-D4AE-4DB9-8988-684E46BD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26E19-1025-4269-B721-37BC1E8E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F2D6C-3051-41F1-9F2B-B319BA84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AE651-67A2-4376-9A52-C31BE306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2C976-BA37-498B-9040-376653C2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4A406-3039-4BDF-9AF1-1B52184B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002AA-E97A-456A-8886-61EFCE28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252B6-18FF-402A-BB20-C785091E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745A7-A8B9-415F-ABBD-54A04E9A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2CB-11AE-4A19-9970-782FFCFE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BCC41-C024-4B34-8F81-C8242115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2B940-C907-47F8-971A-A58B368F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38011-2747-4ED8-BAA8-0EAF6295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E732A-8F40-4980-98A0-CEF241BA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D24A7-EBCC-4024-B551-9B1183E6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D9897-840B-4EC8-934F-16753963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21C6B-CE4D-4229-8E9E-F3CD6889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CA5D0-D15C-42E1-938C-8A12B590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750D2-CB94-47BA-A347-8ECB5741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14A-DC68-4665-B643-3DEC3D63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28A-EC37-40FC-85B1-596F97B4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E26-A223-4630-9343-0BC5539C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9FA-F99F-4DF8-A995-CDC64ABC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226-507D-4E2C-9948-935B9020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E9C4-2BF8-4721-B71C-5FCDA90AA2D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8FD1-EEDF-4C41-BDF1-D08624B83E1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37B9-065C-4E32-96A9-FB1F26CABBA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0868-DCA6-4871-BD62-0132BC1C0FB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238400" y="2114640"/>
            <a:ext cx="647676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KINGDOM: ANIMA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VI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ial"/>
              </a:rPr>
              <a:t>اللافقريات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ليس لها عمود فِقَري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1360" y="580680"/>
            <a:ext cx="560376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6: Animal Classific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250920" y="1735200"/>
            <a:ext cx="8686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ca includes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nail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مائ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lug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أرض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octopuse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nd </a:t>
            </a:r>
            <a:r>
              <a:rPr b="1" lang="en-US" sz="1800" spc="-1" strike="noStrike">
                <a:solidFill>
                  <a:srgbClr val="f63f1b"/>
                </a:solidFill>
                <a:latin typeface="Times New Roman"/>
                <a:ea typeface="Arial"/>
              </a:rPr>
              <a:t>squi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mollusks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r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ough some inhabit fresh water, and some snails and slugs live on 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ks are soft-bodied animals, but most are protected by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ard sh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صدفة قو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lcium carbo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ollusks have a muscula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locomotion,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isceral 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جزء حشو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most of the internal organs, and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ntl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رن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mollusks have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parate sex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ith gonads located in the visceral m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some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ermaphrodi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14240" y="6350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Phylum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llusc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شعبة</a:t>
            </a:r>
            <a:r>
              <a:rPr b="1" lang="ar-SA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رخو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1547640" y="2717640"/>
            <a:ext cx="7490160" cy="4096080"/>
          </a:xfrm>
          <a:prstGeom prst="rect">
            <a:avLst/>
          </a:prstGeom>
          <a:ln w="0">
            <a:noFill/>
          </a:ln>
        </p:spPr>
      </p:pic>
      <p:sp>
        <p:nvSpPr>
          <p:cNvPr id="201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03280" y="293760"/>
            <a:ext cx="72723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1- Class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astropod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طنقدم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قع الحلزون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62240"/>
            <a:ext cx="861048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Gastropoda are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but there are also many freshwater spec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anus and mantl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cavity are abov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head in adults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4143240" y="2286000"/>
            <a:ext cx="4965840" cy="3333600"/>
          </a:xfrm>
          <a:prstGeom prst="rect">
            <a:avLst/>
          </a:prstGeom>
          <a:ln w="0">
            <a:noFill/>
          </a:ln>
        </p:spPr>
      </p:pic>
      <p:sp>
        <p:nvSpPr>
          <p:cNvPr id="205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000" y="1426680"/>
            <a:ext cx="8299440" cy="446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3600" indent="-1836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gastropods are protected by a spiraled sh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صدفة حلزون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ther species have lost                                                                                 their shells entirely and                                                                                 may have chemical                                                                                     defenses against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gastropods have distinct                                                                            heads with eyes at the tips of                                                                           tentacl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لامس الرأ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ove by their foo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are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3249720" y="2809800"/>
            <a:ext cx="5859360" cy="3932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07640" y="2492280"/>
            <a:ext cx="3095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foot of a cephalopod (“head foot”) has been modified into the                                                                                         muscular siphon and parts of the tentac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ost octopuses live on the seafloo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phalopods have an active,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predaceou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مفترس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ifesty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ave a well-developed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nervous system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ith a complex brain and well-developed sense org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20160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03280" y="109440"/>
            <a:ext cx="68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2- Class: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ephalopoda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رأسقدمي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pu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1123920"/>
            <a:ext cx="871380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phalopods use rapid movements toward their prey which they capture with several long tentac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antle covers the visceral mass, but the shell is reduced and internal in squid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ng in many octopu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B)- Phylum:  Annelida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الحلقيات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lass: Oligochaeta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قليلات الأشواك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.g. earthworm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دودة الأرض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660320"/>
            <a:ext cx="8686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ll annelids (“little rings”) have segmented bod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nelids live in the sea, most freshwater habitats, and damp soi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coelom of the earthworm, a typical annelid, is partitioned by sep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قسم بفواصل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but the digestive tract, longitudinal blood vessels, and nerve cords penetra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septa and run the animal’s leng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Most annelids, including earthworms, burrow in sand and sil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672840"/>
            <a:ext cx="45576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e.g. Earthwo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560" y="1515600"/>
            <a:ext cx="8381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gestive system consists of a pharynx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ري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esophagu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لعو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crop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حوص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gizzard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انص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intestin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أمع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each segment is a pair of excretory tubes,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metanephrid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كلية بدائ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rthworms ar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cross-fertilizing hermaphrodit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earthworms can also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fragmenta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التقط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llowed by re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603520" y="0"/>
            <a:ext cx="63612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142920" y="13287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hylum Nematoda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عبة النيماتودا (الديدان الخيطية)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Roundworms are pseudocoelomates covered by tough cuticles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جليد قوي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.g.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cari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7640" y="1679040"/>
            <a:ext cx="4608360" cy="48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oundworms are found in most aquatic habitats, wet soil, moist tissues of plants, and the body fluids and tissues of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parasitize animals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 الحيوان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range in length from less than 1 mm to more than a me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ody of Nematode is covered with a tough exoskeleton, the cuti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have a complete digestive tract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ناة هضمية كام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matodes usually engage in sexual reproduc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كاثر الجنس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79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4716360" y="1677960"/>
            <a:ext cx="43261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8:05Z</dcterms:modified>
  <cp:revision>354</cp:revision>
  <dc:subject/>
  <dc:title>Nerve activates contraction</dc:title>
</cp:coreProperties>
</file>