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312-941A-44BD-9251-A52D6AD5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C71-C376-4F09-869C-39A0A5DD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018-499D-4F4D-A5C6-0B065735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B33-A591-406C-B734-48EF5785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337F-8607-43BD-B44C-443280D4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6644-4ACB-4E12-988E-8426A8BD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D0F0-ED3D-4041-B316-5A9ED9F5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91B2-6792-42FB-8B67-BD49E62F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5B94-BA30-4727-800F-E71EA12B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0F1E-3630-41B1-B760-3BA25A0D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2050-2B42-4AAD-802F-4718407D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630-E3A0-4C04-ABA7-8F592E3D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9234-7A17-4106-B56F-A697E20F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DF18-CDE7-4A85-83A2-E5B17339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9AE2-2B5F-4CC6-BCDA-DEF7D1DB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2F36-1028-4E13-9CD9-2679BBF6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A4AB-4FDF-4A5B-A2FD-AF31C362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E0EC-760C-4E69-AE87-40B5B27D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F3ED-F2DB-48A2-8F5A-8A39B4F2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E41B-7490-4630-A7A2-3FB93B37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B01E-1515-4CD9-B0CC-4C715512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289F-4BD3-4F21-98F9-583D7B9A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2CA-B134-44AE-82A0-0CBD5A75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61F7-F0D6-45BB-86ED-EADEAAA0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E40E-9560-499D-A143-5693592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59C3-5E3B-4F6B-94D2-1B01D3F6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C7BA-27D9-4CDF-A227-2E52BC6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0F551-914F-4B7B-8135-D7F78817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FF3F8-8A04-4973-AD14-306BD023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B974-B070-4DA3-93B3-31331585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2A910-E3D3-42C3-97E7-7E1963D6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A246C-AD37-46DC-B4B8-840A9AE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38404-844E-4AB7-82CC-85147763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DE6-DDFB-4CF9-9BAD-CCDB5BA0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D7275-48E5-4B37-8D52-F415EFFA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6F8D5-3DAC-40A9-8CD9-6603104D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D026-67B8-4DB8-9136-99BEFEB3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0EBD-703F-4C8C-B287-6C167DE4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E26D-8209-4E14-9209-B12F817C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7C84-485D-4A9A-8B14-ED220C4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3D57F-1C3F-4727-A1BC-7E346E03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FBA00-87DF-4B78-B38D-8FEEF0CE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B3B31-67E3-4DD6-8082-C53B6A26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E4D-3A8C-467A-83E0-2B697EB0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B21-282B-4F26-BFA7-2A23433B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71F-85D9-4DF7-A9A3-76A5C75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1CB-D12D-4F7B-8F87-32E53490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1F7-530A-48B8-9D5C-78D7FCB9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CD24-27BC-469C-A524-CF63B89A55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8C49-D6B4-4B8B-8BD5-72F172BE85D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66B0-8EBF-465F-A0B4-9EFB1356637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585D-2810-435F-86F7-27EDF52DC6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8:05Z</dcterms:modified>
  <cp:revision>354</cp:revision>
  <dc:subject/>
  <dc:title>Nerve activates contraction</dc:title>
</cp:coreProperties>
</file>