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8BA9-1A80-4238-9B1B-34144EEA86B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FF4E-1B54-4470-98A0-E14A8B51075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AE1C-1D5D-41CC-BCD0-E97104C2F55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4E49-0A3B-4F4E-9E6C-83F57A2C460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2467-DC21-4C3A-898F-52BDE89E85F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8FF6-07BD-4C0E-B641-595CC5BF4D2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8E42-A10A-4A3D-9466-3E760C76248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503A-A912-4402-A8CC-3611A9B8DC7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0BCA-3C5E-4B2E-8CC1-59EAA7B7874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78C8-7EBE-42BC-8DB8-13693ADB384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5CDE-C36A-41D6-A060-FA2801AB2EC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4A0A-A857-4A65-8988-91CF485AB90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C11E-B768-40D2-B07E-F407D421E58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888C-DA21-4DCD-9174-09BB48F21DE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87ED-1C56-48EB-A884-EC6F841FAF0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F618-3A69-4BE6-944E-2E4156B19EA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0251-B3EE-4416-B26F-AC1DB13F17A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F16E-D790-4049-B5C0-7204F454C34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3DAC-A141-4206-BB0D-7B47C27F8F1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3DDB-C4D8-41C2-83ED-8E312317CFB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E16C-6311-4B12-A527-8E1F3B61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8DC9-B3A9-4624-8044-C461696D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AB9-EADF-47BB-9823-508558C7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2F1-FEFD-4EDB-A93F-CE1638F0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391B-543B-4499-917D-5B82EBE4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4D9-D478-4EAD-A77D-B6C90E99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C174-368E-4C87-B9DC-A59A1CAB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3294-7447-4194-8C98-C8CCE2A6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94F-A87A-4AA9-B560-8FD014F9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EF2D-A682-4EE8-81F8-11C647AD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C33-9F6E-4270-B354-A0F1D2F5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077-7F47-4C09-9BCA-323C12D9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53F2-4B9A-4023-9BAC-73A1A6C918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B1B9-9749-43D3-AA15-A1ED624D0F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2"/>
          <p:cNvSpPr/>
          <p:nvPr/>
        </p:nvSpPr>
        <p:spPr>
          <a:xfrm rot="18849000">
            <a:off x="437760" y="1869840"/>
            <a:ext cx="2581200" cy="20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50760" y="30240"/>
            <a:ext cx="1752480" cy="1366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1523880" y="1080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1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IOSIS AND SEXUAL                                    LIFE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24"/>
          <p:cNvGrpSpPr/>
          <p:nvPr/>
        </p:nvGrpSpPr>
        <p:grpSpPr>
          <a:xfrm>
            <a:off x="228600" y="1712880"/>
            <a:ext cx="8381880" cy="4611600"/>
            <a:chOff x="228600" y="1712880"/>
            <a:chExt cx="8381880" cy="4611600"/>
          </a:xfrm>
        </p:grpSpPr>
        <p:sp>
          <p:nvSpPr>
            <p:cNvPr id="56" name="Text Box 7"/>
            <p:cNvSpPr/>
            <p:nvPr/>
          </p:nvSpPr>
          <p:spPr>
            <a:xfrm>
              <a:off x="685800" y="1712880"/>
              <a:ext cx="7785000" cy="6426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cc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Bef>
                  <a:spcPts val="1500"/>
                </a:spcBef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ection B: The Role of Meiosis in Sexual Life Cy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2"/>
            <p:cNvGrpSpPr/>
            <p:nvPr/>
          </p:nvGrpSpPr>
          <p:grpSpPr>
            <a:xfrm>
              <a:off x="228600" y="2514600"/>
              <a:ext cx="8267760" cy="3809880"/>
              <a:chOff x="228600" y="2514600"/>
              <a:chExt cx="8267760" cy="3809880"/>
            </a:xfrm>
          </p:grpSpPr>
          <p:pic>
            <p:nvPicPr>
              <p:cNvPr id="58" name="Picture 16" descr=""/>
              <p:cNvPicPr/>
              <p:nvPr/>
            </p:nvPicPr>
            <p:blipFill>
              <a:blip r:embed="rId3"/>
              <a:srcRect l="0" t="0" r="56038" b="5551"/>
              <a:stretch/>
            </p:blipFill>
            <p:spPr>
              <a:xfrm rot="16200000">
                <a:off x="2151000" y="973080"/>
                <a:ext cx="3556080" cy="69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Rectangle 17"/>
              <p:cNvSpPr/>
              <p:nvPr/>
            </p:nvSpPr>
            <p:spPr>
              <a:xfrm>
                <a:off x="4419360" y="2666880"/>
                <a:ext cx="3122640" cy="3581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" name="Pictur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4457520" y="2844720"/>
                <a:ext cx="4038840" cy="316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Rectangle 19"/>
              <p:cNvSpPr/>
              <p:nvPr/>
            </p:nvSpPr>
            <p:spPr>
              <a:xfrm>
                <a:off x="228600" y="2514600"/>
                <a:ext cx="42670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0"/>
              <p:cNvSpPr/>
              <p:nvPr/>
            </p:nvSpPr>
            <p:spPr>
              <a:xfrm rot="5400000">
                <a:off x="-1333800" y="4381200"/>
                <a:ext cx="358128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1"/>
              <p:cNvSpPr/>
              <p:nvPr/>
            </p:nvSpPr>
            <p:spPr>
              <a:xfrm>
                <a:off x="380880" y="6019920"/>
                <a:ext cx="42670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Rectangle 23"/>
            <p:cNvSpPr/>
            <p:nvPr/>
          </p:nvSpPr>
          <p:spPr>
            <a:xfrm>
              <a:off x="507960" y="2743200"/>
              <a:ext cx="8102520" cy="33526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0F99-BDF3-4FCD-862B-CDEC101C27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rcRect l="0" t="25499" r="75008" b="5899"/>
          <a:stretch/>
        </p:blipFill>
        <p:spPr>
          <a:xfrm>
            <a:off x="6980400" y="0"/>
            <a:ext cx="2163600" cy="40384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4269960" y="3048120"/>
            <a:ext cx="77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3.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8077320" y="4114800"/>
            <a:ext cx="3045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14600" y="1523880"/>
            <a:ext cx="4648320" cy="6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1)- interph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chromosomes are replicated to form sister chromat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76320" y="76320"/>
            <a:ext cx="281916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ei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1371600" y="838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)- Meios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s very similar to mit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2"/>
          <p:cNvGrpSpPr/>
          <p:nvPr/>
        </p:nvGrpSpPr>
        <p:grpSpPr>
          <a:xfrm>
            <a:off x="0" y="1981080"/>
            <a:ext cx="9144000" cy="4719600"/>
            <a:chOff x="0" y="1981080"/>
            <a:chExt cx="9144000" cy="4719600"/>
          </a:xfrm>
        </p:grpSpPr>
        <p:pic>
          <p:nvPicPr>
            <p:cNvPr id="117" name="Picture 7" descr=""/>
            <p:cNvPicPr/>
            <p:nvPr/>
          </p:nvPicPr>
          <p:blipFill>
            <a:blip r:embed="rId2"/>
            <a:srcRect l="25828" t="26721" r="51680" b="3446"/>
            <a:stretch/>
          </p:blipFill>
          <p:spPr>
            <a:xfrm>
              <a:off x="0" y="1981080"/>
              <a:ext cx="222876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8"/>
            <p:cNvSpPr/>
            <p:nvPr/>
          </p:nvSpPr>
          <p:spPr>
            <a:xfrm>
              <a:off x="2286000" y="4138560"/>
              <a:ext cx="6858000" cy="25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Arial"/>
                </a:rPr>
                <a:t>2)- Prophase </a:t>
              </a: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I</a:t>
              </a:r>
              <a:r>
                <a:rPr b="1" lang="en-US" sz="2000" spc="-1" strike="noStrike" u="sng">
                  <a:solidFill>
                    <a:srgbClr val="0000ff"/>
                  </a:solidFill>
                  <a:uFillTx/>
                  <a:latin typeface="Arial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the chromosomes condense and homologous chromosomes pair up </a:t>
              </a:r>
              <a:r>
                <a:rPr b="0" lang="ar-EG" sz="2000" spc="-1" strike="noStrike">
                  <a:solidFill>
                    <a:srgbClr val="000000"/>
                  </a:solidFill>
                  <a:latin typeface="Arial"/>
                </a:rPr>
                <a:t>تزدوج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 form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tetrads </a:t>
              </a:r>
              <a:r>
                <a:rPr b="0" lang="ar-EG" sz="2000" spc="-1" strike="noStrike">
                  <a:solidFill>
                    <a:srgbClr val="000000"/>
                  </a:solidFill>
                  <a:latin typeface="Arial"/>
                </a:rPr>
                <a:t>رباعية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r-EG" sz="2000" spc="-1" strike="noStrike">
                  <a:solidFill>
                    <a:srgbClr val="000000"/>
                  </a:solidFill>
                  <a:latin typeface="Arial"/>
                </a:rPr>
                <a:t>مجموعا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99"/>
                </a:spcBef>
                <a:buClr>
                  <a:srgbClr val="339933"/>
                </a:buClr>
                <a:buFont typeface="Arial"/>
                <a:buChar char="•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omologous chromosomes attached together (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ynapsis </a:t>
              </a:r>
              <a:r>
                <a:rPr b="0" lang="ar-EG" sz="2000" spc="-1" strike="noStrike">
                  <a:solidFill>
                    <a:srgbClr val="000000"/>
                  </a:solidFill>
                  <a:latin typeface="Arial"/>
                </a:rPr>
                <a:t>التشابك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)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339933"/>
                </a:buClr>
                <a:buFont typeface="Arial"/>
                <a:buChar char="–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romatids of homologous chromosomes are crossed (at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Arial"/>
                </a:rPr>
                <a:t>chiasmat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 and segments of the chromosomes are exchanged (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Crossing Ove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DB89-E412-4EE4-A668-54A901A6D3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839440" cy="35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3)- Metaphas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tetrads are all arranged at the metaphase 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tubules from one pole are attached to the kinetochore of one chromosome of each tetrad, while those from the other pole are attached to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4)- Anaphas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mologous                                                                                        chromosomes separate                                                                                    and are pulled toward                                                                               opposite po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49161" t="25499" r="0" b="3446"/>
          <a:stretch/>
        </p:blipFill>
        <p:spPr>
          <a:xfrm>
            <a:off x="3886200" y="1600200"/>
            <a:ext cx="4952880" cy="4707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231480" y="6348240"/>
            <a:ext cx="77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3.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8D91-F549-4100-9398-C80D91D518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1920" y="878040"/>
            <a:ext cx="571500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)- Telo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vement of homologous chromosomes continues until there is a haploid set at each p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chromosome consists of linked sister chromat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tokine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sam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chanisms as mitosi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occurs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ome species, nuclei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reform, but there i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further replica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chromoso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0" t="28913" r="77560" b="6546"/>
          <a:stretch/>
        </p:blipFill>
        <p:spPr>
          <a:xfrm>
            <a:off x="6107040" y="152280"/>
            <a:ext cx="3189240" cy="61722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2880" y="6424560"/>
            <a:ext cx="77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3.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DA41-F787-4660-A4D2-30A5D495F5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rcRect l="41660" t="23944" r="21697" b="13992"/>
          <a:stretch/>
        </p:blipFill>
        <p:spPr>
          <a:xfrm>
            <a:off x="4876920" y="2209680"/>
            <a:ext cx="3876480" cy="4419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83908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)- Meiosi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)- Pro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spindle apparatus forms, attaches to kinetochores of each sister chromatids, and moves them a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rcRect l="21611" t="22706" r="61689" b="13992"/>
          <a:stretch/>
        </p:blipFill>
        <p:spPr>
          <a:xfrm>
            <a:off x="533520" y="2209680"/>
            <a:ext cx="1790640" cy="4572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3203280" y="6348240"/>
            <a:ext cx="77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3.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80880" y="1295280"/>
            <a:ext cx="876312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)- Metaphas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sister chromatids are arranged at the metaphase 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)- Anaphas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e centomeres of sister chromatids separate and the separate sisters travel toward opposite po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1"/>
          <p:cNvGrpSpPr/>
          <p:nvPr/>
        </p:nvGrpSpPr>
        <p:grpSpPr>
          <a:xfrm>
            <a:off x="2590920" y="3200400"/>
            <a:ext cx="2057400" cy="2666880"/>
            <a:chOff x="2590920" y="3200400"/>
            <a:chExt cx="2057400" cy="2666880"/>
          </a:xfrm>
        </p:grpSpPr>
        <p:sp>
          <p:nvSpPr>
            <p:cNvPr id="134" name="AutoShape 9"/>
            <p:cNvSpPr/>
            <p:nvPr/>
          </p:nvSpPr>
          <p:spPr>
            <a:xfrm>
              <a:off x="2590920" y="32004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0"/>
            <p:cNvSpPr/>
            <p:nvPr/>
          </p:nvSpPr>
          <p:spPr>
            <a:xfrm>
              <a:off x="2590920" y="54864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1D77-2E60-42CB-8612-71B688C5810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3520" y="1736640"/>
            <a:ext cx="53337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)- Telo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eparated sister chromatids arrive at opposite p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i form around the chromat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tokine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end of meiosis, there are four haploid daughter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rcRect l="81647" t="23944" r="355" b="13992"/>
          <a:stretch/>
        </p:blipFill>
        <p:spPr>
          <a:xfrm>
            <a:off x="6450120" y="76320"/>
            <a:ext cx="2693880" cy="62481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7394400" y="6561000"/>
            <a:ext cx="77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3.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2666880" y="5105520"/>
            <a:ext cx="1752840" cy="914400"/>
          </a:xfrm>
          <a:custGeom>
            <a:avLst/>
            <a:gdLst>
              <a:gd name="textAreaLeft" fmla="*/ 59040 w 1752840"/>
              <a:gd name="textAreaRight" fmla="*/ 1693800 w 1752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1398" h="21600">
                <a:moveTo>
                  <a:pt x="0" y="0"/>
                </a:moveTo>
                <a:lnTo>
                  <a:pt x="41398" y="0"/>
                </a:lnTo>
                <a:lnTo>
                  <a:pt x="41398" y="21600"/>
                </a:lnTo>
                <a:lnTo>
                  <a:pt x="0" y="21600"/>
                </a:lnTo>
                <a:close/>
              </a:path>
              <a:path fill="lightenLess" w="41398" h="21600">
                <a:moveTo>
                  <a:pt x="0" y="0"/>
                </a:moveTo>
                <a:lnTo>
                  <a:pt x="41398" y="0"/>
                </a:lnTo>
                <a:lnTo>
                  <a:pt x="39998" y="1400"/>
                </a:lnTo>
                <a:lnTo>
                  <a:pt x="1400" y="1400"/>
                </a:lnTo>
                <a:close/>
              </a:path>
              <a:path fill="darken" w="41398" h="21600">
                <a:moveTo>
                  <a:pt x="41398" y="0"/>
                </a:moveTo>
                <a:lnTo>
                  <a:pt x="41398" y="21600"/>
                </a:lnTo>
                <a:lnTo>
                  <a:pt x="39998" y="20200"/>
                </a:lnTo>
                <a:lnTo>
                  <a:pt x="39998" y="1400"/>
                </a:lnTo>
                <a:close/>
              </a:path>
              <a:path fill="darkenLess" w="41398" h="21600">
                <a:moveTo>
                  <a:pt x="41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98" y="20200"/>
                </a:lnTo>
                <a:close/>
              </a:path>
              <a:path fill="lighten" w="41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98" h="21600">
                <a:moveTo>
                  <a:pt x="13692" y="3794"/>
                </a:moveTo>
                <a:lnTo>
                  <a:pt x="27705" y="10800"/>
                </a:lnTo>
                <a:lnTo>
                  <a:pt x="13692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93E9-4594-45A7-A0E1-F447BAAB39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86800" cy="155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mechanisms contribute to genetic vari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ختلاف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 assortmen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تقال الحر للكروموسو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ing ov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عب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dom fertiliz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لقيح العشوائ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exual life cycles produce genetic variation among off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52280" y="2438280"/>
            <a:ext cx="8915400" cy="35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)- Independent assortmen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chromosomes contributes to genetic variability due to the random orientation of tetrads at the metaphase 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ifty-fif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nce                                                                                                                   that a particular daughter                                                                             cell of meiosis I will get the                                                                 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ma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romosome of a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rtain homologou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ir 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ifty-fif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ce that it will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ive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pa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romos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1"/>
          <a:srcRect l="0" t="0" r="0" b="4798"/>
          <a:stretch/>
        </p:blipFill>
        <p:spPr>
          <a:xfrm>
            <a:off x="4267080" y="3200400"/>
            <a:ext cx="4876920" cy="34243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8"/>
          <p:cNvSpPr/>
          <p:nvPr/>
        </p:nvSpPr>
        <p:spPr>
          <a:xfrm>
            <a:off x="2898360" y="6424560"/>
            <a:ext cx="77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3.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6072-1B5D-4537-849E-B5828A74AE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5960" y="328320"/>
            <a:ext cx="464796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 assortment alone would find each individual chromosome in a gamete that would be exclusively maternal or paternal in ori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crossing over produces recombinant chromosomes which combine genes inherited from each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18080" y="76320"/>
            <a:ext cx="4449600" cy="67053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3240" y="65674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3.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52280" y="4692600"/>
            <a:ext cx="4572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)- Crossing ov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omologous porti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جزاء متماث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wo non-sister chromatids exchange pla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52280" y="3143160"/>
            <a:ext cx="472464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- The random fertiliz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it adds to the genetic variation arising from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sperm can fuse with any eg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FEF3-CAE3-427F-83AF-25FA02A48C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2"/>
          <p:cNvGrpSpPr/>
          <p:nvPr/>
        </p:nvGrpSpPr>
        <p:grpSpPr>
          <a:xfrm>
            <a:off x="6115680" y="1589400"/>
            <a:ext cx="836640" cy="3358800"/>
            <a:chOff x="6115680" y="1589400"/>
            <a:chExt cx="836640" cy="3358800"/>
          </a:xfrm>
        </p:grpSpPr>
        <p:grpSp>
          <p:nvGrpSpPr>
            <p:cNvPr id="156" name="Group 3"/>
            <p:cNvGrpSpPr/>
            <p:nvPr/>
          </p:nvGrpSpPr>
          <p:grpSpPr>
            <a:xfrm>
              <a:off x="6115680" y="2045520"/>
              <a:ext cx="442800" cy="2902680"/>
              <a:chOff x="6115680" y="2045520"/>
              <a:chExt cx="442800" cy="2902680"/>
            </a:xfrm>
          </p:grpSpPr>
          <p:sp>
            <p:nvSpPr>
              <p:cNvPr id="157" name="AutoShape 4"/>
              <p:cNvSpPr/>
              <p:nvPr/>
            </p:nvSpPr>
            <p:spPr>
              <a:xfrm rot="16485600">
                <a:off x="5499000" y="3947760"/>
                <a:ext cx="1676160" cy="30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39"/>
                  </a:gs>
                  <a:gs pos="50000">
                    <a:srgbClr val="0000ff"/>
                  </a:gs>
                  <a:gs pos="100000">
                    <a:srgbClr val="000039"/>
                  </a:gs>
                </a:gsLst>
                <a:lin ang="1051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AutoShape 5"/>
              <p:cNvSpPr/>
              <p:nvPr/>
            </p:nvSpPr>
            <p:spPr>
              <a:xfrm rot="15949200">
                <a:off x="5743800" y="2511360"/>
                <a:ext cx="1217880" cy="30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39"/>
                  </a:gs>
                  <a:gs pos="50000">
                    <a:srgbClr val="0000ff"/>
                  </a:gs>
                  <a:gs pos="100000">
                    <a:srgbClr val="000039"/>
                  </a:gs>
                </a:gsLst>
                <a:lin ang="1105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6"/>
              <p:cNvSpPr/>
              <p:nvPr/>
            </p:nvSpPr>
            <p:spPr>
              <a:xfrm rot="16200000">
                <a:off x="6159240" y="3186000"/>
                <a:ext cx="45720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7"/>
            <p:cNvGrpSpPr/>
            <p:nvPr/>
          </p:nvGrpSpPr>
          <p:grpSpPr>
            <a:xfrm>
              <a:off x="6458760" y="1589400"/>
              <a:ext cx="493560" cy="3349800"/>
              <a:chOff x="6458760" y="1589400"/>
              <a:chExt cx="493560" cy="3349800"/>
            </a:xfrm>
          </p:grpSpPr>
          <p:sp>
            <p:nvSpPr>
              <p:cNvPr id="161" name="AutoShape 8"/>
              <p:cNvSpPr/>
              <p:nvPr/>
            </p:nvSpPr>
            <p:spPr>
              <a:xfrm rot="15807600">
                <a:off x="5867280" y="3936600"/>
                <a:ext cx="1676160" cy="30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39"/>
                  </a:gs>
                  <a:gs pos="50000">
                    <a:srgbClr val="0000ff"/>
                  </a:gs>
                  <a:gs pos="100000">
                    <a:srgbClr val="000039"/>
                  </a:gs>
                </a:gsLst>
                <a:lin ang="579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AutoShape 9"/>
              <p:cNvSpPr/>
              <p:nvPr/>
            </p:nvSpPr>
            <p:spPr>
              <a:xfrm rot="16521600">
                <a:off x="5867280" y="2285640"/>
                <a:ext cx="1676160" cy="30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39"/>
                  </a:gs>
                  <a:gs pos="50000">
                    <a:srgbClr val="0000ff"/>
                  </a:gs>
                  <a:gs pos="100000">
                    <a:srgbClr val="000039"/>
                  </a:gs>
                </a:gsLst>
                <a:lin ang="508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0"/>
              <p:cNvSpPr/>
              <p:nvPr/>
            </p:nvSpPr>
            <p:spPr>
              <a:xfrm rot="16200000">
                <a:off x="6413400" y="3187440"/>
                <a:ext cx="45720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AutoShape 11"/>
          <p:cNvSpPr/>
          <p:nvPr/>
        </p:nvSpPr>
        <p:spPr>
          <a:xfrm rot="16698000">
            <a:off x="6053040" y="1733040"/>
            <a:ext cx="609480" cy="30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51"/>
              </a:gs>
              <a:gs pos="50000">
                <a:srgbClr val="0000ff"/>
              </a:gs>
              <a:gs pos="100000">
                <a:srgbClr val="000051"/>
              </a:gs>
            </a:gsLst>
            <a:lin ang="103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2"/>
          <p:cNvGrpSpPr/>
          <p:nvPr/>
        </p:nvGrpSpPr>
        <p:grpSpPr>
          <a:xfrm>
            <a:off x="2216880" y="1591560"/>
            <a:ext cx="772920" cy="3423960"/>
            <a:chOff x="2216880" y="1591560"/>
            <a:chExt cx="772920" cy="3423960"/>
          </a:xfrm>
        </p:grpSpPr>
        <p:grpSp>
          <p:nvGrpSpPr>
            <p:cNvPr id="166" name="Group 13"/>
            <p:cNvGrpSpPr/>
            <p:nvPr/>
          </p:nvGrpSpPr>
          <p:grpSpPr>
            <a:xfrm>
              <a:off x="2216880" y="1591560"/>
              <a:ext cx="442800" cy="3358440"/>
              <a:chOff x="2216880" y="1591560"/>
              <a:chExt cx="442800" cy="3358440"/>
            </a:xfrm>
          </p:grpSpPr>
          <p:sp>
            <p:nvSpPr>
              <p:cNvPr id="167" name="AutoShape 14"/>
              <p:cNvSpPr/>
              <p:nvPr/>
            </p:nvSpPr>
            <p:spPr>
              <a:xfrm rot="16485600">
                <a:off x="1599840" y="3949560"/>
                <a:ext cx="1676520" cy="30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11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15"/>
              <p:cNvSpPr/>
              <p:nvPr/>
            </p:nvSpPr>
            <p:spPr>
              <a:xfrm rot="15949200">
                <a:off x="1599840" y="2286000"/>
                <a:ext cx="1676520" cy="30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65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6"/>
              <p:cNvSpPr/>
              <p:nvPr/>
            </p:nvSpPr>
            <p:spPr>
              <a:xfrm rot="16200000">
                <a:off x="2260440" y="3187440"/>
                <a:ext cx="457200" cy="152640"/>
              </a:xfrm>
              <a:prstGeom prst="rect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17"/>
            <p:cNvGrpSpPr/>
            <p:nvPr/>
          </p:nvGrpSpPr>
          <p:grpSpPr>
            <a:xfrm>
              <a:off x="2496600" y="2044800"/>
              <a:ext cx="493200" cy="2970720"/>
              <a:chOff x="2496600" y="2044800"/>
              <a:chExt cx="493200" cy="2970720"/>
            </a:xfrm>
          </p:grpSpPr>
          <p:sp>
            <p:nvSpPr>
              <p:cNvPr id="171" name="AutoShape 18"/>
              <p:cNvSpPr/>
              <p:nvPr/>
            </p:nvSpPr>
            <p:spPr>
              <a:xfrm rot="15807600">
                <a:off x="1905120" y="4012920"/>
                <a:ext cx="1676160" cy="30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90059"/>
                  </a:gs>
                  <a:gs pos="50000">
                    <a:srgbClr val="ff00ff"/>
                  </a:gs>
                  <a:gs pos="100000">
                    <a:srgbClr val="590059"/>
                  </a:gs>
                </a:gsLst>
                <a:lin ang="1119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utoShape 19"/>
              <p:cNvSpPr/>
              <p:nvPr/>
            </p:nvSpPr>
            <p:spPr>
              <a:xfrm rot="16521000">
                <a:off x="2076120" y="2551320"/>
                <a:ext cx="1295280" cy="30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90059"/>
                  </a:gs>
                  <a:gs pos="50000">
                    <a:srgbClr val="ff00ff"/>
                  </a:gs>
                  <a:gs pos="100000">
                    <a:srgbClr val="590059"/>
                  </a:gs>
                </a:gsLst>
                <a:lin ang="1048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20"/>
              <p:cNvSpPr/>
              <p:nvPr/>
            </p:nvSpPr>
            <p:spPr>
              <a:xfrm rot="16200000">
                <a:off x="2450880" y="3263760"/>
                <a:ext cx="457200" cy="1522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AutoShape 21"/>
          <p:cNvSpPr/>
          <p:nvPr/>
        </p:nvSpPr>
        <p:spPr>
          <a:xfrm rot="16200000">
            <a:off x="2489040" y="1752120"/>
            <a:ext cx="609480" cy="30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90059"/>
              </a:gs>
              <a:gs pos="50000">
                <a:srgbClr val="ff00ff"/>
              </a:gs>
              <a:gs pos="100000">
                <a:srgbClr val="59005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2"/>
          <p:cNvSpPr/>
          <p:nvPr/>
        </p:nvSpPr>
        <p:spPr>
          <a:xfrm>
            <a:off x="2209680" y="76320"/>
            <a:ext cx="47246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rial"/>
              </a:rPr>
              <a:t>Crossing 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3"/>
          <p:cNvSpPr/>
          <p:nvPr/>
        </p:nvSpPr>
        <p:spPr>
          <a:xfrm>
            <a:off x="2293920" y="5143680"/>
            <a:ext cx="5014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ombinant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صبغيات مختلط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24"/>
          <p:cNvGrpSpPr/>
          <p:nvPr/>
        </p:nvGrpSpPr>
        <p:grpSpPr>
          <a:xfrm>
            <a:off x="609480" y="838080"/>
            <a:ext cx="1981440" cy="762120"/>
            <a:chOff x="609480" y="838080"/>
            <a:chExt cx="1981440" cy="762120"/>
          </a:xfrm>
        </p:grpSpPr>
        <p:sp>
          <p:nvSpPr>
            <p:cNvPr id="178" name="Text Box 25"/>
            <p:cNvSpPr/>
            <p:nvPr/>
          </p:nvSpPr>
          <p:spPr>
            <a:xfrm>
              <a:off x="609480" y="8380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Chias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6"/>
            <p:cNvSpPr/>
            <p:nvPr/>
          </p:nvSpPr>
          <p:spPr>
            <a:xfrm>
              <a:off x="1981080" y="1066680"/>
              <a:ext cx="6098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27"/>
          <p:cNvSpPr/>
          <p:nvPr/>
        </p:nvSpPr>
        <p:spPr>
          <a:xfrm>
            <a:off x="76320" y="638496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g. 13.10, Page 2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8333 0 E">
                                      <p:cBhvr>
                                        <p:cTn id="22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8333 0 E">
                                      <p:cBhvr>
                                        <p:cTn id="228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333 1.51993E-006 L -0.01667 1.51993E-006 E">
                                      <p:cBhvr>
                                        <p:cTn id="23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1112 L 0.36667 0.00741 E">
                                      <p:cBhvr>
                                        <p:cTn id="238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5DE8-5B95-419D-A3CF-8B3B9C0798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09680" y="76320"/>
            <a:ext cx="47246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ff"/>
                </a:solidFill>
                <a:uFillTx/>
                <a:latin typeface="Arial"/>
              </a:rPr>
              <a:t>Crossing o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848720" y="76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2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457200" y="1087560"/>
            <a:ext cx="830592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curs during prophas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two homologous chromosomes joint together very clos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wo non-sister chromatids of the homologous chromosomes are crossed over at a chiasma point and exchange corresponding se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resulting chromosomes are called “recombinant chromosom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important in genetic variation in sexual life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2661-7770-4A1A-B0E1-22B6965B99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381880" cy="20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Mitosis and meiosis have several key 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hromosome number is reduced by half in meiosis, but not in mit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osis produces daughter cells that are genetically identical to the parent and to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iosis produces cells that differ from the parent and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152280" y="2438280"/>
            <a:ext cx="8839440" cy="34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events, unique to meiosis, occur during the first division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During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prophas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omologous chromosomes pair up in a proces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ap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r in prophase I, the joined homologous chromosomes are visible as a tetr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X-shaped regions call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hiasm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sections of nonsister chromatids are excha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asmata is the physical manifestation of crossing over, a form of genetic rearran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4876-9FD9-4104-B0BB-BDE915D367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28600" y="1228320"/>
            <a:ext cx="8686800" cy="472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fe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an organism is the generation-to-generation sequence of stages in its reproductive hi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starts at the conception of an organism until it produces its own offsp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س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humans, eac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matic ce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ells other than sperm or ovu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has 46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logous chrom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كروموسومات المتماس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irs carry genes that control the same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ary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طرز الكروموسو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 of the 46 chromosomes shows 23 pairs of chromosomes, each pair with the same length, centromere position, and staining pat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ertilization and meiosis alter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عاقبا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 sexual life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E966-8937-4773-B3AB-257D2DE7A1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067680" cy="43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A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t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mologous pairs of chromosomes, not individual chromosomes are aligned along the metaphase 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s, you would see 23 tetr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A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aphas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t is homologous chromosomes, not sister chromatids, that separate and are carried to opposite poles of the cell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r chromatids remain attached at the centromere until anaphase 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ocesses during the second meiotic division are virtually identical to those of mit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CCB8-FD60-4D33-9513-93A365B7FE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51920" y="75960"/>
            <a:ext cx="891540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osis produces two identical daughter cells, but meiosis produces 4 very different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rcRect l="0" t="0" r="0" b="4484"/>
          <a:stretch/>
        </p:blipFill>
        <p:spPr>
          <a:xfrm>
            <a:off x="152280" y="709560"/>
            <a:ext cx="8915400" cy="57675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43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3.8, Page 24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965A-5587-475A-BB0B-60CE3C81A96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rcRect l="0" t="0" r="0" b="6302"/>
          <a:stretch/>
        </p:blipFill>
        <p:spPr>
          <a:xfrm>
            <a:off x="0" y="609480"/>
            <a:ext cx="9144000" cy="48783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5"/>
          <p:cNvSpPr/>
          <p:nvPr/>
        </p:nvSpPr>
        <p:spPr>
          <a:xfrm>
            <a:off x="43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3.8, Page 24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419B-DE34-482A-B7FB-54953CAF11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ryotyp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s of an individual’s chrom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re often prepared with lymphocyt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خلايا اللمف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rcRect l="0" t="0" r="0" b="5966"/>
          <a:stretch/>
        </p:blipFill>
        <p:spPr>
          <a:xfrm>
            <a:off x="0" y="992160"/>
            <a:ext cx="9144000" cy="57135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4222440" y="63388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3.3, Page 23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D056-97E0-4ED8-98D8-AB4E1DF979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600" y="716040"/>
            <a:ext cx="8610480" cy="28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exception to the rule of homologous chromosomes is found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x chrom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ttern of inheritance of these chromosomes determine an individual’s sex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جن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females have a homologous pair of X chromosomes 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X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uman males have an X and a Y chromosome 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Y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ther 22 pairs are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tosom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كروموسومات الذات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" y="3652920"/>
            <a:ext cx="868680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inherit one chromosome of each homologous pair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أزواج المتماث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46 chromosomes in a somatic cell can be viewed as two sets of 23,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maternal s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جموعة الأ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aternal se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جموعة الأب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rm cells or ova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ame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have only one set of chromosomes - 22 autosomes and an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ell with a single chromosome set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aploi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رد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humans, the haploid number of chromosomes is 23 (n = 2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676520" y="76320"/>
            <a:ext cx="52578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omosomes (sex and autoso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EE07-280E-44C2-8C74-CFC51A0140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52280" y="520200"/>
            <a:ext cx="8839440" cy="28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aploid sperm reaches and fus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دم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aplo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v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cells fuse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yngam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زدوا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resulting in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ertilized egg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ygo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now has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iplo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زوج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t of chromosomes from the maternal and paternal family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zygote and all cells with two sets of chromosom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ploid cell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زوج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= 46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52280" y="3522600"/>
            <a:ext cx="883944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an organism develops from a zygote to a sexually mature adult, the zygote’s genes are passes on to all somatic cells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to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metes, which develop in the gonads,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duced by mito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ead, gametes undergo the process of meiosis in which the chromosome number is halv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ختزل للنص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Human sperm or ova have a haploid set of 23 different chromosomes, one from each homologous pa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562720" y="3657240"/>
            <a:ext cx="3124080" cy="246852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6ACF-22C2-4A42-A1E7-C9D6E32D22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Ahmed\Desktop\Picture111.jpg"/>
          <p:cNvPicPr/>
          <p:nvPr/>
        </p:nvPicPr>
        <p:blipFill>
          <a:blip r:embed="rId2"/>
          <a:stretch/>
        </p:blipFill>
        <p:spPr>
          <a:xfrm>
            <a:off x="2408400" y="712800"/>
            <a:ext cx="4327200" cy="5432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3D83-B8DA-46DB-AD5C-B5E6E557BA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1"/>
          <a:srcRect l="0" t="0" r="54040" b="51124"/>
          <a:stretch/>
        </p:blipFill>
        <p:spPr>
          <a:xfrm>
            <a:off x="914400" y="3352680"/>
            <a:ext cx="2476440" cy="32004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6710040" y="64911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3.4, Page 23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76320" y="1295280"/>
            <a:ext cx="48765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metes, produced by meiosis, are the only haploid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metes undergo no divisions themselves, but fu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ندم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form a diploid                                                 zygote that divides by mitosis to                                                           produce a multicellular org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320" y="151920"/>
            <a:ext cx="9067680" cy="9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tilization restor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عي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pl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زوج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 by combining tw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apl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s of chrom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tilization and meiosis alternate in sexual life cyc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Ahmed\Desktop\Picture111.jpg"/>
          <p:cNvPicPr/>
          <p:nvPr/>
        </p:nvPicPr>
        <p:blipFill>
          <a:blip r:embed="rId2"/>
          <a:stretch/>
        </p:blipFill>
        <p:spPr>
          <a:xfrm>
            <a:off x="4572000" y="1143000"/>
            <a:ext cx="432756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2BD7-3031-41EA-8CCB-016645849C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600" y="1306080"/>
            <a:ext cx="5486400" cy="49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steps of meiosis resemble steps in mit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preceded by the replication of chrom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in meiosis, chromosomes replicate once followed by two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عاق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 division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iosis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ich results 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ur daughter ce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final daughter cell has only half chromosomes number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aploi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ff"/>
                </a:solidFill>
                <a:latin typeface="Arial"/>
              </a:rPr>
              <a:t>فرد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iosis reduces chromosome number b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pying the chromosomes once, but dividing twi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e first division (meiosis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) separates homologous chromoso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he second (meiosis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) separates sister chromati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76320" y="151920"/>
            <a:ext cx="8991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iosis reduces chromosome number from diploid to haploid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uction Divisio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22860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410080" y="609480"/>
            <a:ext cx="3676680" cy="6248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EFE6-D167-4856-A9EC-8DFB979E77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6782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2- Meiosis Division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duction Division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143000" y="1905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019920" y="19051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B)-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Meiosi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52280" y="2590920"/>
            <a:ext cx="3962520" cy="142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85328" dir="6993903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- Separate homologous</a:t>
            </a:r>
            <a:br>
              <a:rPr sz="2000"/>
            </a:b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  chromoso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Results in 2 haploid cells with replicated chrom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952880" y="2514600"/>
            <a:ext cx="4038840" cy="176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85328" dir="6993903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- No further replication of</a:t>
            </a:r>
            <a:br>
              <a:rPr sz="2000"/>
            </a:b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  chromos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Occurs in the newly resulting</a:t>
            </a:r>
            <a:br>
              <a:rPr sz="1800"/>
            </a:b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cells from Meiosis </a:t>
            </a:r>
            <a:r>
              <a:rPr b="1" lang="en-GB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4 haploid cells</a:t>
            </a: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04920" y="480060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occurs mainly in sex gonads to form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Gamet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sperms and 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04920" y="539424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of the resulting cells has half number of chromosomes of the original cell (23 in human). Thus, it called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Reduction Divis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2133720" y="533520"/>
            <a:ext cx="4952880" cy="1371600"/>
            <a:chOff x="2133720" y="533520"/>
            <a:chExt cx="4952880" cy="1371600"/>
          </a:xfrm>
        </p:grpSpPr>
        <p:sp>
          <p:nvSpPr>
            <p:cNvPr id="104" name="Line 11"/>
            <p:cNvSpPr/>
            <p:nvPr/>
          </p:nvSpPr>
          <p:spPr>
            <a:xfrm>
              <a:off x="4724280" y="533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2"/>
            <p:cNvSpPr/>
            <p:nvPr/>
          </p:nvSpPr>
          <p:spPr>
            <a:xfrm>
              <a:off x="2133720" y="137160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3"/>
            <p:cNvSpPr/>
            <p:nvPr/>
          </p:nvSpPr>
          <p:spPr>
            <a:xfrm>
              <a:off x="2133720" y="13716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4"/>
            <p:cNvSpPr/>
            <p:nvPr/>
          </p:nvSpPr>
          <p:spPr>
            <a:xfrm>
              <a:off x="7086600" y="137160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5"/>
            <p:cNvSpPr/>
            <p:nvPr/>
          </p:nvSpPr>
          <p:spPr>
            <a:xfrm>
              <a:off x="3505320" y="137160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ccurs in two ste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amond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1T16:12:15Z</dcterms:created>
  <dc:creator>User</dc:creator>
  <dc:description/>
  <dc:language>en-US</dc:language>
  <cp:lastModifiedBy>Ahmed</cp:lastModifiedBy>
  <dcterms:modified xsi:type="dcterms:W3CDTF">2009-05-08T15:46:57Z</dcterms:modified>
  <cp:revision>9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