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C77E-9347-4CE0-8BDE-14988FCE737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402A-B86D-4E3D-8A92-8732CA19BA7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AC1D-67F0-421E-BCB5-A9570E4E2F2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24C3-13D7-4281-8D7D-DA068B1CD3F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605C-70E1-42B2-8742-D0608AA49B5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1568-FB45-434F-9179-C0BA43C57F9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72AA-114B-4A39-B45C-A5F7E045621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E6BF-5A1B-4436-8327-151BB528086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3234-D0EA-4E4D-8A14-66BA905F1B5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FB39-5B91-40B1-9644-8583B80592C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906D-5721-4EE1-B6A6-D55207361E4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1CD3-0065-484B-BA3A-FDA67F133C7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81F0-8D95-4E9F-8974-096D4DE29D6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9837-A9DE-4B48-8C15-064CCA5E9CD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69BB-69FB-40E2-BC4E-7994E8A5865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A3DC-93A7-41C4-90E3-D3F7A4D93AD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1702-F5B2-4FEF-BED1-E2E657C3AEA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2784-77B0-4E43-ACB7-704BE33B171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3021-7F04-4BAD-8408-721374A4167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235F-5B04-43B9-9897-E3CD6E94A2A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7E2-BAC9-4100-95CD-E47E725A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1D0B-DC58-44D0-8725-CFDD50EE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E2A-6491-4FC4-8DDC-DD16C881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C63-8BDA-4371-B8B0-624DB2A1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7FD-BA88-4423-88BB-74807C20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24BC-A9CA-4A6D-B1EC-E2954109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9E84-5EB2-48BE-8E72-DB2EEC36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8E9-753E-44F2-A2F0-4375A663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C664-834B-4CE3-B294-B4F21D1C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875-0BD9-409C-B192-E8ACE8A1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606-D316-4402-B860-42ED393C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430-C2AF-44FF-9D1D-BC0B10B3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9BEB-A837-4DD8-AC89-1875A04036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106C-C8A3-4758-B365-05A24E1434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"/>
          <p:cNvSpPr/>
          <p:nvPr/>
        </p:nvSpPr>
        <p:spPr>
          <a:xfrm rot="18849000">
            <a:off x="437760" y="1869840"/>
            <a:ext cx="2581200" cy="20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50760" y="3024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1523880" y="1080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1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IOSIS AND SEXUAL                                    LIF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4"/>
          <p:cNvGrpSpPr/>
          <p:nvPr/>
        </p:nvGrpSpPr>
        <p:grpSpPr>
          <a:xfrm>
            <a:off x="228600" y="1712880"/>
            <a:ext cx="8381880" cy="4611600"/>
            <a:chOff x="228600" y="1712880"/>
            <a:chExt cx="8381880" cy="4611600"/>
          </a:xfrm>
        </p:grpSpPr>
        <p:sp>
          <p:nvSpPr>
            <p:cNvPr id="56" name="Text Box 7"/>
            <p:cNvSpPr/>
            <p:nvPr/>
          </p:nvSpPr>
          <p:spPr>
            <a:xfrm>
              <a:off x="685800" y="1712880"/>
              <a:ext cx="7785000" cy="6426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cc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ection B: The Role of Meiosis in Sexual Life Cy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2"/>
            <p:cNvGrpSpPr/>
            <p:nvPr/>
          </p:nvGrpSpPr>
          <p:grpSpPr>
            <a:xfrm>
              <a:off x="228600" y="2514600"/>
              <a:ext cx="8267760" cy="3809880"/>
              <a:chOff x="228600" y="2514600"/>
              <a:chExt cx="8267760" cy="3809880"/>
            </a:xfrm>
          </p:grpSpPr>
          <p:pic>
            <p:nvPicPr>
              <p:cNvPr id="58" name="Picture 16" descr=""/>
              <p:cNvPicPr/>
              <p:nvPr/>
            </p:nvPicPr>
            <p:blipFill>
              <a:blip r:embed="rId3"/>
              <a:srcRect l="0" t="0" r="56038" b="5551"/>
              <a:stretch/>
            </p:blipFill>
            <p:spPr>
              <a:xfrm rot="16200000">
                <a:off x="2151000" y="973080"/>
                <a:ext cx="3556080" cy="69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Rectangle 17"/>
              <p:cNvSpPr/>
              <p:nvPr/>
            </p:nvSpPr>
            <p:spPr>
              <a:xfrm>
                <a:off x="4419360" y="2666880"/>
                <a:ext cx="3122640" cy="358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Pictur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4457520" y="2844720"/>
                <a:ext cx="4038840" cy="31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Rectangle 19"/>
              <p:cNvSpPr/>
              <p:nvPr/>
            </p:nvSpPr>
            <p:spPr>
              <a:xfrm>
                <a:off x="228600" y="2514600"/>
                <a:ext cx="42670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0"/>
              <p:cNvSpPr/>
              <p:nvPr/>
            </p:nvSpPr>
            <p:spPr>
              <a:xfrm rot="5400000">
                <a:off x="-1333800" y="4381200"/>
                <a:ext cx="35812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1"/>
              <p:cNvSpPr/>
              <p:nvPr/>
            </p:nvSpPr>
            <p:spPr>
              <a:xfrm>
                <a:off x="380880" y="6019920"/>
                <a:ext cx="42670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Rectangle 23"/>
            <p:cNvSpPr/>
            <p:nvPr/>
          </p:nvSpPr>
          <p:spPr>
            <a:xfrm>
              <a:off x="507960" y="2743200"/>
              <a:ext cx="8102520" cy="3352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4A56-BFBB-4481-9533-55E1CFBF08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rcRect l="0" t="25499" r="75008" b="5899"/>
          <a:stretch/>
        </p:blipFill>
        <p:spPr>
          <a:xfrm>
            <a:off x="6980400" y="0"/>
            <a:ext cx="2163600" cy="40384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4269960" y="304812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8077320" y="4114800"/>
            <a:ext cx="304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14600" y="1523880"/>
            <a:ext cx="4648320" cy="6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1)- interph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chromosomes are replicated to form sister chromat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76320" y="76320"/>
            <a:ext cx="281916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ei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371600" y="838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)- Meios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s very similar to mit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2"/>
          <p:cNvGrpSpPr/>
          <p:nvPr/>
        </p:nvGrpSpPr>
        <p:grpSpPr>
          <a:xfrm>
            <a:off x="0" y="1981080"/>
            <a:ext cx="9144000" cy="4719600"/>
            <a:chOff x="0" y="1981080"/>
            <a:chExt cx="9144000" cy="4719600"/>
          </a:xfrm>
        </p:grpSpPr>
        <p:pic>
          <p:nvPicPr>
            <p:cNvPr id="117" name="Picture 7" descr=""/>
            <p:cNvPicPr/>
            <p:nvPr/>
          </p:nvPicPr>
          <p:blipFill>
            <a:blip r:embed="rId2"/>
            <a:srcRect l="25828" t="26721" r="51680" b="3446"/>
            <a:stretch/>
          </p:blipFill>
          <p:spPr>
            <a:xfrm>
              <a:off x="0" y="1981080"/>
              <a:ext cx="222876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8"/>
            <p:cNvSpPr/>
            <p:nvPr/>
          </p:nvSpPr>
          <p:spPr>
            <a:xfrm>
              <a:off x="2286000" y="4138560"/>
              <a:ext cx="685800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Arial"/>
                </a:rPr>
                <a:t>2)- Prophase </a:t>
              </a: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I</a:t>
              </a: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the chromosomes condense and homologous chromosomes pair up </a:t>
              </a:r>
              <a:r>
                <a:rPr b="0" lang="ar-EG" sz="2000" spc="-1" strike="noStrike">
                  <a:solidFill>
                    <a:srgbClr val="000000"/>
                  </a:solidFill>
                  <a:latin typeface="Arial"/>
                </a:rPr>
                <a:t>تزدوج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 form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etrads </a:t>
              </a:r>
              <a:r>
                <a:rPr b="0" lang="ar-EG" sz="2000" spc="-1" strike="noStrike">
                  <a:solidFill>
                    <a:srgbClr val="000000"/>
                  </a:solidFill>
                  <a:latin typeface="Arial"/>
                </a:rPr>
                <a:t>رباعية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r-EG" sz="2000" spc="-1" strike="noStrike">
                  <a:solidFill>
                    <a:srgbClr val="000000"/>
                  </a:solidFill>
                  <a:latin typeface="Arial"/>
                </a:rPr>
                <a:t>مجموعا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339933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mologous chromosomes attached together (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ynapsis </a:t>
              </a:r>
              <a:r>
                <a:rPr b="0" lang="ar-EG" sz="2000" spc="-1" strike="noStrike">
                  <a:solidFill>
                    <a:srgbClr val="000000"/>
                  </a:solidFill>
                  <a:latin typeface="Arial"/>
                </a:rPr>
                <a:t>التشابك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339933"/>
                </a:buClr>
                <a:buFont typeface="Arial"/>
                <a:buChar char="–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romatids of homologous chromosomes are crossed (at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hiasmat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nd segments of the chromosomes are exchanged (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Crossing Ove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5C7F-36CA-4936-BB43-82FC24ED16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839440" cy="35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3)- Metaphas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tetrads are all arranged at the metaphase 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tubules from one pole are attached to the kinetochore of one chromosome of each tetrad, while those from the other pole are attached to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4)- Anaphas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mologous                                                                                        chromosomes separate                                                                                    and are pulled toward                                                                               opposite po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49161" t="25499" r="0" b="3446"/>
          <a:stretch/>
        </p:blipFill>
        <p:spPr>
          <a:xfrm>
            <a:off x="3886200" y="1600200"/>
            <a:ext cx="4952880" cy="4707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231480" y="634824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3090-2616-4171-B720-029AA89FB5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1920" y="878040"/>
            <a:ext cx="571500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)- Telo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vement of homologous chromosomes continues until there is a haploid set at each p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chromosome consists of linked sister chromat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tokine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sam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hanisms as mitosi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occurs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ome species, nuclei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reform, but there i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further replica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chromoso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0" t="28913" r="77560" b="6546"/>
          <a:stretch/>
        </p:blipFill>
        <p:spPr>
          <a:xfrm>
            <a:off x="6107040" y="152280"/>
            <a:ext cx="318924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2880" y="642456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1D43-63EE-43F0-BAF2-6408666095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rcRect l="41660" t="23944" r="21697" b="13992"/>
          <a:stretch/>
        </p:blipFill>
        <p:spPr>
          <a:xfrm>
            <a:off x="4876920" y="2209680"/>
            <a:ext cx="3876480" cy="4419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)- Meiosi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)- Pro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spindle apparatus forms, attaches to kinetochores of each sister chromatids, and moves them a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rcRect l="21611" t="22706" r="61689" b="13992"/>
          <a:stretch/>
        </p:blipFill>
        <p:spPr>
          <a:xfrm>
            <a:off x="533520" y="2209680"/>
            <a:ext cx="1790640" cy="4572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3203280" y="634824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0880" y="1295280"/>
            <a:ext cx="876312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Metapha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sister chromatids are arranged at the metaphase 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)- Anapha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e centomeres of sister chromatids separate and the separate sisters travel toward opposite po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2590920" y="3200400"/>
            <a:ext cx="2057400" cy="2666880"/>
            <a:chOff x="2590920" y="3200400"/>
            <a:chExt cx="2057400" cy="2666880"/>
          </a:xfrm>
        </p:grpSpPr>
        <p:sp>
          <p:nvSpPr>
            <p:cNvPr id="134" name="AutoShape 9"/>
            <p:cNvSpPr/>
            <p:nvPr/>
          </p:nvSpPr>
          <p:spPr>
            <a:xfrm>
              <a:off x="2590920" y="32004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0"/>
            <p:cNvSpPr/>
            <p:nvPr/>
          </p:nvSpPr>
          <p:spPr>
            <a:xfrm>
              <a:off x="2590920" y="54864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F53D-1758-4F1C-B10D-D33B80D7DF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3520" y="1736640"/>
            <a:ext cx="53337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)- Telo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eparated sister chromatids arrive at opposite p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i form around the chromat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tokine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end of meiosis, there are four haploid daughte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81647" t="23944" r="355" b="13992"/>
          <a:stretch/>
        </p:blipFill>
        <p:spPr>
          <a:xfrm>
            <a:off x="6450120" y="76320"/>
            <a:ext cx="2693880" cy="62481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7394400" y="656100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2666880" y="5105520"/>
            <a:ext cx="1752840" cy="914400"/>
          </a:xfrm>
          <a:custGeom>
            <a:avLst/>
            <a:gdLst>
              <a:gd name="textAreaLeft" fmla="*/ 59040 w 1752840"/>
              <a:gd name="textAreaRight" fmla="*/ 1693800 w 1752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98" h="21600">
                <a:moveTo>
                  <a:pt x="0" y="0"/>
                </a:moveTo>
                <a:lnTo>
                  <a:pt x="41398" y="0"/>
                </a:lnTo>
                <a:lnTo>
                  <a:pt x="41398" y="21600"/>
                </a:lnTo>
                <a:lnTo>
                  <a:pt x="0" y="21600"/>
                </a:lnTo>
                <a:close/>
              </a:path>
              <a:path fill="lightenLess" w="41398" h="21600">
                <a:moveTo>
                  <a:pt x="0" y="0"/>
                </a:moveTo>
                <a:lnTo>
                  <a:pt x="41398" y="0"/>
                </a:lnTo>
                <a:lnTo>
                  <a:pt x="39998" y="1400"/>
                </a:lnTo>
                <a:lnTo>
                  <a:pt x="1400" y="1400"/>
                </a:lnTo>
                <a:close/>
              </a:path>
              <a:path fill="darken" w="41398" h="21600">
                <a:moveTo>
                  <a:pt x="41398" y="0"/>
                </a:moveTo>
                <a:lnTo>
                  <a:pt x="41398" y="21600"/>
                </a:lnTo>
                <a:lnTo>
                  <a:pt x="39998" y="20200"/>
                </a:lnTo>
                <a:lnTo>
                  <a:pt x="39998" y="1400"/>
                </a:lnTo>
                <a:close/>
              </a:path>
              <a:path fill="darkenLess" w="41398" h="21600">
                <a:moveTo>
                  <a:pt x="41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98" y="20200"/>
                </a:lnTo>
                <a:close/>
              </a:path>
              <a:path fill="lighten" w="41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98" h="21600">
                <a:moveTo>
                  <a:pt x="13692" y="3794"/>
                </a:moveTo>
                <a:lnTo>
                  <a:pt x="27705" y="10800"/>
                </a:lnTo>
                <a:lnTo>
                  <a:pt x="13692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E2A8-B6EF-471B-A313-F83EC7F4FA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86800" cy="155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mechanisms contribute to genetic vari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ختلاف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 assort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قال الحر للكروموسو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ing ov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عب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om fertiliz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لقيح العشوائ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xual life cycles produce genetic variation among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52280" y="2438280"/>
            <a:ext cx="891540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)- Independent assortmen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chromosomes contributes to genetic variability due to the random orientation of tetrads at the metaphase 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ifty-fif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ce                                                                                                                   that a particular daughter                                                                             cell of meiosis I will get the                                                                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ma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romosome of a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rtain homologou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ir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ifty-fif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ce that it wil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ive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pa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romo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rcRect l="0" t="0" r="0" b="4798"/>
          <a:stretch/>
        </p:blipFill>
        <p:spPr>
          <a:xfrm>
            <a:off x="4267080" y="3200400"/>
            <a:ext cx="4876920" cy="3424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2898360" y="642456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9CFA-9F30-4851-8B7C-05C9ACB76D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5960" y="328320"/>
            <a:ext cx="464796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 assortment alone would find each individual chromosome in a gamete that would be exclusively maternal or paternal in ori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crossing over produces recombinant chromosomes which combine genes inherited from each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18080" y="76320"/>
            <a:ext cx="4449600" cy="6705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3240" y="65674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52280" y="469260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)- Crossing ov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omologous por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جزاء متماث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wo non-sister chromatids exchange pl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52280" y="3143160"/>
            <a:ext cx="472464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- The random fertiliz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t adds to the genetic variation arising from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sperm can fuse with any eg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5FA4-88BA-4DB7-A846-386BB96465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2"/>
          <p:cNvGrpSpPr/>
          <p:nvPr/>
        </p:nvGrpSpPr>
        <p:grpSpPr>
          <a:xfrm>
            <a:off x="6115680" y="1589400"/>
            <a:ext cx="836640" cy="3358800"/>
            <a:chOff x="6115680" y="1589400"/>
            <a:chExt cx="836640" cy="3358800"/>
          </a:xfrm>
        </p:grpSpPr>
        <p:grpSp>
          <p:nvGrpSpPr>
            <p:cNvPr id="156" name="Group 3"/>
            <p:cNvGrpSpPr/>
            <p:nvPr/>
          </p:nvGrpSpPr>
          <p:grpSpPr>
            <a:xfrm>
              <a:off x="6115680" y="2045520"/>
              <a:ext cx="442800" cy="2902680"/>
              <a:chOff x="6115680" y="2045520"/>
              <a:chExt cx="442800" cy="2902680"/>
            </a:xfrm>
          </p:grpSpPr>
          <p:sp>
            <p:nvSpPr>
              <p:cNvPr id="157" name="AutoShape 4"/>
              <p:cNvSpPr/>
              <p:nvPr/>
            </p:nvSpPr>
            <p:spPr>
              <a:xfrm rot="16485600">
                <a:off x="5499000" y="3947760"/>
                <a:ext cx="1676160" cy="30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39"/>
                  </a:gs>
                  <a:gs pos="50000">
                    <a:srgbClr val="0000ff"/>
                  </a:gs>
                  <a:gs pos="100000">
                    <a:srgbClr val="000039"/>
                  </a:gs>
                </a:gsLst>
                <a:lin ang="1051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utoShape 5"/>
              <p:cNvSpPr/>
              <p:nvPr/>
            </p:nvSpPr>
            <p:spPr>
              <a:xfrm rot="15949200">
                <a:off x="5743800" y="2511360"/>
                <a:ext cx="1217880" cy="30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39"/>
                  </a:gs>
                  <a:gs pos="50000">
                    <a:srgbClr val="0000ff"/>
                  </a:gs>
                  <a:gs pos="100000">
                    <a:srgbClr val="000039"/>
                  </a:gs>
                </a:gsLst>
                <a:lin ang="1105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6"/>
              <p:cNvSpPr/>
              <p:nvPr/>
            </p:nvSpPr>
            <p:spPr>
              <a:xfrm rot="16200000">
                <a:off x="6159240" y="3186000"/>
                <a:ext cx="45720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7"/>
            <p:cNvGrpSpPr/>
            <p:nvPr/>
          </p:nvGrpSpPr>
          <p:grpSpPr>
            <a:xfrm>
              <a:off x="6458760" y="1589400"/>
              <a:ext cx="493560" cy="3349800"/>
              <a:chOff x="6458760" y="1589400"/>
              <a:chExt cx="493560" cy="3349800"/>
            </a:xfrm>
          </p:grpSpPr>
          <p:sp>
            <p:nvSpPr>
              <p:cNvPr id="161" name="AutoShape 8"/>
              <p:cNvSpPr/>
              <p:nvPr/>
            </p:nvSpPr>
            <p:spPr>
              <a:xfrm rot="15807600">
                <a:off x="5867280" y="3936600"/>
                <a:ext cx="1676160" cy="30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39"/>
                  </a:gs>
                  <a:gs pos="50000">
                    <a:srgbClr val="0000ff"/>
                  </a:gs>
                  <a:gs pos="100000">
                    <a:srgbClr val="000039"/>
                  </a:gs>
                </a:gsLst>
                <a:lin ang="579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utoShape 9"/>
              <p:cNvSpPr/>
              <p:nvPr/>
            </p:nvSpPr>
            <p:spPr>
              <a:xfrm rot="16521600">
                <a:off x="5867280" y="2285640"/>
                <a:ext cx="1676160" cy="30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39"/>
                  </a:gs>
                  <a:gs pos="50000">
                    <a:srgbClr val="0000ff"/>
                  </a:gs>
                  <a:gs pos="100000">
                    <a:srgbClr val="000039"/>
                  </a:gs>
                </a:gsLst>
                <a:lin ang="508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0"/>
              <p:cNvSpPr/>
              <p:nvPr/>
            </p:nvSpPr>
            <p:spPr>
              <a:xfrm rot="16200000">
                <a:off x="6413400" y="3187440"/>
                <a:ext cx="45720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AutoShape 11"/>
          <p:cNvSpPr/>
          <p:nvPr/>
        </p:nvSpPr>
        <p:spPr>
          <a:xfrm rot="16698000">
            <a:off x="6053040" y="1733040"/>
            <a:ext cx="609480" cy="30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51"/>
              </a:gs>
              <a:gs pos="50000">
                <a:srgbClr val="0000ff"/>
              </a:gs>
              <a:gs pos="100000">
                <a:srgbClr val="000051"/>
              </a:gs>
            </a:gsLst>
            <a:lin ang="103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2"/>
          <p:cNvGrpSpPr/>
          <p:nvPr/>
        </p:nvGrpSpPr>
        <p:grpSpPr>
          <a:xfrm>
            <a:off x="2216880" y="1591560"/>
            <a:ext cx="772920" cy="3423960"/>
            <a:chOff x="2216880" y="1591560"/>
            <a:chExt cx="772920" cy="3423960"/>
          </a:xfrm>
        </p:grpSpPr>
        <p:grpSp>
          <p:nvGrpSpPr>
            <p:cNvPr id="166" name="Group 13"/>
            <p:cNvGrpSpPr/>
            <p:nvPr/>
          </p:nvGrpSpPr>
          <p:grpSpPr>
            <a:xfrm>
              <a:off x="2216880" y="1591560"/>
              <a:ext cx="442800" cy="3358440"/>
              <a:chOff x="2216880" y="1591560"/>
              <a:chExt cx="442800" cy="3358440"/>
            </a:xfrm>
          </p:grpSpPr>
          <p:sp>
            <p:nvSpPr>
              <p:cNvPr id="167" name="AutoShape 14"/>
              <p:cNvSpPr/>
              <p:nvPr/>
            </p:nvSpPr>
            <p:spPr>
              <a:xfrm rot="16485600">
                <a:off x="1599840" y="3949560"/>
                <a:ext cx="1676520" cy="30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11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15"/>
              <p:cNvSpPr/>
              <p:nvPr/>
            </p:nvSpPr>
            <p:spPr>
              <a:xfrm rot="15949200">
                <a:off x="1599840" y="2286000"/>
                <a:ext cx="1676520" cy="30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65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6"/>
              <p:cNvSpPr/>
              <p:nvPr/>
            </p:nvSpPr>
            <p:spPr>
              <a:xfrm rot="16200000">
                <a:off x="2260440" y="3187440"/>
                <a:ext cx="457200" cy="152640"/>
              </a:xfrm>
              <a:prstGeom prst="rect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7"/>
            <p:cNvGrpSpPr/>
            <p:nvPr/>
          </p:nvGrpSpPr>
          <p:grpSpPr>
            <a:xfrm>
              <a:off x="2496600" y="2044800"/>
              <a:ext cx="493200" cy="2970720"/>
              <a:chOff x="2496600" y="2044800"/>
              <a:chExt cx="493200" cy="2970720"/>
            </a:xfrm>
          </p:grpSpPr>
          <p:sp>
            <p:nvSpPr>
              <p:cNvPr id="171" name="AutoShape 18"/>
              <p:cNvSpPr/>
              <p:nvPr/>
            </p:nvSpPr>
            <p:spPr>
              <a:xfrm rot="15807600">
                <a:off x="1905120" y="4012920"/>
                <a:ext cx="1676160" cy="30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90059"/>
                  </a:gs>
                  <a:gs pos="50000">
                    <a:srgbClr val="ff00ff"/>
                  </a:gs>
                  <a:gs pos="100000">
                    <a:srgbClr val="590059"/>
                  </a:gs>
                </a:gsLst>
                <a:lin ang="1119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19"/>
              <p:cNvSpPr/>
              <p:nvPr/>
            </p:nvSpPr>
            <p:spPr>
              <a:xfrm rot="16521000">
                <a:off x="2076120" y="2551320"/>
                <a:ext cx="1295280" cy="30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90059"/>
                  </a:gs>
                  <a:gs pos="50000">
                    <a:srgbClr val="ff00ff"/>
                  </a:gs>
                  <a:gs pos="100000">
                    <a:srgbClr val="590059"/>
                  </a:gs>
                </a:gsLst>
                <a:lin ang="1048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20"/>
              <p:cNvSpPr/>
              <p:nvPr/>
            </p:nvSpPr>
            <p:spPr>
              <a:xfrm rot="16200000">
                <a:off x="2450880" y="3263760"/>
                <a:ext cx="457200" cy="1522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AutoShape 21"/>
          <p:cNvSpPr/>
          <p:nvPr/>
        </p:nvSpPr>
        <p:spPr>
          <a:xfrm rot="16200000">
            <a:off x="2489040" y="1752120"/>
            <a:ext cx="609480" cy="30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90059"/>
              </a:gs>
              <a:gs pos="50000">
                <a:srgbClr val="ff00ff"/>
              </a:gs>
              <a:gs pos="100000">
                <a:srgbClr val="59005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2209680" y="76320"/>
            <a:ext cx="47246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Crossing 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3"/>
          <p:cNvSpPr/>
          <p:nvPr/>
        </p:nvSpPr>
        <p:spPr>
          <a:xfrm>
            <a:off x="2293920" y="5143680"/>
            <a:ext cx="5014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ombinant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صبغيات مختلط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24"/>
          <p:cNvGrpSpPr/>
          <p:nvPr/>
        </p:nvGrpSpPr>
        <p:grpSpPr>
          <a:xfrm>
            <a:off x="609480" y="838080"/>
            <a:ext cx="1981440" cy="762120"/>
            <a:chOff x="609480" y="838080"/>
            <a:chExt cx="1981440" cy="762120"/>
          </a:xfrm>
        </p:grpSpPr>
        <p:sp>
          <p:nvSpPr>
            <p:cNvPr id="178" name="Text Box 25"/>
            <p:cNvSpPr/>
            <p:nvPr/>
          </p:nvSpPr>
          <p:spPr>
            <a:xfrm>
              <a:off x="609480" y="8380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Chias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6"/>
            <p:cNvSpPr/>
            <p:nvPr/>
          </p:nvSpPr>
          <p:spPr>
            <a:xfrm>
              <a:off x="1981080" y="1066680"/>
              <a:ext cx="609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27"/>
          <p:cNvSpPr/>
          <p:nvPr/>
        </p:nvSpPr>
        <p:spPr>
          <a:xfrm>
            <a:off x="76320" y="638496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g. 13.10, Page 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8333 0 E">
                                      <p:cBhvr>
                                        <p:cTn id="22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8333 0 E">
                                      <p:cBhvr>
                                        <p:cTn id="22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333 1.51993E-006 L -0.01667 1.51993E-006 E">
                                      <p:cBhvr>
                                        <p:cTn id="23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1112 L 0.36667 0.00741 E">
                                      <p:cBhvr>
                                        <p:cTn id="238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6DEA-B98A-43E0-B628-07A08A6A4E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09680" y="76320"/>
            <a:ext cx="47246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Crossing 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848720" y="76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57200" y="1087560"/>
            <a:ext cx="83059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curs during prophas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two homologous chromosomes joint together very clos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wo non-sister chromatids of the homologous chromosomes are crossed over at a chiasma point and exchange corresponding se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resulting chromosomes are called “recombinant chromosom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important in genetic variation in sexual lif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6D82-B35D-45E2-A54C-8032508F6A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381880" cy="20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itosis and meiosis have several key 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hromosome number is reduced by half in meiosis, but not in mit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sis produces daughter cells that are genetically identical to the parent and to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iosis produces cells that differ from the parent and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52280" y="2438280"/>
            <a:ext cx="883944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vents, unique to meiosis, occur during the first division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Dur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propha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omologous chromosomes pair up in a proces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ap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r in prophase I, the joined homologous chromosomes are visible as a tet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X-shaped region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hiasm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sections of nonsister chromatids are ex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asmata is the physical manifestation of crossing over, a form of genetic rearran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1818-B263-4FA3-9D94-9579577AEC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28600" y="1228320"/>
            <a:ext cx="8686800" cy="472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fe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an organism is the generation-to-generation sequence of stages in its reproductive hi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starts at the conception of an organism until it produces its own offsp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س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humans, eac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matic ce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ells other than sperm or ovu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has 46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logous chrom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كروموسومات المتماس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rs carry genes that control the same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ary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طرز الكروموسو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 of the 46 chromosomes shows 23 pairs of chromosomes, each pair with the same length, centromere position, and staining pat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ertilization and meiosis alter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عاقبا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sexual lif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ADD3-8BDF-4F54-8D02-47BCCF9EEB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067680" cy="43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A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t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mologous pairs of chromosomes, not individual chromosomes are aligned along the metaphase 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, you would see 23 tetr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A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t is homologous chromosomes, not sister chromatids, that separate and are carried to opposite poles of the cell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r chromatids remain attached at the centromere until anaphase 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cesses during the second meiotic division are virtually identical to those of mit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58E8-F7DD-4BFE-B273-E64F8EB33E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51920" y="75960"/>
            <a:ext cx="891540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sis produces two identical daughter cells, but meiosis produces 4 very different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rcRect l="0" t="0" r="0" b="4484"/>
          <a:stretch/>
        </p:blipFill>
        <p:spPr>
          <a:xfrm>
            <a:off x="152280" y="709560"/>
            <a:ext cx="8915400" cy="57675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8, Page 24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7A76-A18E-462D-AF6A-2ECE325476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rcRect l="0" t="0" r="0" b="6302"/>
          <a:stretch/>
        </p:blipFill>
        <p:spPr>
          <a:xfrm>
            <a:off x="0" y="609480"/>
            <a:ext cx="9144000" cy="48783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8, Page 24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D17A-3AA9-4AC7-B24C-FFBF7EE32D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ryotyp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of an individual’s chrom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e often prepared with lymphocyt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خلايا اللم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0" r="0" b="5966"/>
          <a:stretch/>
        </p:blipFill>
        <p:spPr>
          <a:xfrm>
            <a:off x="0" y="992160"/>
            <a:ext cx="9144000" cy="57135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4222440" y="63388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3, Page 23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7515-C41F-4838-8D6B-E35610D10E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600" y="716040"/>
            <a:ext cx="8610480" cy="28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exception to the rule of homologous chromosomes is found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x chrom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tern of inheritance of these chromosomes determine an individual’s sex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جن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females have a homologous pair of X chromosomes 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males have an X and a Y chromosome 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Y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ther 22 pair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tosom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كروموسومات الذات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3652920"/>
            <a:ext cx="868680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inherit one chromosome of each homologous pair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زواج المتماث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46 chromosomes in a somatic cell can be viewed as two sets of 23,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maternal s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جموعة الأ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aternal se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جموعة الأب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rm cells or ov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am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have only one set of chromosomes - 22 autosomes and an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ell with a single chromosome set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aploi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رد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humans, the haploid number of chromosomes is 23 (n = 2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676520" y="76320"/>
            <a:ext cx="52578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omosomes (sex and autoso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365E-09B7-4929-A13D-CEC51F4EAA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52280" y="520200"/>
            <a:ext cx="8839440" cy="28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aploid sperm reaches and fus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دم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plo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v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ells fuse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gam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زدو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resulting in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ertilized egg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ygo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now has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iplo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زوج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of chromosomes from the maternal and paternal family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zygote and all cells with two sets of chrom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ploid cell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زوج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= 46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52280" y="3522600"/>
            <a:ext cx="883944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n organism develops from a zygote to a sexually mature adult, the zygote’s genes are passes on to all somatic cells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to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metes, which develop in the gonads,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ed by mito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ead, gametes undergo the process of meiosis in which the chromosome number is halv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ختزل للنص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Human sperm or ova have a haploid set of 23 different chromosomes, one from each homologous p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562720" y="3657240"/>
            <a:ext cx="3124080" cy="246852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35F0-A027-4776-A193-FDFF9F0DA7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Ahmed\Desktop\Picture111.jpg"/>
          <p:cNvPicPr/>
          <p:nvPr/>
        </p:nvPicPr>
        <p:blipFill>
          <a:blip r:embed="rId2"/>
          <a:stretch/>
        </p:blipFill>
        <p:spPr>
          <a:xfrm>
            <a:off x="2408400" y="712800"/>
            <a:ext cx="4327200" cy="5432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8E40-A952-4A2B-B692-BBBEC8F6A5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1"/>
          <a:srcRect l="0" t="0" r="54040" b="51124"/>
          <a:stretch/>
        </p:blipFill>
        <p:spPr>
          <a:xfrm>
            <a:off x="914400" y="3352680"/>
            <a:ext cx="2476440" cy="3200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671004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4, Page 23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76320" y="1295280"/>
            <a:ext cx="48765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metes, produced by meiosis, are the only haploid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metes undergo no divisions themselves, but fu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دم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form a diploid                                                 zygote that divides by mitosis to                                                           produce a multicellular org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320" y="151920"/>
            <a:ext cx="9067680" cy="9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tilization restor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عي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pl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زوج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 by combining tw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apl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of chrom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tilization and meiosis alternate in sexual life cyc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Ahmed\Desktop\Picture111.jpg"/>
          <p:cNvPicPr/>
          <p:nvPr/>
        </p:nvPicPr>
        <p:blipFill>
          <a:blip r:embed="rId2"/>
          <a:stretch/>
        </p:blipFill>
        <p:spPr>
          <a:xfrm>
            <a:off x="4572000" y="1143000"/>
            <a:ext cx="432756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95EF-A150-45FC-91E2-6503405A11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600" y="1306080"/>
            <a:ext cx="5486400" cy="49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steps of meiosis resemble steps in mit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preceded by the replication of chrom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in meiosis, chromosomes replicate once followed by two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عاق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 division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result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ur daughter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final daughter cell has only half chromosomes number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aploi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ff"/>
                </a:solidFill>
                <a:latin typeface="Arial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iosis reduces chromosome number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pying the chromosomes once, but dividing tw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e first division (meiosis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) separates homologous chromoso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e second (meiosis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) separates sister chromati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iosis reduces chromosome number from diploid to haploid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uction Divisio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22860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10080" y="609480"/>
            <a:ext cx="3676680" cy="6248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365F-2B36-4CF7-B33F-2A5750FB9C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2- Meiosis Division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duction Division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143000" y="1905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019920" y="19051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B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52280" y="2590920"/>
            <a:ext cx="3962520" cy="142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85328" dir="6993903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- Separate homologous</a:t>
            </a:r>
            <a:br>
              <a:rPr sz="2000"/>
            </a:b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  chromoso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esults in 2 haploid cells with replicated chrom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952880" y="2514600"/>
            <a:ext cx="4038840" cy="176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85328" dir="6993903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- No further replication of</a:t>
            </a:r>
            <a:br>
              <a:rPr sz="2000"/>
            </a:b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 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Occurs in the newly resulting</a:t>
            </a:r>
            <a:br>
              <a:rPr sz="1800"/>
            </a:b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cells from Meiosis 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4 haploid cells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04920" y="480060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occurs mainly in sex gonads to form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Gamet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sperms and 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04920" y="53942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of the resulting cells has half number of chromosomes of the original cell (23 in human). Thus, it 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duction Divis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2133720" y="533520"/>
            <a:ext cx="4952880" cy="1371600"/>
            <a:chOff x="2133720" y="533520"/>
            <a:chExt cx="4952880" cy="1371600"/>
          </a:xfrm>
        </p:grpSpPr>
        <p:sp>
          <p:nvSpPr>
            <p:cNvPr id="104" name="Line 11"/>
            <p:cNvSpPr/>
            <p:nvPr/>
          </p:nvSpPr>
          <p:spPr>
            <a:xfrm>
              <a:off x="4724280" y="533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2"/>
            <p:cNvSpPr/>
            <p:nvPr/>
          </p:nvSpPr>
          <p:spPr>
            <a:xfrm>
              <a:off x="2133720" y="137160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3"/>
            <p:cNvSpPr/>
            <p:nvPr/>
          </p:nvSpPr>
          <p:spPr>
            <a:xfrm>
              <a:off x="2133720" y="13716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4"/>
            <p:cNvSpPr/>
            <p:nvPr/>
          </p:nvSpPr>
          <p:spPr>
            <a:xfrm>
              <a:off x="7086600" y="13716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3505320" y="137160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ccurs in two ste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6:12:15Z</dcterms:created>
  <dc:creator>User</dc:creator>
  <dc:description/>
  <dc:language>en-US</dc:language>
  <cp:lastModifiedBy>Ahmed</cp:lastModifiedBy>
  <dcterms:modified xsi:type="dcterms:W3CDTF">2009-05-08T15:46:57Z</dcterms:modified>
  <cp:revision>9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