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4E0-D514-4E08-A757-2AE4C108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85F-7A45-4D3E-855E-470B53D8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92B-BCD3-4696-B541-F08BE1FF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700-288D-40E0-8606-0C5026D1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D12-AB67-4BBC-943F-8A1C7DAC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2A9-CB18-490A-A31F-0862163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DB9-FBA7-4F32-BB78-7C2ED7A7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DCC-6287-4961-AA64-A73C477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179-F806-4DA5-93E7-B4EE42D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951-87CD-498C-97F8-A8C5F37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CE2-2E74-41E8-AD55-463D2EE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827-F8B2-4BFE-9D23-E6E0ED9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FB2-B6A1-4EAB-A7E5-E18587B4F3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rct=j&amp;q=&amp;esrc=s&amp;frm=1&amp;source=images&amp;cd=&amp;cad=rja&amp;docid=FNFD-pZi39YfnM&amp;tbnid=rfUnNXpyog1TvM:&amp;ved=0CAUQjRw&amp;url=http%3A%2F%2Fwww.fungionline.org.uk%2F7sexual%2F7basidio.html&amp;ei=NzmTUuaOOujL0QXlhIHYBw&amp;psig=AFQjCNEdusoIpXJgjxSZP9I8caEA5yJ0jw&amp;ust=138546622627872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طائفة: الفطريات البازيدية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ass  : Basidiomycetea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994200"/>
            <a:ext cx="7885080" cy="2582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Character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Septated mycel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Production of exogenous basidiosp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 are either septated or non-sept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Examples: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garicu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Mushro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79280" y="1916280"/>
            <a:ext cx="7885080" cy="2013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صائ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مق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تاج جراثيم خارجية بازيدية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ospores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اسيديا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إما تكون مقسمة أو غير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مثلة: فطرة الاجاريكوس (المشروم) أو عيش الغرا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garic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Mush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فطرة عيش الغراب أو المشرو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142920" y="36878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14292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202896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2004840" y="3701880"/>
            <a:ext cx="1764000" cy="22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68560" y="1225440"/>
            <a:ext cx="5075280" cy="5823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خصائص فطر المشرو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تظهر في البداية كالحصير أو كتل من خيوط فطرية تحت ارضية التي تتغذى على المواد العض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فطر ينمو أفضل حول الأشجار المتحللة أو في التربة المخصبة . أنها تنمو برية (بدون زراعة)في الحقول والحدائق، ومجموعة أخرى متنوعة منها يمكن أن تزر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تحت الأرض يبرز لاعلى إلى فوق الارض لتتكون من خيوط متشابكة مدمجة تسمى الجسم الثمري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حامل البوغ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oph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مراحل الاولى الفتية يغطى الجسم الثمري كله بغشاء ومن ثم يتمزق الغشاء بسبب النمو، ويترك بقايا منه في القاعدة من الجسم الثمري يسمى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volv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ومن ثم يصبح  الجسم الثمري متميزإلى سا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k or st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لنسو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رف القلنسوة ملتصق مع الجز العلوي من الساق بواسطة غشاء الذي يتمزق نتيجة للنمو الافقي تاركة بقايا على الساق المعروفة باسم الحلقة او الطو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46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aprophyt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ungus, appearing initially as mats or masses of subterranean septate hyphae which feed on organic ma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hrooms grow best around decayed trees or in fertilizied soils. It grows wild in fields and gardens, an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 variety of it is cultivat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undergrou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celium gives rise to a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vergrou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ody composed of compact interwoven hyphae called 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ruit bod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poropho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young stages the whole fruit body is covered by a membrane which ruptures due to growth , leaving a remnant of it at the base of the fruit body calle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volv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The fruit body then becomes differentiated into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al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i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im of the pileus is attached to the upper part of the stalk by a membrane which ruptures, due to the horizontal growth of pileus, leaving a remnant on the stalk known a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nul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7072200" y="38577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528624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707220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5286240" y="3857760"/>
            <a:ext cx="176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3480" y="549360"/>
            <a:ext cx="4969080" cy="41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fungionline.org.uk/images/7sexual/hymen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06800" y="981000"/>
            <a:ext cx="37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3571920" y="500040"/>
            <a:ext cx="2786040" cy="5643720"/>
            <a:chOff x="3571920" y="500040"/>
            <a:chExt cx="2786040" cy="5643720"/>
          </a:xfrm>
        </p:grpSpPr>
        <p:pic>
          <p:nvPicPr>
            <p:cNvPr id="59" name="Picture 6" descr="C:\Users\DTK\Pictures\mush.jpg"/>
            <p:cNvPicPr/>
            <p:nvPr/>
          </p:nvPicPr>
          <p:blipFill>
            <a:blip r:embed="rId1"/>
            <a:srcRect l="16674" t="0" r="0" b="0"/>
            <a:stretch/>
          </p:blipFill>
          <p:spPr>
            <a:xfrm>
              <a:off x="3571920" y="3371760"/>
              <a:ext cx="27860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C:\Users\DTK\Pictures\fruiting body before it has opened up.jpg"/>
            <p:cNvPicPr/>
            <p:nvPr/>
          </p:nvPicPr>
          <p:blipFill>
            <a:blip r:embed="rId2"/>
            <a:stretch/>
          </p:blipFill>
          <p:spPr>
            <a:xfrm>
              <a:off x="3571920" y="500040"/>
              <a:ext cx="2786040" cy="28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parajita"/>
                <a:cs typeface="Aparajita"/>
              </a:rPr>
              <a:t>الأهمية الاقتصادية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50920" y="1341360"/>
            <a:ext cx="874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أهمية الاقتصادية لأفراد فطرالأجاريكاليس تتمثل بالنقاط التال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ها صالح للأكل قبل الانسان بسبب النكهة و الطعم الطيب وهي قيمة المحتوى من البروتين والفيتام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تطورت صناعة زراعة الفطر في العديد من بلدان العالم كالولايات المتحدة وفرنس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وبعض الافراد الاخرى من هذه الرتبة سامة جدا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عضها طفيلية على النباتات الراقية . أنها تسبب أمراضاً مثل تعفن الجذور لشجرة التفاح تدمير الخشب للعديد من أشجار الغابات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نواع المشروم (فطريات الهلوسة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allucinogenic mushrooms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تستخدم تجريبيا في الطب كوسيلة مساعدة للعلاج النفسي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تستخدم مادة تسمى سيلوسيبين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psilocybin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مستخرجة من هذه الفطر، في دراسة الأنفص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The economic importance of members of agaricales is revealed by the following poin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of them are edible by human due to their nice flavor, taste and valuable content of protein and vitam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Mushroom-growing industry has developed in many countries of the world as the United States and Franc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Other members are very poisonou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are parasitic on higher plants. They cause diseases such as root rot of apple and wood destruction of many forest tre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mushrooms (hallucinogenic mushrooms) are being used experimentally in medicine as an aid to psychotherap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A substance called psilocybin, extracted from such mushrooms, is being used in the study of schizophren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3:56:06Z</dcterms:created>
  <dc:creator>DTK</dc:creator>
  <dc:description/>
  <dc:language>en-US</dc:language>
  <cp:lastModifiedBy>كلية العلوم</cp:lastModifiedBy>
  <dcterms:modified xsi:type="dcterms:W3CDTF">2013-11-25T12:32:23Z</dcterms:modified>
  <cp:revision>18</cp:revision>
  <dc:subject/>
  <dc:title>Class  : Basidiomyceteae Club fungi (that produce spores on basidia )</dc:title>
</cp:coreProperties>
</file>