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9.png" ContentType="image/pn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CE770-0D9E-4C18-9D41-43BFC68432A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E37A7-831A-43EC-893C-8040D8662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Fig. 20.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9CA92-F8B9-4094-8E9D-548A5B1BC5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Fig. 20.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2B06-A9AE-4760-BD43-006AE71A1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E25C-9772-4D72-843D-1694C46BE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B4F2-024F-42FC-9C84-96391938D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CAA0-B175-4A58-BDBD-2AA662D31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F202C-7ABE-4CA8-837C-D658851C0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5C4CE-0DC6-4DFA-9FE4-0D0E4E283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768F0-0DA7-4269-A15C-9CF6AF796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5B01E-690F-4B59-A41C-10A8FD59F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97FEF-FC3F-48D6-A62D-DB149305B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D825A-7541-46AA-BC1B-3E326CD6B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F71B4-5FFD-4943-B871-CE869C33A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FD81-7B5F-4415-BE49-BE9747512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BCA11-3B74-4F73-A064-5B156E6D8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3BA4A-B698-468A-A306-0100EBFD9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F7A1B-B603-4B26-972E-B3399C651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D3AD7-5E40-4A1C-8FCB-4C439F16B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445EE-06EE-4728-959D-EF5F7A201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5C8AF-9147-4FE3-A04C-AFA81DED8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2FCC4-D924-478A-BB7E-5A119DBA6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B8C68-329D-4A9C-94FF-276FA18EE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B723E-5A90-4A10-8446-1C71CFDA2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B0196-B9CD-4E97-936E-09BE509B0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C50A-C889-4F1D-BE99-3A0B5ED90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78B12-4E7A-48CC-9F61-D9236C61B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F8EFF-6378-40D3-8930-0F3AF6B0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6ED88-2C48-48AC-917E-E5BBCB18F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E87BA-E33E-4707-AB52-0749F99E3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FE331-13B0-410A-B1A9-53A6192DA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E2C0E-1700-41F3-9BF6-90FBAC28A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09220-CF43-4A15-BA58-B7F84D2A6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C9BC3-CC47-4879-8BE5-B23847E7A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58AD2-51BD-4C3C-92A0-6F0D8AE47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55489-4014-4CDB-BD21-BACD2E28F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5912-4004-42E1-9194-E66111CD1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DB02C-092A-4429-9288-D32911EEC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BCAA5-7931-4CF8-9B94-0BBBCD043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A92A1-C621-477A-B649-41685FCAC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EE9B3-50AD-45FC-BBE1-ECE1EDFA3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A5D48-8172-4B66-ABCC-5C549E3FE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132E4-3AFD-4484-96A7-939F565E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3B54B-A78D-4504-AC58-C190AA8D8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04E08-8A92-4B8D-9D7B-5FB71754E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A9AE6-87F4-4D16-9212-EDD8B5F9E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B9A2-7678-4A5B-82CA-7CA5BD805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E48B-BEA3-492F-B7E9-B306EA527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6787-2459-4191-A228-86F45842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4351-4030-4A00-AE6A-880BC80E3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4BB8-1BB3-4623-AF04-2DD655AA1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DDAD1-C3F1-43E5-B92A-B83EDB4F446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B61DA-608B-449C-8A8B-2F3DFAF15503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69020-85D8-4988-AE76-FFC657AEFB46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7CD19-F5FC-4352-835C-3EA1211879A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600" y="1063440"/>
            <a:ext cx="876312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alibri"/>
              </a:rPr>
              <a:t>Phy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lum: Arthropod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42920" y="1793880"/>
            <a:ext cx="8686800" cy="48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rthropods are segmented coelomates with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exoskeleton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jointed appendag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is phylum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is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represented in nearly all habitats in the biospher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rthropods are regarded as the most successful animal phylum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diversity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Arial"/>
              </a:rPr>
              <a:t>التنوع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nd success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Arial"/>
              </a:rPr>
              <a:t>والنجتح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of arthropods is largely due to three feature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- body segmentation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Arial"/>
              </a:rPr>
              <a:t>تعقل الجسم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         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- a hard exoskeleton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Arial"/>
              </a:rPr>
              <a:t>جليج خارجي صلب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         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- and jointed appendages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Arial"/>
              </a:rPr>
              <a:t>زوائد مفصلي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Line 5"/>
          <p:cNvSpPr/>
          <p:nvPr/>
        </p:nvSpPr>
        <p:spPr>
          <a:xfrm>
            <a:off x="142920" y="7858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1611360" y="142920"/>
            <a:ext cx="6032520" cy="5619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Lecture 17: Animal Class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20_14"/>
          <p:cNvPicPr/>
          <p:nvPr/>
        </p:nvPicPr>
        <p:blipFill>
          <a:blip r:embed="rId1"/>
          <a:stretch/>
        </p:blipFill>
        <p:spPr>
          <a:xfrm>
            <a:off x="47520" y="1463760"/>
            <a:ext cx="905040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28760" y="99828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000"/>
                </a:solidFill>
                <a:latin typeface="Calibri"/>
              </a:rPr>
              <a:t>3 Kinds of Insect Metamorphosi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metabolous Metamorphosis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– only difference between larvae and adult are size; both are wingless. Silverfish, Order Thysanur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fter Flight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Hemimetabolous Metamorphosis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– develop from egg to adult has several stages (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instar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) with smaller versions of adults called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nymph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  Immature nymphs have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no wings or genitalia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ntil adul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5"/>
          <p:cNvSpPr/>
          <p:nvPr/>
        </p:nvSpPr>
        <p:spPr>
          <a:xfrm>
            <a:off x="1817280" y="685800"/>
            <a:ext cx="647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complete or Hemimetabolous Metamorpho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Picture 7" descr="15-10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44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380880" y="1214280"/>
            <a:ext cx="83822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Holometabolous Metamorphosis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– after hatching from egg, immatures are called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larva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(very different body form than adult).  After several instars, the last larval molt forms a pupa – undergoes radical body form chang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otective case may enclose pupal stag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Moths  use silk to make a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Constantia"/>
              </a:rPr>
              <a:t>cocoon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Butterflies  use the larval exoskeleton to make a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Constantia"/>
              </a:rPr>
              <a:t>chrysalis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dult emerges from case very different in body form –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eclosion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5"/>
          <p:cNvSpPr/>
          <p:nvPr/>
        </p:nvSpPr>
        <p:spPr>
          <a:xfrm>
            <a:off x="1587240" y="609480"/>
            <a:ext cx="618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mplete  or Holometabolous Metamorph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Picture 7" descr="15-11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20_24"/>
          <p:cNvPicPr/>
          <p:nvPr/>
        </p:nvPicPr>
        <p:blipFill>
          <a:blip r:embed="rId1"/>
          <a:srcRect l="0" t="3542" r="0" b="0"/>
          <a:stretch/>
        </p:blipFill>
        <p:spPr>
          <a:xfrm>
            <a:off x="604800" y="285840"/>
            <a:ext cx="7935840" cy="6527880"/>
          </a:xfrm>
          <a:prstGeom prst="rect">
            <a:avLst/>
          </a:prstGeom>
          <a:ln w="0">
            <a:noFill/>
          </a:ln>
        </p:spPr>
      </p:pic>
      <p:sp>
        <p:nvSpPr>
          <p:cNvPr id="247" name="TextBox 3"/>
          <p:cNvSpPr/>
          <p:nvPr/>
        </p:nvSpPr>
        <p:spPr>
          <a:xfrm>
            <a:off x="2971800" y="31240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You Decid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85480" y="1356840"/>
            <a:ext cx="8381880" cy="545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body of an arthropod is completely covered by th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cuticle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an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exoskeleton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constructed from layers of protein and chiti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exoskeleton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of arthropods is strong and relatively impermeable to wate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rthropods have well-developed sense organs, including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eye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for vision,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olfactory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receptors for smell, and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antennae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for touch and smel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rthropods have an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open circulatory system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n which hemolymph fluid is propelled by a heart through short arteries into sinuses (th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hemocoel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) surrounding tissues and organ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rthropods have evolved a variety of specialized organs for gas exchang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228600" y="15228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8640" indent="-458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Times New Roman"/>
              </a:rPr>
              <a:t>Phy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lum: Arthrop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5"/>
          <p:cNvSpPr/>
          <p:nvPr/>
        </p:nvSpPr>
        <p:spPr>
          <a:xfrm>
            <a:off x="142920" y="7858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3"/>
          <p:cNvSpPr/>
          <p:nvPr/>
        </p:nvSpPr>
        <p:spPr>
          <a:xfrm>
            <a:off x="228600" y="928800"/>
            <a:ext cx="370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8640" indent="-458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Phy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um: Arthrop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5"/>
          <p:cNvSpPr/>
          <p:nvPr/>
        </p:nvSpPr>
        <p:spPr>
          <a:xfrm>
            <a:off x="142920" y="7858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027320" y="0"/>
            <a:ext cx="511668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2"/>
          <p:cNvSpPr/>
          <p:nvPr/>
        </p:nvSpPr>
        <p:spPr>
          <a:xfrm>
            <a:off x="214200" y="1649520"/>
            <a:ext cx="3714840" cy="32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y have clawlike feeding appendages,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helicera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rustaceans have jawlike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mandibles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Arial"/>
              </a:rPr>
              <a:t>فكوك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e sensory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antennae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Arial"/>
              </a:rPr>
              <a:t>قرون استشعار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usually a pair of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ompoun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ey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Arial"/>
              </a:rPr>
              <a:t>أعين مركبة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addition to simple ey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thropods have been grouped into the phylum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thropod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"/>
          <p:cNvPicPr/>
          <p:nvPr/>
        </p:nvPicPr>
        <p:blipFill>
          <a:blip r:embed="rId1"/>
          <a:srcRect l="0" t="0" r="50328" b="0"/>
          <a:stretch/>
        </p:blipFill>
        <p:spPr>
          <a:xfrm>
            <a:off x="5643720" y="38160"/>
            <a:ext cx="3381120" cy="42098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4" descr=""/>
          <p:cNvPicPr/>
          <p:nvPr/>
        </p:nvPicPr>
        <p:blipFill>
          <a:blip r:embed="rId2"/>
          <a:stretch/>
        </p:blipFill>
        <p:spPr>
          <a:xfrm>
            <a:off x="5643720" y="4300560"/>
            <a:ext cx="3376440" cy="2313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"/>
          <p:cNvPicPr/>
          <p:nvPr/>
        </p:nvPicPr>
        <p:blipFill>
          <a:blip r:embed="rId3"/>
          <a:srcRect l="0" t="0" r="0" b="3780"/>
          <a:stretch/>
        </p:blipFill>
        <p:spPr>
          <a:xfrm>
            <a:off x="539640" y="3763800"/>
            <a:ext cx="4579920" cy="30229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 txBox="1"/>
          <p:nvPr/>
        </p:nvSpPr>
        <p:spPr>
          <a:xfrm>
            <a:off x="71280" y="115920"/>
            <a:ext cx="5429520" cy="37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Constantia"/>
              </a:rPr>
              <a:t>1-Class Arachnida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Arial"/>
              </a:rPr>
              <a:t>طائفة العنكبيات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se includ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scorpions</a:t>
            </a:r>
            <a:r>
              <a:rPr b="0" lang="ar-SA" sz="1800" spc="-1" strike="noStrike">
                <a:solidFill>
                  <a:srgbClr val="ff0000"/>
                </a:solidFill>
                <a:latin typeface="Constantia"/>
                <a:cs typeface="Arial"/>
              </a:rPr>
              <a:t>العقارب</a:t>
            </a:r>
            <a:r>
              <a:rPr b="0" lang="ar-SA" sz="18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spider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عناكب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ick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قراد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and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mite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حلم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Nearly all ticks are blood-sucking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ماص للدماء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parasites on the body surfaces of most animal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n most spiders, respiration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تنفس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s carried out by book lung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رئة الكتابية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04560" y="682200"/>
            <a:ext cx="8381880" cy="26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nstantia"/>
              </a:rPr>
              <a:t>2-class Insecta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طائفة الحشرات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y live in almost every terrestrial habitat and in fresh water, and flying insects fill the ai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study of insect, (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Entomology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is a vast field with many subspecialties, including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physiology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ecology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and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axonomy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….etc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dd9"/>
                </a:solidFill>
                <a:latin typeface="Constantia"/>
              </a:rPr>
              <a:t>Class Insecta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is divided into about 26 orders.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Picture 4" descr=""/>
          <p:cNvPicPr/>
          <p:nvPr/>
        </p:nvPicPr>
        <p:blipFill>
          <a:blip r:embed="rId1"/>
          <a:stretch/>
        </p:blipFill>
        <p:spPr>
          <a:xfrm>
            <a:off x="3714840" y="3214800"/>
            <a:ext cx="5348160" cy="3517920"/>
          </a:xfrm>
          <a:prstGeom prst="rect">
            <a:avLst/>
          </a:prstGeom>
          <a:ln w="0">
            <a:noFill/>
          </a:ln>
        </p:spPr>
      </p:pic>
      <p:sp>
        <p:nvSpPr>
          <p:cNvPr id="219" name="TextBox 4"/>
          <p:cNvSpPr/>
          <p:nvPr/>
        </p:nvSpPr>
        <p:spPr>
          <a:xfrm>
            <a:off x="428760" y="3575160"/>
            <a:ext cx="2786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y insects have one or two pairs of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in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hat emerge from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rsal side of the thora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62712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The Insec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51920" y="1495080"/>
            <a:ext cx="624852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750,000 + species insects described, but may be 30 million species undescribed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Many adaptations make insects one of the most successful terrestrial animal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xoskeleton for water conserv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racheal System for gas exchang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etamorphosi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ny types of mouth par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ligh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2" name="Picture 14" descr="p:\bruscaircd\photos\ch17\117_17syrphid22.jpg"/>
          <p:cNvPicPr/>
          <p:nvPr/>
        </p:nvPicPr>
        <p:blipFill>
          <a:blip r:embed="rId1"/>
          <a:stretch/>
        </p:blipFill>
        <p:spPr>
          <a:xfrm>
            <a:off x="6172200" y="1371600"/>
            <a:ext cx="2754360" cy="20667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7" descr="p:\bruscaircd\photos\ch17\203_17antlfcttr3.jpg"/>
          <p:cNvPicPr/>
          <p:nvPr/>
        </p:nvPicPr>
        <p:blipFill>
          <a:blip r:embed="rId2"/>
          <a:stretch/>
        </p:blipFill>
        <p:spPr>
          <a:xfrm>
            <a:off x="6248520" y="4038480"/>
            <a:ext cx="26413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4"/>
          <p:cNvSpPr/>
          <p:nvPr/>
        </p:nvSpPr>
        <p:spPr>
          <a:xfrm>
            <a:off x="609480" y="5943600"/>
            <a:ext cx="971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33.3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Group 10"/>
          <p:cNvGrpSpPr/>
          <p:nvPr/>
        </p:nvGrpSpPr>
        <p:grpSpPr>
          <a:xfrm>
            <a:off x="428760" y="189000"/>
            <a:ext cx="8564400" cy="6097680"/>
            <a:chOff x="428760" y="189000"/>
            <a:chExt cx="8564400" cy="6097680"/>
          </a:xfrm>
        </p:grpSpPr>
        <p:pic>
          <p:nvPicPr>
            <p:cNvPr id="226" name="Picture 3" descr=""/>
            <p:cNvPicPr/>
            <p:nvPr/>
          </p:nvPicPr>
          <p:blipFill>
            <a:blip r:embed="rId1"/>
            <a:srcRect l="0" t="0" r="0" b="4318"/>
            <a:stretch/>
          </p:blipFill>
          <p:spPr>
            <a:xfrm>
              <a:off x="428760" y="457200"/>
              <a:ext cx="8564400" cy="582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Text Box 5"/>
            <p:cNvSpPr/>
            <p:nvPr/>
          </p:nvSpPr>
          <p:spPr>
            <a:xfrm>
              <a:off x="3635280" y="19368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رأس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Text Box 6"/>
            <p:cNvSpPr/>
            <p:nvPr/>
          </p:nvSpPr>
          <p:spPr>
            <a:xfrm>
              <a:off x="2556000" y="189000"/>
              <a:ext cx="5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صد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Text Box 7"/>
            <p:cNvSpPr/>
            <p:nvPr/>
          </p:nvSpPr>
          <p:spPr>
            <a:xfrm>
              <a:off x="971640" y="189000"/>
              <a:ext cx="5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بط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Text Box 8"/>
            <p:cNvSpPr/>
            <p:nvPr/>
          </p:nvSpPr>
          <p:spPr>
            <a:xfrm>
              <a:off x="6372360" y="1628640"/>
              <a:ext cx="136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قرون استشعا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Text Box 9"/>
            <p:cNvSpPr/>
            <p:nvPr/>
          </p:nvSpPr>
          <p:spPr>
            <a:xfrm>
              <a:off x="5148360" y="2349360"/>
              <a:ext cx="13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عين مركبة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456840" y="2643120"/>
            <a:ext cx="42670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dified mouthparts have allowed insects to diversify and take advantage of many different food sourc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dify generic structures for various food sourc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3" name="Picture 4" descr="insect_mouthparts"/>
          <p:cNvPicPr/>
          <p:nvPr/>
        </p:nvPicPr>
        <p:blipFill>
          <a:blip r:embed="rId1"/>
          <a:stretch/>
        </p:blipFill>
        <p:spPr>
          <a:xfrm>
            <a:off x="4952880" y="1219320"/>
            <a:ext cx="3810240" cy="4559040"/>
          </a:xfrm>
          <a:prstGeom prst="rect">
            <a:avLst/>
          </a:prstGeom>
          <a:ln w="0">
            <a:noFill/>
          </a:ln>
        </p:spPr>
      </p:pic>
      <p:sp>
        <p:nvSpPr>
          <p:cNvPr id="234" name="TextBox 4"/>
          <p:cNvSpPr/>
          <p:nvPr/>
        </p:nvSpPr>
        <p:spPr>
          <a:xfrm>
            <a:off x="5562720" y="58672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ralized Insect Mouthp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8520" y="988920"/>
            <a:ext cx="565776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Calibri"/>
              </a:rPr>
              <a:t>Specialized Mouthpart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14200" y="1142640"/>
            <a:ext cx="8382240" cy="60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5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internal anatomy of an insect includes several complex organ system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n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complete digestive system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there are regionally specialized organs with discrete function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Metabolic wastes are removed from th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hemolymph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Arial"/>
              </a:rPr>
              <a:t>الدم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y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Malpighian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bules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Arial"/>
              </a:rPr>
              <a:t>أنابيب ملبيجي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outpockets of the digestive trac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Respiration is accomplished by a branched, chitin-lined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racheal system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Arial"/>
              </a:rPr>
              <a:t>الجهاز القصبي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at carries 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from the spiracles directly to the cell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insect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nervous system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consists of a pair of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ventral nerve cords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Arial"/>
              </a:rPr>
              <a:t>حبلين عصبيين بطنيين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with several segmental ganglia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Line 5"/>
          <p:cNvSpPr/>
          <p:nvPr/>
        </p:nvSpPr>
        <p:spPr>
          <a:xfrm>
            <a:off x="142920" y="981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1T01:39:32Z</dcterms:created>
  <dc:creator>Karl Miyajima</dc:creator>
  <dc:description/>
  <dc:language>en-US</dc:language>
  <cp:lastModifiedBy>د أشرف مشالي</cp:lastModifiedBy>
  <cp:lastPrinted>2001-01-06T03:20:03Z</cp:lastPrinted>
  <dcterms:modified xsi:type="dcterms:W3CDTF">2013-09-01T08:54:37Z</dcterms:modified>
  <cp:revision>385</cp:revision>
  <dc:subject/>
  <dc:title>Nerve activates contraction</dc:title>
</cp:coreProperties>
</file>