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697-B59C-47CA-B7FC-5022CACFA68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A9A-91B3-467F-8608-C89527836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6EE-A947-430E-8709-6D48BBA9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902-27E6-4260-9D5F-1D04767D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676-22E8-4EFA-B393-B16A58F4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42F-3391-43B7-B715-049663E3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C79-4ED3-4013-B16F-27B310B8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935B-E59B-469B-B845-EBE1996B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8F0-B155-4080-B2BD-6716CF2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C9E-19F8-4D33-B047-7C57872B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D479-0779-47E9-8C10-41407D1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6272-C1B4-4047-88D9-FCB173C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E997-37E6-4B1E-8744-E58A35B9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2080-98A2-4818-B8DB-E2C4E381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17E-3A62-4C7A-BF79-9B7F848C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B13B-3D66-463A-A4B4-6F1689BB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E733-C336-46FF-B001-81F6C55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A24E-6049-415B-89FB-5DE57EE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0C7F-3C48-429E-A392-2CE53000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A50-6A90-4038-B009-E8E3A889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B684-C25A-45CE-9926-C2A0770B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3116-0C42-4BA3-9502-0C97C135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7079-7D7E-4809-AA51-D61371E4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48DB-95B3-498E-A557-756972E1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178A-9D76-465B-9D0B-A90230E9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795-CEB8-4DD6-B784-DC78588B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3265-A75D-4C7E-8063-5AD988B5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3963-5B55-464F-82A7-CBEF74B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132B-080C-479A-95ED-5600C452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98DB-B7A8-4768-BE38-D2A10A9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2586-33A1-4011-80C8-26E4E314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F7E8-C23F-4941-B9E8-A510AB69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830A-31B8-4B06-95E7-3FABB588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7145-FBA3-4044-A1D8-AF6F8836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CDAC-9E70-4C97-8EA3-6BDB6A89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A281-26BD-4027-AABF-4D3A12A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51B-BAC3-4E26-A354-A72BA7D2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6567-3D8D-4580-8F50-F2BE2A79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0E205-3F76-41AE-8F9D-51F3A14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7328-93C5-4EFB-BDD7-FC81AF79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11CF-DD7B-4AFC-9FC2-85C5BEB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0166-E356-4247-A17F-ECDBF6A8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F4D1-4617-46DB-8616-5DC45727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69CE-7585-4894-9897-5C328229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BF9E-2391-45E5-8197-F0EEA85E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BA0F-B854-45EB-A269-3330532B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2C3-156F-4ABE-9234-C41A4BDB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D96-54E9-4E3F-97FD-F5ECFE7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4C0-C225-495C-9AEE-9CD2C911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D95-49FF-4903-958E-060DE32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B6A-7D5F-4CF0-A43B-82F27E2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CB57-8918-4874-B355-323525B584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02E1-FAB2-4D4E-AC08-6BE7B1669CA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758-4793-4831-AA18-3B913C0E1A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91AA-7629-4565-B6B9-3571C5FC96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3:35Z</dcterms:modified>
  <cp:revision>385</cp:revision>
  <dc:subject/>
  <dc:title>Nerve activates contraction</dc:title>
</cp:coreProperties>
</file>