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CCF0-E3D3-4733-B775-E4EE5C29910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6C34-BD31-41DC-92C8-876F7B2AC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124F-5082-4AD1-B43E-2CD4CE685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Fig. 20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F5EC-C5DB-4511-9FFC-9F073BC6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4409-D661-4574-86D9-91C26C54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324-FBCE-40E2-BD1B-11E9EA37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C510-5E24-441E-B0E2-1EB7D6AD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71A4-82F7-4D46-9CF5-5257246B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172E-0B3B-44CD-A9DD-4F8346CF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FC73-D6F2-4D97-9401-F254960F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68CC-E895-4487-8A0A-66A4B336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829C-FE30-4B64-B4DE-A8D0E1AD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4A8F-10A0-48DB-B1A3-3E9A78AF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8148-C76F-44EE-ABA4-7F375E5B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5F85-6482-4FC6-B101-1855BD10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C38B-1D76-4B70-B728-3FC52833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7D0A-81FA-4034-B8A4-C6985526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1E33-060E-490D-BE14-91F5263B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94D0-95F6-493D-A7B6-D9A9F62E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A5DC-605D-4827-9BF3-FBAD2F05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C6387-AB0A-44F9-A25A-16040BE4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A2CF6-F4BA-440F-9489-99AAFBDB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2F485-26DC-4EB2-8907-FA87E011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285B4-4E9C-424F-89D8-B85917DD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F911E-774E-4226-9C58-F248BDBC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993-3121-4565-AF97-5C81BB6D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70528-22AF-4E47-ABCD-C33890BC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C7CE3-D4C8-4342-A8E3-9A8A3978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8363D-3F3C-44C7-B081-98D97226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3F410-49AF-4F88-9ACF-CE71667F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C4E40-C9C0-4AA9-8136-7ACBD694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05FD2-04A9-4C1D-B8C0-3E0EDE13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B2310-0696-4B43-AA94-83FACD9E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76925-508C-496C-949A-968CB3C6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E5B09-CE4A-4F57-AF95-5BC654C7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BE354-71D4-480E-AD84-A298002C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77E-C8BA-4395-BFDD-EBFB5C6B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F8D8E-25F1-421F-92DF-6EDDCFD0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95590-6123-45AB-AFBF-A8F49C2A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E2ED7-07EF-4234-A9F7-500AAC62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A3650-FEFB-4975-9A6B-8AC35943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43435-83C0-4F88-8168-D2907398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597F3-FEB0-46EC-972C-FBBBA7BE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C2C6F-BF58-4702-A116-7AC8F15A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A18EE-E6FE-404B-B80D-614F000F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A38FD-1CBB-4D18-BB96-4C45714B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27E7-D302-4D91-B670-661DE063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2FE-6A13-4EB9-9F2A-0535668F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7C6-371A-4166-A827-AE2D008D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D67F-0B82-4E5F-BA7D-BEB34319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7EA-2477-4C06-B455-5653BDAB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E5B3-4528-4B1B-8094-CA732E807F8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9324-37EF-4B77-9F76-4A1984743B7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00A2-3F3D-4D1D-A08C-0B9D1DD97BD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7AF5-6E09-4A75-98D0-8B169881010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063440"/>
            <a:ext cx="87631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lum: Arthropo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42920" y="1793880"/>
            <a:ext cx="86868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segmented coelomates wi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jointed append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is phylu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presented in nearly all habitats in the biosphe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are regarded as the most successful animal phyl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versity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التنوع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ucces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والنجتح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arthropods is largely due to three featur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body segmentati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تعقل الجس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 hard exoskeleton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جليج خارجي صل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- and jointed appendages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زوائد مفصل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611360" y="142920"/>
            <a:ext cx="603252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7: Animal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20_14"/>
          <p:cNvPicPr/>
          <p:nvPr/>
        </p:nvPicPr>
        <p:blipFill>
          <a:blip r:embed="rId1"/>
          <a:stretch/>
        </p:blipFill>
        <p:spPr>
          <a:xfrm>
            <a:off x="47520" y="1463760"/>
            <a:ext cx="90504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9982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alibri"/>
              </a:rPr>
              <a:t>3 Kinds of Insect Metamorphos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only difference between larvae and adult are size; both are wingless. Silverfish, Order Thysanu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Flight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emi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develop from egg to adult has several stages (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instar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 with smaller versions of adults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ymph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 Immature nymphs hav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o wings or genitali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til adul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5"/>
          <p:cNvSpPr/>
          <p:nvPr/>
        </p:nvSpPr>
        <p:spPr>
          <a:xfrm>
            <a:off x="1817280" y="685800"/>
            <a:ext cx="64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omplete or Hemimetabolous Metamorph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15-10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0880" y="1214280"/>
            <a:ext cx="8382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olometabolous Metamorphosi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after hatching from egg, immatures are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rva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very different body form than adult).  After several instars, the last larval molt forms a pupa – undergoes radical body form chan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tective case may enclose pupal sta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ths  use silk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ocoon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utterflies  use the larval exoskeleton to make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nstantia"/>
              </a:rPr>
              <a:t>chrysalis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ult emerges from case very different in body form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clos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5"/>
          <p:cNvSpPr/>
          <p:nvPr/>
        </p:nvSpPr>
        <p:spPr>
          <a:xfrm>
            <a:off x="1587240" y="609480"/>
            <a:ext cx="61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te  or Holometabolous Metamorph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7" descr="15-11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20_24"/>
          <p:cNvPicPr/>
          <p:nvPr/>
        </p:nvPicPr>
        <p:blipFill>
          <a:blip r:embed="rId1"/>
          <a:srcRect l="0" t="3542" r="0" b="0"/>
          <a:stretch/>
        </p:blipFill>
        <p:spPr>
          <a:xfrm>
            <a:off x="604800" y="285840"/>
            <a:ext cx="7935840" cy="6527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971800" y="3124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ou Deci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85480" y="1356840"/>
            <a:ext cx="838188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n arthropod is completely covered by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uticl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onstructed from layers of protein and chit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oskelet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of arthropods is strong and relatively impermeable to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well-developed sense organs, including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y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vision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lfactor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receptors for smell,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ntenna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or touch and sm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an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pen circulatory system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which hemolymph fluid is propelled by a heart through short arteries into sinuses (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mocoe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surrounding tissues and org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thropods have evolved a variety of specialized organs for gas exchan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228600" y="928800"/>
            <a:ext cx="37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Phy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um: Arthrop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42920" y="785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27320" y="0"/>
            <a:ext cx="51166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214200" y="1649520"/>
            <a:ext cx="371484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have clawlike feeding appendages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helicera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rustaceans have jawlik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ndibles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فكوك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sensor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ntennae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قرون استشعار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usually a pair of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pou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Arial"/>
              </a:rPr>
              <a:t>أعين مركب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ddition to simple ey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hropods have been grouped into the phylu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rcRect l="0" t="0" r="50328" b="0"/>
          <a:stretch/>
        </p:blipFill>
        <p:spPr>
          <a:xfrm>
            <a:off x="5643720" y="38160"/>
            <a:ext cx="3381120" cy="4209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5643720" y="4300560"/>
            <a:ext cx="3376440" cy="2313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rcRect l="0" t="0" r="0" b="3780"/>
          <a:stretch/>
        </p:blipFill>
        <p:spPr>
          <a:xfrm>
            <a:off x="539640" y="3763800"/>
            <a:ext cx="4579920" cy="3022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71280" y="115920"/>
            <a:ext cx="5429520" cy="37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nstantia"/>
              </a:rPr>
              <a:t>1-Class Arachnid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عنكب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se includ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corpions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cs typeface="Arial"/>
              </a:rPr>
              <a:t>العقارب</a:t>
            </a:r>
            <a:r>
              <a:rPr b="0" lang="ar-SA" sz="18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pi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عناك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ick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اد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it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حل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arly all ticks are blood-suck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اص للدماء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arasites on the body surfaces of most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most spiders, respiratio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نف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arried out by book lung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رئة الكتاب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04560" y="682200"/>
            <a:ext cx="8381880" cy="26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2-class Insec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طائفة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live in almost every terrestrial habitat and in fresh water, and flying insects fill the ai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tudy of insect, 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ntom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vast field with many subspecialties, including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ysi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colog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axonom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….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d9"/>
                </a:solidFill>
                <a:latin typeface="Constantia"/>
              </a:rPr>
              <a:t>Class Insect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divided into about 26 orders.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3714840" y="3214800"/>
            <a:ext cx="5348160" cy="35179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428760" y="3575160"/>
            <a:ext cx="278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insects have one or two pairs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at emerge from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rsal side of the thor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2712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he Inse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1920" y="1495080"/>
            <a:ext cx="62485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750,000 + species insects described, but may be 30 million species undescrib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ny adaptations make insects one of the most successful terrestrial anima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oskeleton for water conserv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cheal System for gas ex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tamorph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types of mouth p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14" descr="p:\bruscaircd\photos\ch17\117_17syrphid22.jpg"/>
          <p:cNvPicPr/>
          <p:nvPr/>
        </p:nvPicPr>
        <p:blipFill>
          <a:blip r:embed="rId1"/>
          <a:stretch/>
        </p:blipFill>
        <p:spPr>
          <a:xfrm>
            <a:off x="6172200" y="1371600"/>
            <a:ext cx="2754360" cy="2066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p:\bruscaircd\photos\ch17\203_17antlfcttr3.jpg"/>
          <p:cNvPicPr/>
          <p:nvPr/>
        </p:nvPicPr>
        <p:blipFill>
          <a:blip r:embed="rId2"/>
          <a:stretch/>
        </p:blipFill>
        <p:spPr>
          <a:xfrm>
            <a:off x="6248520" y="4038480"/>
            <a:ext cx="2641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609480" y="59436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3.3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0"/>
          <p:cNvGrpSpPr/>
          <p:nvPr/>
        </p:nvGrpSpPr>
        <p:grpSpPr>
          <a:xfrm>
            <a:off x="428760" y="189000"/>
            <a:ext cx="8564400" cy="6097680"/>
            <a:chOff x="428760" y="189000"/>
            <a:chExt cx="8564400" cy="6097680"/>
          </a:xfrm>
        </p:grpSpPr>
        <p:pic>
          <p:nvPicPr>
            <p:cNvPr id="226" name="Picture 3" descr=""/>
            <p:cNvPicPr/>
            <p:nvPr/>
          </p:nvPicPr>
          <p:blipFill>
            <a:blip r:embed="rId1"/>
            <a:srcRect l="0" t="0" r="0" b="4318"/>
            <a:stretch/>
          </p:blipFill>
          <p:spPr>
            <a:xfrm>
              <a:off x="428760" y="457200"/>
              <a:ext cx="856440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3635280" y="1936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رأ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255600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صد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7"/>
            <p:cNvSpPr/>
            <p:nvPr/>
          </p:nvSpPr>
          <p:spPr>
            <a:xfrm>
              <a:off x="97164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بط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6372360" y="162864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قرون استشعا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9"/>
            <p:cNvSpPr/>
            <p:nvPr/>
          </p:nvSpPr>
          <p:spPr>
            <a:xfrm>
              <a:off x="5148360" y="23493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عين مرك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6840" y="2643120"/>
            <a:ext cx="4267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ied mouthparts have allowed insects to diversify and take advantage of many different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ify generic structures for various food 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insect_mouthparts"/>
          <p:cNvPicPr/>
          <p:nvPr/>
        </p:nvPicPr>
        <p:blipFill>
          <a:blip r:embed="rId1"/>
          <a:stretch/>
        </p:blipFill>
        <p:spPr>
          <a:xfrm>
            <a:off x="4952880" y="1219320"/>
            <a:ext cx="3810240" cy="4559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5562720" y="5867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ized Insect Mouth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8520" y="988920"/>
            <a:ext cx="56577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Specialized Mouthpart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14200" y="1142640"/>
            <a:ext cx="8382240" cy="60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internal anatomy of an insect includes several complex organ syst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omplete digestive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there are regionally specialized organs with discrete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abolic wastes are removed from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molymph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دم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alpighia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bul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أنابيب ملبيج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outpockets of the digestive trac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spiration is accomplished by a branched, chitin-lin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racheal system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الجهاز القصبي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arries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spiracles directly to the cel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sect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rvous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onsists of a pair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ventral nerve cord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حبلين عصبيين بطنيين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ith several segmental ganglia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14292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User</cp:lastModifiedBy>
  <cp:lastPrinted>2001-01-06T03:20:03Z</cp:lastPrinted>
  <dcterms:modified xsi:type="dcterms:W3CDTF">2015-03-11T03:33:35Z</dcterms:modified>
  <cp:revision>385</cp:revision>
  <dc:subject/>
  <dc:title>Nerve activates contraction</dc:title>
</cp:coreProperties>
</file>